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7.jpeg" ContentType="image/jpeg"/>
  <Override PartName="/ppt/media/image29.jpeg" ContentType="image/jpeg"/>
  <Override PartName="/ppt/media/image33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5"/>
          </p:nvPr>
        </p:nvSpPr>
        <p:spPr>
          <a:xfrm>
            <a:off x="388260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6"/>
          </p:nvPr>
        </p:nvSpPr>
        <p:spPr>
          <a:xfrm>
            <a:off x="-36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7"/>
          </p:nvPr>
        </p:nvSpPr>
        <p:spPr>
          <a:xfrm>
            <a:off x="388260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0909A94-A3C4-42A5-AB45-7F101BEB2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2960" y="862812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70AA9EF-DB58-49D8-83BD-E674849FE0B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22DA-2A6A-4957-8191-29E664E2B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A252-CB97-44D3-B9C3-4B64E47E4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DFB7-3A1E-45CD-8B7B-83DDA0438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9728-CC27-4484-80C7-B5A8FF174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CAF18-2D4D-41DB-AA22-7A85E1EC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08E18-E17B-46EA-A72D-91B11C5B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455B5-E5B0-4A3E-81EF-7268594D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275AD-B3C5-4DC3-AA34-D612E38F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58A2E-CDF7-4F51-B963-729E5A8D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382FB-D38D-44A9-8EBE-DFD79D9C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7F7C3-86F8-4CF4-9010-E2861946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8391-FE71-42BB-8884-879C360CD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868F5-40BB-4DE0-A96D-AF0932E3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1C88C-9AD0-4DAA-83D6-DAE25629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5F94A-4918-4E11-9CE1-7D312B9F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E51FA-D03B-48C1-97DF-F97C0740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F2ABB-6E33-4E8E-8B0A-F0E622BC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4DD14-F162-4976-99E2-92287F82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72324-3025-485B-BF82-86754891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B3F6D-8F3F-4241-BA9B-D80B46F4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4A366-DD75-4CC9-AE9D-6E2CDA38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4C41D-73D4-48C4-9E63-4E8D752B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0E5A-4CF2-4E1F-B0D2-9E8C77E602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F2ADE-7844-4B23-838C-F08210ED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5B803-25D6-4E59-9346-B2F98170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C7F03-37DD-44C6-92BB-864EC3D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4BC5B-B751-4114-8110-D47A7794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34CDA-F64F-4D48-8D2A-6D057A7A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929A0-9D06-4DB0-8F5B-D2B094F4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0D2B1-7E74-4A0D-8F4A-734E63DB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DB65E-9AFE-4E98-B08B-A0723262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93D08-73F2-4779-A5A4-C0F9B51E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4DC9F-CAFB-47E6-9F4E-91CDF8B8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E9FA-3A9D-4BE5-B0A0-CF0F8F4239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BAFBE-AA18-43E7-A09A-9182B8A4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63CF9-7889-46BC-B879-DCEFD4AD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24E16-1807-4C29-A336-56D37567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139EB-5C3E-4239-B2FF-0A7B369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6231A-DC54-4583-9152-6C533893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08CE0-B0B2-442E-A081-45CECD9C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3E3EA-C7E6-42D9-9825-AFD746FF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105FC-FEF6-4FD9-98C2-D221D47B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E1741-B0BC-4DE9-888B-5F10B63A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702CE-DFEF-4F27-B0CF-02D74CD3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B6F7-6CAF-4E8D-84BC-96D0FD70C8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E4080-B8A8-41BB-85F0-D8B3B643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3B3A7-14C3-4F3A-9859-3240F353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CB6BC-2956-46D7-B89E-6B59C618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03D57-A534-4CAC-887E-40062673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ECF7D-CCF9-4E1E-AB07-562BE535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E5F79-0F6D-42FB-90B5-0DCDE497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4C228-CC01-4B10-B99D-659FC65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22D72-D5BF-443C-B75E-32E346A3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72EBE-7A64-4487-AD50-F3BD13B8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9AA98-BCD7-4BC6-B304-76C306BD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CAB2-A4BF-45FA-A08C-D733AAC5FAF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06B57-A6DB-4241-B465-0A7F954A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E78A-BA08-4415-AF6A-9F365D31C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3AEF-DCFC-4C6E-B3A1-48CE0120F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7238-4EAE-4129-AC7D-DA4577B01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8BF5-2065-493F-A474-33E605273D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EOC Bar verso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fingerprint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4CD9-62D6-43BE-87C3-B16BAAC322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105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7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Kendall/Hunt Publishing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361B-1DCC-4568-92D6-EEFAAA728D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155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0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Kendall/Hunt Publishing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109F-138A-4819-A9AD-5E69D6F758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0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0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205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3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Kendall/Hunt Publishing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8CE9-B074-4015-9DC1-4DAB429056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53200" y="90720"/>
            <a:ext cx="73612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hapter 13: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Human Remains</a:t>
            </a:r>
            <a:endParaRPr b="1" lang="en-US" sz="40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re is a brief but very informative biography of an individual contained within the skeleton, if you know how to read it…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yde Snow, Forensic Anthropolog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1343160" y="99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6" descr="2"/>
          <p:cNvPicPr/>
          <p:nvPr/>
        </p:nvPicPr>
        <p:blipFill>
          <a:blip r:embed="rId1"/>
          <a:stretch/>
        </p:blipFill>
        <p:spPr>
          <a:xfrm>
            <a:off x="4876920" y="914400"/>
            <a:ext cx="3228840" cy="3772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6FF1-81F9-49B9-9BBC-740332750B7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Forensic Anthropology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thropolog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the scientific study of all aspects of human development and inter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ysical anthropolog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studies human dif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orensic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thropolog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studies these identifying characteristics on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ains of an 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F6EB-62D7-40F5-B43F-A85B73512D8C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666880" y="53352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orensic Anthropolog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914400" y="228600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26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forensic anthropologist may provide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basic identification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formation of skeletonized or badly decomposed remain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26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rom a whole bone or part of a bone, the scientist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may be able to determine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 age r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3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3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roximate he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3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use of death, disease, or anomal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601"/>
              </a:spcBef>
              <a:buClr>
                <a:srgbClr val="003366"/>
              </a:buClr>
              <a:buSzPct val="65000"/>
              <a:buFont typeface="Wingdings 2" charset="2"/>
              <a:buChar char="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4999-91F4-4484-984F-C6970B55C81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96040" y="1124640"/>
            <a:ext cx="5446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istorical Developmen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7720" y="34286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80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scientists begin studying skull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897—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usage maker’s wife murdered; bone fragments found in his fac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3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the FBI opens the first crime la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ithsonian Institution partners with FB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Picture 4" descr="Ch 13 Skull2ab"/>
          <p:cNvPicPr/>
          <p:nvPr/>
        </p:nvPicPr>
        <p:blipFill>
          <a:blip r:embed="rId1"/>
          <a:stretch/>
        </p:blipFill>
        <p:spPr>
          <a:xfrm>
            <a:off x="1447920" y="1981080"/>
            <a:ext cx="106020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282E-3EF8-45B3-8C59-CE00B5F47BC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72360" y="896040"/>
            <a:ext cx="5446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istorical Developmen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7720" y="34286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39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William Krogman publishe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Guide to the Identification of Human Skeletal Mate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ldi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killed in World War II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fi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ing anthropologic techn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N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new tool to analyze skelet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7" name="Picture 4" descr="Ch 13 Skull2ab"/>
          <p:cNvPicPr/>
          <p:nvPr/>
        </p:nvPicPr>
        <p:blipFill>
          <a:blip r:embed="rId1"/>
          <a:stretch/>
        </p:blipFill>
        <p:spPr>
          <a:xfrm>
            <a:off x="1447920" y="1981080"/>
            <a:ext cx="106020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CB96-27A2-4120-A2B8-46F0FFA61352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171960" y="1571760"/>
            <a:ext cx="531396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4400"/>
            </a:br>
            <a:endParaRPr b="1" lang="en-US" sz="2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y of b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06 bon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 adult hu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ction of bon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ovides structure and rigidi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tects soft tissue and org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s as an attachment for mus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oduces blood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s as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ora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a for miner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toxif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body by removing heavy metals and other foreign elements from the bl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5095800" y="13050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Regular Pattern)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Chaotic Patter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990720" y="4762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steology</a:t>
            </a:r>
            <a:br>
              <a:rPr sz="1800"/>
            </a:b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steon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holes in bones to carry blood supply: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nima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v. Human</a:t>
            </a:r>
            <a:br>
              <a:rPr sz="14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7656-1EA7-4413-88EF-9BCD1100A31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haracteristics of Bon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ne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arro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creates blood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mones affect the amount of calcium in the blood and b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8" name="Picture 4" descr="45866_f1302"/>
          <p:cNvPicPr/>
          <p:nvPr/>
        </p:nvPicPr>
        <p:blipFill>
          <a:blip r:embed="rId1"/>
          <a:stretch/>
        </p:blipFill>
        <p:spPr>
          <a:xfrm>
            <a:off x="6804000" y="2362320"/>
            <a:ext cx="15778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32F8-9C6B-4C9E-B393-5E5386680C2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identifying marks on b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3" name="Picture 4" descr="45866_f1302"/>
          <p:cNvPicPr/>
          <p:nvPr/>
        </p:nvPicPr>
        <p:blipFill>
          <a:blip r:embed="rId1"/>
          <a:stretch/>
        </p:blipFill>
        <p:spPr>
          <a:xfrm>
            <a:off x="6804000" y="2362320"/>
            <a:ext cx="15778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4EC1-2E4F-454E-B317-845A5391B1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95680" y="1124640"/>
            <a:ext cx="65134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Development of Bon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steoblast cel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where bones origin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ssific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when osteoblast cells migrate to the center of cartilage production and deposit miner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fe cyc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bone is deposited, breaks down, and replac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steoclas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the 2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ype of bone cell, specialized to dissolve b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F2BB-3CC1-46BB-BD6F-B0D4CE30AD7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95680" y="1124640"/>
            <a:ext cx="65134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Development of Bon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steoclas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the 2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ype of bone cel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ized to dissolve bon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bones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shap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s they gro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lance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lci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evels in bl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mov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ular wastes and debris from b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steoporosi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a deficiency of calcium in the b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7766-0F86-4D44-B93A-E8BA9A65E9A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Bones Connec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3810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rtil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wraps the ends of bones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prevents scrap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6" descr="45866_f1304"/>
          <p:cNvPicPr/>
          <p:nvPr/>
        </p:nvPicPr>
        <p:blipFill>
          <a:blip r:embed="rId1"/>
          <a:stretch/>
        </p:blipFill>
        <p:spPr>
          <a:xfrm>
            <a:off x="4952880" y="2390760"/>
            <a:ext cx="373392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FA45-09D6-4279-B8B3-A19359DCC7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9520" y="915120"/>
            <a:ext cx="70840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0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762120" y="2666880"/>
            <a:ext cx="8076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male and female skeletal remai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3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12,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50CA-6963-41FE-9B93-C3812DDA7E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Bones Connec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game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an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n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wo or more bones toge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1" name="Picture 5" descr="45866_f1305"/>
          <p:cNvPicPr/>
          <p:nvPr/>
        </p:nvPicPr>
        <p:blipFill>
          <a:blip r:embed="rId1"/>
          <a:stretch/>
        </p:blipFill>
        <p:spPr>
          <a:xfrm>
            <a:off x="3886200" y="2971800"/>
            <a:ext cx="472428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81BE-40E1-45B3-BDC6-65FFC0C6FE1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Bones Connect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nd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connect muscle to b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6" name="Picture 5" descr="45866_f1306"/>
          <p:cNvPicPr/>
          <p:nvPr/>
        </p:nvPicPr>
        <p:blipFill>
          <a:blip r:embed="rId1"/>
          <a:stretch/>
        </p:blipFill>
        <p:spPr>
          <a:xfrm>
            <a:off x="5029200" y="2514600"/>
            <a:ext cx="31892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0948-000C-4465-8C08-689A5E2A6ED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61760" y="2437920"/>
            <a:ext cx="7769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we tell the age of a human from their b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8E57-159C-4DF1-893B-95817544AE2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Aging of Bon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761760" y="2437920"/>
            <a:ext cx="7769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 of age—bone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crea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siz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 30—process rever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rci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terio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FBED-46E2-453B-831D-C1885F22D74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05400" y="981720"/>
            <a:ext cx="664668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What Bones Can Tell U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37720" y="2514240"/>
            <a:ext cx="76964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steobiograph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bone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tain a recor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the physical lif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zing bones reveals clues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height, and heal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a right-handed person, right arm bones might b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lightly larger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an the bones of the left a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-rays may identify prior fractures, pins, artificial j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919B-5743-4240-8122-4807E5CD7B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ender—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kull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14600" y="2743200"/>
          <a:ext cx="4343400" cy="2438280"/>
        </p:xfrm>
        <a:graphic>
          <a:graphicData uri="http://schemas.openxmlformats.org/drawingml/2006/table">
            <a:tbl>
              <a:tblPr/>
              <a:tblGrid>
                <a:gridCol w="1523880"/>
                <a:gridCol w="1320840"/>
                <a:gridCol w="149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le Characteristic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i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male Characteristic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e squar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pe of ey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e round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e squar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ndible shape from undersid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re V-shap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ick and larg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pper brow ridg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in and small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39" descr="45866_f1311a"/>
          <p:cNvPicPr/>
          <p:nvPr/>
        </p:nvPicPr>
        <p:blipFill>
          <a:blip r:embed="rId1"/>
          <a:stretch/>
        </p:blipFill>
        <p:spPr>
          <a:xfrm>
            <a:off x="1066680" y="3124080"/>
            <a:ext cx="1298520" cy="1828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7" descr="45866_f1311b"/>
          <p:cNvPicPr/>
          <p:nvPr/>
        </p:nvPicPr>
        <p:blipFill>
          <a:blip r:embed="rId2"/>
          <a:stretch/>
        </p:blipFill>
        <p:spPr>
          <a:xfrm>
            <a:off x="7086600" y="3048120"/>
            <a:ext cx="1206360" cy="18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F8D7-0C5E-48EF-A7AC-C14E3F5D22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ender—Skull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514600" y="2514600"/>
          <a:ext cx="4343400" cy="3218040"/>
        </p:xfrm>
        <a:graphic>
          <a:graphicData uri="http://schemas.openxmlformats.org/drawingml/2006/table">
            <a:tbl>
              <a:tblPr/>
              <a:tblGrid>
                <a:gridCol w="1523880"/>
                <a:gridCol w="1320840"/>
                <a:gridCol w="1498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le Characteristic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i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male Characteristic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ccipital protuberan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sen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 and slop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rontal bon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igher and more round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ugh and bump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rface of skul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oot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aigh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mus of mandibl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lant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ugh and bump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chal cres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oot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Picture 46" descr="45866_f1311c"/>
          <p:cNvPicPr/>
          <p:nvPr/>
        </p:nvPicPr>
        <p:blipFill>
          <a:blip r:embed="rId1"/>
          <a:stretch/>
        </p:blipFill>
        <p:spPr>
          <a:xfrm>
            <a:off x="838080" y="3352680"/>
            <a:ext cx="1462320" cy="1368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7" descr="45866_f1311d"/>
          <p:cNvPicPr/>
          <p:nvPr/>
        </p:nvPicPr>
        <p:blipFill>
          <a:blip r:embed="rId2"/>
          <a:stretch/>
        </p:blipFill>
        <p:spPr>
          <a:xfrm>
            <a:off x="7086600" y="3276720"/>
            <a:ext cx="13795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12A2-2B6B-411F-89DA-FBA6D1F13B4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90640" y="1119240"/>
            <a:ext cx="659988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ender—Skull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838080" y="3733920"/>
            <a:ext cx="7925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the female skull smoother than the male’s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frontal bone is lower and sloping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the male’s eye orbits more circular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jaw is more square, with an angle that is closer to 90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5" name="Picture 4" descr="Ch 13 SkullMaleSide01b"/>
          <p:cNvPicPr/>
          <p:nvPr/>
        </p:nvPicPr>
        <p:blipFill>
          <a:blip r:embed="rId1"/>
          <a:stretch/>
        </p:blipFill>
        <p:spPr>
          <a:xfrm>
            <a:off x="4675320" y="2286000"/>
            <a:ext cx="11919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Ch 13 SkulFemaleSide01b"/>
          <p:cNvPicPr/>
          <p:nvPr/>
        </p:nvPicPr>
        <p:blipFill>
          <a:blip r:embed="rId2"/>
          <a:stretch/>
        </p:blipFill>
        <p:spPr>
          <a:xfrm>
            <a:off x="2590920" y="2286000"/>
            <a:ext cx="119052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B2EB-2552-4D75-BBA0-8513786C2B9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90640" y="1119240"/>
            <a:ext cx="65235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ender—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elvis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838080" y="3581280"/>
            <a:ext cx="7693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asy method to determine gende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urface of a woman’s pelvis can be scar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Aft>
                <a:spcPts val="5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ub pubic angle of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ema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lvis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reater than 90</a:t>
            </a:r>
            <a:r>
              <a:rPr b="0" lang="en-US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 the male’s, les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1" name="Picture 6" descr="Ch 13 PelvisFemale01b"/>
          <p:cNvPicPr/>
          <p:nvPr/>
        </p:nvPicPr>
        <p:blipFill>
          <a:blip r:embed="rId1"/>
          <a:stretch/>
        </p:blipFill>
        <p:spPr>
          <a:xfrm>
            <a:off x="2590920" y="2286000"/>
            <a:ext cx="1523880" cy="1171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Ch 13 PelvisMale01b"/>
          <p:cNvPicPr/>
          <p:nvPr/>
        </p:nvPicPr>
        <p:blipFill>
          <a:blip r:embed="rId2"/>
          <a:stretch/>
        </p:blipFill>
        <p:spPr>
          <a:xfrm>
            <a:off x="4782960" y="2286000"/>
            <a:ext cx="146556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Male   </a:t>
            </a:r>
            <a:r>
              <a:rPr b="1" lang="en-US" sz="5400" spc="-1" strike="noStrike">
                <a:solidFill>
                  <a:srgbClr val="ff0000"/>
                </a:solidFill>
                <a:latin typeface="American Typewriter Condensed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merican Typewriter Condensed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merican Typewriter Condensed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Female</a:t>
            </a:r>
            <a:r>
              <a:rPr b="1" lang="en-US" sz="5400" spc="-1" strike="noStrike">
                <a:solidFill>
                  <a:srgbClr val="ff0000"/>
                </a:solidFill>
                <a:latin typeface="American Typewriter Condensed"/>
              </a:rPr>
              <a:t> 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3733560" cy="2981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457200" y="1146240"/>
            <a:ext cx="3733920" cy="2897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3"/>
          <a:stretch/>
        </p:blipFill>
        <p:spPr>
          <a:xfrm>
            <a:off x="5029200" y="4346640"/>
            <a:ext cx="3962520" cy="2143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4"/>
          <a:stretch/>
        </p:blipFill>
        <p:spPr>
          <a:xfrm>
            <a:off x="609480" y="4346640"/>
            <a:ext cx="3505320" cy="2090520"/>
          </a:xfrm>
          <a:prstGeom prst="rect">
            <a:avLst/>
          </a:prstGeom>
          <a:ln w="0">
            <a:noFill/>
          </a:ln>
        </p:spPr>
      </p:pic>
      <p:sp>
        <p:nvSpPr>
          <p:cNvPr id="398" name="Line 7"/>
          <p:cNvSpPr/>
          <p:nvPr/>
        </p:nvSpPr>
        <p:spPr>
          <a:xfrm>
            <a:off x="5257800" y="2517840"/>
            <a:ext cx="3352680" cy="144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609480" y="2289240"/>
            <a:ext cx="3276720" cy="144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6248520" y="2975040"/>
            <a:ext cx="1371600" cy="144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1676520" y="2898720"/>
            <a:ext cx="1218960" cy="180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1600200" y="6556320"/>
            <a:ext cx="1295280" cy="180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6019920" y="6556320"/>
            <a:ext cx="1981080" cy="1800"/>
          </a:xfrm>
          <a:prstGeom prst="line">
            <a:avLst/>
          </a:prstGeom>
          <a:ln cap="sq"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3418200" y="640224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 Pubic Ang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5882-393D-453F-A67B-3E8D1AB5C1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9520" y="915120"/>
            <a:ext cx="70840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Chapter 13</a:t>
            </a: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Forensic Anthropology: 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What We Learn from Bones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762120" y="2666880"/>
            <a:ext cx="8076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bone is form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male and female skeletal remai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how bones contain a record of injuries and disea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12,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1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169-032A-48E4-A23F-CD082D822E4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rcRect l="28751" t="32030" r="11876" b="1250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5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E898-9925-4B54-B3CA-D20070C3758F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67640" y="681480"/>
            <a:ext cx="6332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Gender Differences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6840" y="236232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cag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should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males are generall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wi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arg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n that of fema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ddition, abou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e person in twen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s an extra rib. This is more common in males than in fem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279396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C567-91A1-4732-B6AA-D9BC3DFF69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nder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Thigh bone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837720" y="2523960"/>
            <a:ext cx="4038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a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emur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ick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joins the pelvis at a straighter angle than the female fem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7" name="Picture 4" descr="45866_f1316"/>
          <p:cNvPicPr/>
          <p:nvPr/>
        </p:nvPicPr>
        <p:blipFill>
          <a:blip r:embed="rId1"/>
          <a:stretch/>
        </p:blipFill>
        <p:spPr>
          <a:xfrm>
            <a:off x="5410080" y="2590920"/>
            <a:ext cx="2799000" cy="3504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3724-88CA-4710-B9CE-AB1A7E3B6CD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895680" y="1048680"/>
            <a:ext cx="6589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ge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Skull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14600" y="24379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By about age 30, the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Arial"/>
              </a:rPr>
              <a:t>suture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at the back of the skull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Arial"/>
              </a:rPr>
              <a:t>closes </a:t>
            </a:r>
            <a:br>
              <a:rPr sz="2500"/>
            </a:br>
            <a:r>
              <a:rPr b="0" lang="en-US" sz="25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By about age 32, the suture running across the top of the skull, back to front, closes</a:t>
            </a:r>
            <a:br>
              <a:rPr sz="2500"/>
            </a:b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By about age 50, the suture running side to side over the top of the skull, near the front, closes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22" name="Picture 13" descr="Ch 13 SutureTop02c"/>
          <p:cNvPicPr/>
          <p:nvPr/>
        </p:nvPicPr>
        <p:blipFill>
          <a:blip r:embed="rId1"/>
          <a:stretch/>
        </p:blipFill>
        <p:spPr>
          <a:xfrm>
            <a:off x="1133640" y="3581280"/>
            <a:ext cx="1076040" cy="1143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" descr="Ch 13 SuturesProfileBk01a"/>
          <p:cNvPicPr/>
          <p:nvPr/>
        </p:nvPicPr>
        <p:blipFill>
          <a:blip r:embed="rId2"/>
          <a:stretch/>
        </p:blipFill>
        <p:spPr>
          <a:xfrm>
            <a:off x="914400" y="2286000"/>
            <a:ext cx="1447920" cy="1203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6" descr="Ch 13 SuturesProfileFrntTurned01a"/>
          <p:cNvPicPr/>
          <p:nvPr/>
        </p:nvPicPr>
        <p:blipFill>
          <a:blip r:embed="rId3"/>
          <a:stretch/>
        </p:blipFill>
        <p:spPr>
          <a:xfrm>
            <a:off x="762120" y="4952880"/>
            <a:ext cx="1500120" cy="12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89EA-26C6-4104-942B-998B60518F0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95680" y="1048680"/>
            <a:ext cx="6666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Ag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586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t birth—450+ bones in the skelet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dults—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206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bon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Epiphysis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lin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—appears where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cartilage is replaced by b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the cartilage is fully replaced,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line is no longer visibl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is information can be used to </a:t>
            </a:r>
            <a:br>
              <a:rPr sz="2600"/>
            </a:b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approximat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 skeleton’s ag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29" name="Picture 12" descr="45866_f1318"/>
          <p:cNvPicPr/>
          <p:nvPr/>
        </p:nvPicPr>
        <p:blipFill>
          <a:blip r:embed="rId1"/>
          <a:stretch/>
        </p:blipFill>
        <p:spPr>
          <a:xfrm>
            <a:off x="7058160" y="2819520"/>
            <a:ext cx="1476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4681-5CE6-4830-913A-CC7B87EC108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95680" y="1048680"/>
            <a:ext cx="6666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ge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—Epiphysis 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433" name="Picture 6" descr="45866_ircd1301"/>
          <p:cNvPicPr/>
          <p:nvPr/>
        </p:nvPicPr>
        <p:blipFill>
          <a:blip r:embed="rId1"/>
          <a:stretch/>
        </p:blipFill>
        <p:spPr>
          <a:xfrm>
            <a:off x="1676520" y="2362320"/>
            <a:ext cx="54864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B72E-326C-4BCA-A294-27574075D2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95680" y="1048680"/>
            <a:ext cx="6666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Age—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Epiphysis 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437" name="Picture 4" descr="45866_ircd1302"/>
          <p:cNvPicPr/>
          <p:nvPr/>
        </p:nvPicPr>
        <p:blipFill>
          <a:blip r:embed="rId1"/>
          <a:stretch/>
        </p:blipFill>
        <p:spPr>
          <a:xfrm>
            <a:off x="3886200" y="914400"/>
            <a:ext cx="39686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0D85-6B8D-498F-973F-32211204F8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95680" y="1048680"/>
            <a:ext cx="6666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ight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693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stimate of heigh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made by measuring one of the long b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a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aken into consid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876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See Textbook for Height estimation formula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5697-D902-4D3B-A19A-731FD2BB0E9A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Race</a:t>
            </a:r>
            <a:endParaRPr b="1" lang="en-US" sz="40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e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fficult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determine from most skeletal remains, especially since pure races are becoming uncommon. An experienced forensic anthropologist can generally place skulls into one of three group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Caucasian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uropean, Middle Eastern, and Indian des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Negroid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frican, Aborigine, and Melanesian desc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Mongoloid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sian, Native American and Polynesian des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60D4-B530-4102-B39B-46B41877D28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to Distinguish Race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the eye soc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ence or presence of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as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p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surements of the nasal ind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gnathism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jection of upper jaw beyond lower ja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th of the 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tion of the jaw and 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see textbook figure 13-21 for comparison of characteristic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3DAD-6FF8-4123-A9D3-745F6654733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39520" y="915120"/>
            <a:ext cx="70840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a753"/>
                </a:solidFill>
                <a:latin typeface="Arial"/>
              </a:rPr>
              <a:t>Chapter 13</a:t>
            </a: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Forensic Anthropology: 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What We Learn from Bones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62120" y="2666520"/>
            <a:ext cx="80769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person’s approximate age could be determin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the differences in facial structures among r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the role of mitochondrial DNA in bone identifi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5" name="Picture 4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879A-BD92-425E-8A97-8FF8D3211B27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Odontology and</a:t>
            </a:r>
            <a:br>
              <a:rPr sz="4400"/>
            </a:b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Identification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eth are often used for body identification becau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are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ard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ubstances in the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are unique to the individ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-rays are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ood record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tee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5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AD0C-B4A3-42DF-9C18-ECC18B2C8550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044160" y="60552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Odontology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4190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dentity of an individual can be determined by comparing a person’s teeth to their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ntal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cords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Unusual features including the number and types of teeth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illing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spacing of the teeth, and/or special dental work (bridges, false teeth, root canals) help to make a positive identific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5313240" y="1981080"/>
            <a:ext cx="24796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31D-F756-496D-B95B-B05AFDFA9F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95680" y="1048680"/>
            <a:ext cx="6589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Facial Reconstruction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cial muscles follow the contour of the skul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face can be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rebuilt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from just skeletal remai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acial markers are positioned at critical locati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lay is contoured to follow the height of the marker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mputer programs perform a similar func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mputer programs also can “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a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” missing persons and criminal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oter Placeholder 6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E39A-DC37-46B7-B6BC-21432B1E13D0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48880" y="757800"/>
            <a:ext cx="5722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Facial Restoration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fter determining the sex, age, and race of an individual, facial features can be built upon a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kull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o assist in identification. Erasers are used to make tissue depths at various points on the skull.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Cla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is used to build  around these markers and facial features are molded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4876920" y="4038480"/>
            <a:ext cx="2757240" cy="1981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2819160" cy="1841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15ED-B338-4E1B-8576-4601E007BEC5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341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Animal Facial Restoration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905040" y="19652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termining what T Rex looked like using the bone form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rom thi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th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402000" cy="3581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85732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0460-8DF5-402F-B83F-226DFD8FC9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95680" y="1048680"/>
            <a:ext cx="69706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NA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Evidenc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Bone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contains 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little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nuclear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DNA but it does contain mitochondrial DNA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Nuclear DNA degenerates before mitochondrial DNA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Mitochondrial DNA is inherited only from the 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mother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ompare results with living relatives on the mother’s side of the family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A4D1-94E7-44C5-A598-17B5599B913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00720" y="900720"/>
            <a:ext cx="77234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Skeletal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rauma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Analysi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ensic anthropologists determine if damage to bones occurr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afte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stin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tterns exist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amage b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viron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rp-force traum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unt-force traum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nshot wou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ife wou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4634-56D5-4D19-9D4D-B49A5114520D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586600" y="605520"/>
            <a:ext cx="64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The Body Farm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ickname of a two and a half acre research facility in Tennessee developed in 1980 by Bill Bass where bodies are placed i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rious conditio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allowed to decompose. 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in purpose is to observe and understand the processes and timetable of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stmortem deca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Over the years it has helped to improve the ability to determine "time since death" in murder ca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ic locus est ubi mortui viveuntes docen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the place where the dead teach the liv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F5ED-AAA7-474D-BEDF-5F6145D3FD9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34120" y="834120"/>
            <a:ext cx="7322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Summary . . . .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nes are alive and carry on all life func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one conditi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tell investigators about a person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alth and nutriti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ing lif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le and female skeletons diff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ge of a pers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death c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 estimate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analyzing b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3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45F9-04C2-46B0-9E58-1F0F0FF27D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Summary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son’s heigh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ima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y the length of long b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cial reconstructi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possible to some ext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tochondrial DN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extracted to help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fy skeleta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ai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kelet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uma analysi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ines bones for evidence of damag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5" name="Picture 4" descr="EOC Bar verso02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196B-8EF9-4B41-A94C-AA25A44E592E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The</a:t>
            </a:r>
            <a:r>
              <a:rPr b="0" lang="en-US" sz="6600" spc="-1" strike="noStrike">
                <a:solidFill>
                  <a:srgbClr val="53a753"/>
                </a:solidFill>
                <a:latin typeface="Arial Black"/>
              </a:rPr>
              <a:t>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Pathologist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762120" y="2666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s th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ime of death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s can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ost accurately if the body is found within th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rst 24 hou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certain indicators such as algor, livor and rigor mort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D16A-14B7-4DA4-AF6B-F987CE6489E6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053440" y="423000"/>
            <a:ext cx="5341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Rigor Mortis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66680" y="2057400"/>
            <a:ext cx="7620120" cy="4038480"/>
          </a:xfrm>
          <a:prstGeom prst="rect">
            <a:avLst/>
          </a:prstGeom>
          <a:noFill/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533520" y="2971800"/>
            <a:ext cx="8153280" cy="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1257480" y="2076480"/>
            <a:ext cx="739116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emperatur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Stiffnes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 Approximate Tim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f body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of body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  Since Death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57480" y="3048120"/>
            <a:ext cx="190476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a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a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3200400" y="3048120"/>
            <a:ext cx="228600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ot st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ot st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5715000" y="3048120"/>
            <a:ext cx="297180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ot dead more than 3 h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ad between 3 and 8 h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ad  8 to 30 ho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1250"/>
              </a:spcBef>
              <a:buClr>
                <a:srgbClr val="003366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ad more than 30 ho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1368720" y="1293840"/>
            <a:ext cx="63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igidity of skeletal muscl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ter dea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C4C1-C9A9-41CD-AC71-58C00423F18B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Livor Mortis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ivor morti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the settling of blood, resulting in a reddish or purplish color patte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vidity can indicate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sition of the body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death.  When lividity becomes fixed, then the distribution of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attern will no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en if the body’s position is altered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vidity usually becomes fixed betwe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0 and 15 hou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deat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5" descr="Livor%20Mortis125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685800" y="1066680"/>
            <a:ext cx="82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algor morti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: postmortem changes that cause a body to lose heat (occurs 15 min – 2 hours after deat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rigor morti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: th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hortening an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tiffening of muscl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hat occurs aft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ea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livor morti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: pooling 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ettling of blood i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reas of the bod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closest to the groun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fter dea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endall/Hunt Publishing Comp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B405-9384-4FE8-A6F7-C5FC3D08C942}" type="slidenum"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a753"/>
                </a:solidFill>
                <a:latin typeface="Arial Black"/>
              </a:rPr>
              <a:t>Algor Mortis</a:t>
            </a:r>
            <a:endParaRPr b="1" lang="en-US" sz="44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gor mortis is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oling ra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the body after death. At a crime scene, the body temperature is obtained through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ctal tempera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ver tempera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lly the body cool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to 1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WP TypographicSymbols"/>
              </a:rPr>
              <a:t>.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5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degrees Fahrenhei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hour until it reaches the surrounding temperatur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erature of the surrounding environm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Type of clothing on the body, Wetness of the clothing, Air movement, Layers of clothing, Size of the individual may affect 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Kerry Miyoshi</cp:lastModifiedBy>
  <dcterms:modified xsi:type="dcterms:W3CDTF">2017-04-18T14:11:01Z</dcterms:modified>
  <cp:revision>172</cp:revision>
  <dc:subject/>
  <dc:title>Slide 1</dc:title>
</cp:coreProperties>
</file>