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7.jpeg" ContentType="image/jpeg"/>
  <Override PartName="/ppt/media/image29.jpeg" ContentType="image/jpeg"/>
  <Override PartName="/ppt/media/image33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5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6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7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E700C69-9553-4D52-8855-6F5028BB5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2960" y="862812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999F69E-0647-4CB1-A88C-DB9360DC602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2611-FFEB-40C8-9F91-5A28A4A0C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8F2D-BA30-4EA1-A14E-2A3D0D4DD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5D31-24B7-4C60-AEE6-92C57B385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CAE3-E86F-4011-9BCE-D6A91942D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07EB1-B0DB-4E2D-B8C5-A5D04256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582F3-ED96-472E-8472-0A953E45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3C785-9688-4856-94FC-88C47ED3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6DBFC-19C3-4FDB-8929-0D35FCE1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D9433-3C73-4F20-B907-56712C15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75716-0DA9-400A-A81A-BF5E80C7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3BBBE-C844-4735-9B2B-637606C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1290-637E-45A0-937A-8C1C4B245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FB35-36EB-4305-AF4C-7C6B337B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ED5E5-0D73-4F6F-A68B-E7A37AE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8FF7E-25D5-49FC-87D6-42225252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1061B-9CBB-4896-BD6C-710FF529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C6A6A-8D30-4DDE-ADDB-99023E16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10D71-4111-45AD-A8F0-C7F4C163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18500-581F-4F90-B3C0-08EF994E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7F2DD-39EF-476E-8BFD-8C9CA3DE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BDC14-8647-41C3-9420-2E248ED6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4614C-AACB-4401-BED3-67D9B5B4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086F-E9A4-4D58-885E-9EC86EFD9E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7B5C7-5D82-4931-BDC4-55B348C9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0CE1E-8BA6-481E-8F52-C4AEE12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82EC6-9ABD-450B-8ACF-CF844B0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83F47-142B-4623-9A56-3319B92A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5E9CB-0ABC-4796-BEB4-13F72DAE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BB6CF-0E43-4A75-AA69-DE1171D4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7555A-8BAF-48D3-B607-022845D6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09F29-987B-4207-AC0C-205027A8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04897-2BAA-49DB-A15A-A3DFBD3C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84CFC-5467-4A8B-807F-EC67CE95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1C0F-C6C4-457B-860B-14580DA16E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D5532-F01F-41BD-BF56-E4A84435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A7AE3-9E62-4F7D-ABC1-7CA2D932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40108-F793-44D8-8249-7E8B9662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86A57-676D-4382-AF17-A08CD055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35BCF-7D4D-4DC0-915D-91AAC3D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D41C1-D3F2-44EC-8085-7E430E8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F3105-53D3-4187-A898-F6C47BCD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16C02-83BC-488B-82AB-63A1ED1D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F2D0D-7FDC-4065-BA53-8F788021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10118-2D78-4472-86BC-6BEB7C0D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B6E0-D9BA-41B5-AA5C-79B2F29E72F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E1B3E-CFF8-42E2-97C6-6E24A74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C8363-4C9A-41C7-BE3F-03A560F0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5B65D-A4E3-487F-9ED7-2CE9DC9A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96DAE-562B-4C93-8CA9-D60E791D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5E1DA-FB9B-40B8-B3ED-EBAB41F5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6E3B9-F886-4B62-BFD8-A7CEA43E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14C08-F33A-4A9F-9EF8-58FC51BA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A7432-66C4-444D-BAF1-F1B54F72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91C3F-87E4-48C0-B4C0-7D8CCB4D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F98AB-D5F3-42D1-8E8D-3374D404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F1B0-06A9-485F-8AE1-BE22DFE409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B485A-AE49-44AD-B974-5B2CCDE9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27A3-07B1-48CB-B000-9D2575C00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44F6-BB18-49A1-B665-6C7CC552D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73C1-6E9F-4EBB-896D-396378EEC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2845-C965-4D79-978E-417F2A7BA6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0A52-B90A-4FD0-9AD2-09CFF8EF7A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105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7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Kendall/Hunt Publishing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8A44-6F25-446F-AB91-2481C0EB54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155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0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Kendall/Hunt Publishing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7816-E721-4E92-9B0B-15AC411D28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0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0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205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3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Kendall/Hunt Publishing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09F-CE7C-4A02-817D-0AF1330B65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53200" y="90720"/>
            <a:ext cx="73612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hapter 13: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Human Remains</a:t>
            </a:r>
            <a:endParaRPr b="1" lang="en-US" sz="4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re is a brief but very informative biography of an individual contained within the skeleton, if you know how to read it…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yde Snow, Forensic Anthropolog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1343160" y="99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6" descr="2"/>
          <p:cNvPicPr/>
          <p:nvPr/>
        </p:nvPicPr>
        <p:blipFill>
          <a:blip r:embed="rId1"/>
          <a:stretch/>
        </p:blipFill>
        <p:spPr>
          <a:xfrm>
            <a:off x="4876920" y="914400"/>
            <a:ext cx="3228840" cy="3772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658A-B2FB-4E2D-81B8-BE1F775A3AE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Forensic Anthropology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throp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the scientific study of all aspects of human development and inter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ysical anthrop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studies human dif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orensic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throp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studies these identifying characteristics on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ains of an 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46F3-471A-4539-AB4B-A9A8D21CF865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666880" y="53352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orensic Anthropolog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914400" y="228600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26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forensic anthropologist may provide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basic identification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formation of skeletonized or badly decomposed remain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26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rom a whole bone or part of a bone, the scientist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may be able to determine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 age r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roximate he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use of death, disease, or anomal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601"/>
              </a:spcBef>
              <a:buClr>
                <a:srgbClr val="003366"/>
              </a:buClr>
              <a:buSzPct val="65000"/>
              <a:buFont typeface="Wingdings 2" charset="2"/>
              <a:buChar char="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966E-4489-47E8-8276-F70AE485C41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96040" y="1124640"/>
            <a:ext cx="5446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istorical Developmen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7720" y="34286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80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scientists begin studying skull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897—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usage maker’s wife murdered; bone fragments found in his fac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3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the FBI opens the first crime la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ithsonian Institution partners with FB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Picture 4" descr="Ch 13 Skull2ab"/>
          <p:cNvPicPr/>
          <p:nvPr/>
        </p:nvPicPr>
        <p:blipFill>
          <a:blip r:embed="rId1"/>
          <a:stretch/>
        </p:blipFill>
        <p:spPr>
          <a:xfrm>
            <a:off x="1447920" y="1981080"/>
            <a:ext cx="10602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A63F-49DA-4C48-8F1A-5C4B668B37A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72360" y="896040"/>
            <a:ext cx="5446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istorical Developmen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7720" y="34286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39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William Krogman publishe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Guide to the Identification of Human Skeletal Mate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ldi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killed in World War II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i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ing anthropologic techn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new tool to analyze skelet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7" name="Picture 4" descr="Ch 13 Skull2ab"/>
          <p:cNvPicPr/>
          <p:nvPr/>
        </p:nvPicPr>
        <p:blipFill>
          <a:blip r:embed="rId1"/>
          <a:stretch/>
        </p:blipFill>
        <p:spPr>
          <a:xfrm>
            <a:off x="1447920" y="1981080"/>
            <a:ext cx="10602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1F0A-7CB3-4807-ACED-C8107BD5A6C9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171960" y="1571760"/>
            <a:ext cx="531396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4400"/>
            </a:br>
            <a:endParaRPr b="1" lang="en-US" sz="2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y of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06 bon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 adult hu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ction of bon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ovides structure and rigidi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tects soft tissue and org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s as an attachment for mus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oduces blood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s as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ora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a for miner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toxif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body by removing heavy metals and other foreign elements from the bl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5095800" y="13050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Regular Pattern)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Chaotic Patter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990720" y="4762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steology</a:t>
            </a:r>
            <a:br>
              <a:rPr sz="1800"/>
            </a:b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steon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holes in bones to carry blood supply: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nima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v. Human</a:t>
            </a:r>
            <a:br>
              <a:rPr sz="14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8C98-1D26-4670-BACA-70D5AC2C56B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haracteristics of Bon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ne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rro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reates blood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mones affect the amount of calcium in the blood and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8" name="Picture 4" descr="45866_f1302"/>
          <p:cNvPicPr/>
          <p:nvPr/>
        </p:nvPicPr>
        <p:blipFill>
          <a:blip r:embed="rId1"/>
          <a:stretch/>
        </p:blipFill>
        <p:spPr>
          <a:xfrm>
            <a:off x="6804000" y="2362320"/>
            <a:ext cx="15778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AE6C-910D-4724-947D-B8DEB9D8FBA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identifying marks on b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3" name="Picture 4" descr="45866_f1302"/>
          <p:cNvPicPr/>
          <p:nvPr/>
        </p:nvPicPr>
        <p:blipFill>
          <a:blip r:embed="rId1"/>
          <a:stretch/>
        </p:blipFill>
        <p:spPr>
          <a:xfrm>
            <a:off x="6804000" y="2362320"/>
            <a:ext cx="15778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D3FE-C073-4ED5-AD6D-E99E8FB52D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95680" y="1124640"/>
            <a:ext cx="6513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velopment of Bon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blast ce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where bones origin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ssific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when osteoblast cells migrate to the center of cartilage production and deposit miner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fe cyc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bone is deposited, breaks down, and replac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the 2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ype of bone cell, specialized to dissolve b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BC2E-0D80-43C2-A422-D135B0BDA74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95680" y="1124640"/>
            <a:ext cx="6513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velopment of Bon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the 2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ype of bone cel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ized to dissolve bon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bones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shap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s they gro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lance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lci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evels in bl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mov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ular wastes and debris from b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porosi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a deficiency of calcium in the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D566-70B4-4A86-BD83-D45B9C558B9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Bones Connec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3810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rtil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wraps the ends of bones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prevents scrap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6" descr="45866_f1304"/>
          <p:cNvPicPr/>
          <p:nvPr/>
        </p:nvPicPr>
        <p:blipFill>
          <a:blip r:embed="rId1"/>
          <a:stretch/>
        </p:blipFill>
        <p:spPr>
          <a:xfrm>
            <a:off x="4952880" y="2390760"/>
            <a:ext cx="373392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DB40-8418-4AEC-8F82-DA523109B75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9520" y="915120"/>
            <a:ext cx="70840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male and female skeletal remai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3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7BD9-87C9-4934-8A99-15B87FC0EF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Bones Connec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gam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an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wo or more bones toge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1" name="Picture 5" descr="45866_f1305"/>
          <p:cNvPicPr/>
          <p:nvPr/>
        </p:nvPicPr>
        <p:blipFill>
          <a:blip r:embed="rId1"/>
          <a:stretch/>
        </p:blipFill>
        <p:spPr>
          <a:xfrm>
            <a:off x="3886200" y="2971800"/>
            <a:ext cx="472428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B225-4586-498A-9690-ABBA3A4931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Bones Connec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nd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onnect muscle to b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6" name="Picture 5" descr="45866_f1306"/>
          <p:cNvPicPr/>
          <p:nvPr/>
        </p:nvPicPr>
        <p:blipFill>
          <a:blip r:embed="rId1"/>
          <a:stretch/>
        </p:blipFill>
        <p:spPr>
          <a:xfrm>
            <a:off x="5029200" y="2514600"/>
            <a:ext cx="31892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0EB1-9F44-48DB-A1E4-D519D61A8C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61760" y="2437920"/>
            <a:ext cx="7769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we tell the age of a human from their b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23EF-6770-4CDB-A3BE-BB879F9B679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Aging of Bon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761760" y="2437920"/>
            <a:ext cx="7769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 of age—bone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crea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siz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 30—process rever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rci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terio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5811-E2DE-4D6E-8CBC-FB4732F3F3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05400" y="981720"/>
            <a:ext cx="664668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Bones Can Tell U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37720" y="2514240"/>
            <a:ext cx="76964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biograph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bone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tain a recor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the physical li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zing bones reveals clues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height, and heal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a right-handed person, right arm bones might b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lightly larger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an the bones of the left a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-rays may identify prior fractures, pins, artificial j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8E80-E77E-440A-A7EA-1BEA85D9E23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ender—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kull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14600" y="2743200"/>
          <a:ext cx="4343400" cy="2438280"/>
        </p:xfrm>
        <a:graphic>
          <a:graphicData uri="http://schemas.openxmlformats.org/drawingml/2006/table">
            <a:tbl>
              <a:tblPr/>
              <a:tblGrid>
                <a:gridCol w="1523880"/>
                <a:gridCol w="1320840"/>
                <a:gridCol w="149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le Characteristic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i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male Characteristic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e squa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pe of ey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e round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e squa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ndible shape from undersid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e V-shap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ick and larg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pper brow ridg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in and small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39" descr="45866_f1311a"/>
          <p:cNvPicPr/>
          <p:nvPr/>
        </p:nvPicPr>
        <p:blipFill>
          <a:blip r:embed="rId1"/>
          <a:stretch/>
        </p:blipFill>
        <p:spPr>
          <a:xfrm>
            <a:off x="1066680" y="3124080"/>
            <a:ext cx="1298520" cy="1828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7" descr="45866_f1311b"/>
          <p:cNvPicPr/>
          <p:nvPr/>
        </p:nvPicPr>
        <p:blipFill>
          <a:blip r:embed="rId2"/>
          <a:stretch/>
        </p:blipFill>
        <p:spPr>
          <a:xfrm>
            <a:off x="7086600" y="3048120"/>
            <a:ext cx="1206360" cy="18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5422-C504-42A7-8CB8-F193380E575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ender—Skull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514600" y="2514600"/>
          <a:ext cx="4343400" cy="3218040"/>
        </p:xfrm>
        <a:graphic>
          <a:graphicData uri="http://schemas.openxmlformats.org/drawingml/2006/table">
            <a:tbl>
              <a:tblPr/>
              <a:tblGrid>
                <a:gridCol w="1523880"/>
                <a:gridCol w="1320840"/>
                <a:gridCol w="149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le Characteristic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i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male Characteristic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ccipital protuberan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sen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 and slop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rontal bon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igher and more round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ugh and bump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rface of skul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oot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aigh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mus of mandibl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lant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ugh and bump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chal cres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oot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Picture 46" descr="45866_f1311c"/>
          <p:cNvPicPr/>
          <p:nvPr/>
        </p:nvPicPr>
        <p:blipFill>
          <a:blip r:embed="rId1"/>
          <a:stretch/>
        </p:blipFill>
        <p:spPr>
          <a:xfrm>
            <a:off x="838080" y="3352680"/>
            <a:ext cx="1462320" cy="1368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7" descr="45866_f1311d"/>
          <p:cNvPicPr/>
          <p:nvPr/>
        </p:nvPicPr>
        <p:blipFill>
          <a:blip r:embed="rId2"/>
          <a:stretch/>
        </p:blipFill>
        <p:spPr>
          <a:xfrm>
            <a:off x="7086600" y="3276720"/>
            <a:ext cx="13795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C8AF-2AE5-4E64-9DF0-09BA01DBD0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90640" y="1119240"/>
            <a:ext cx="659988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ender—Skull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838080" y="3733920"/>
            <a:ext cx="7925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the female skull smoother than the male’s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frontal bone is lower and sloping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the male’s eye orbits more circular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jaw is more square, with an angle that is closer to 9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5" name="Picture 4" descr="Ch 13 SkullMaleSide01b"/>
          <p:cNvPicPr/>
          <p:nvPr/>
        </p:nvPicPr>
        <p:blipFill>
          <a:blip r:embed="rId1"/>
          <a:stretch/>
        </p:blipFill>
        <p:spPr>
          <a:xfrm>
            <a:off x="4675320" y="2286000"/>
            <a:ext cx="11919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Ch 13 SkulFemaleSide01b"/>
          <p:cNvPicPr/>
          <p:nvPr/>
        </p:nvPicPr>
        <p:blipFill>
          <a:blip r:embed="rId2"/>
          <a:stretch/>
        </p:blipFill>
        <p:spPr>
          <a:xfrm>
            <a:off x="2590920" y="2286000"/>
            <a:ext cx="119052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19C-6F2A-401E-BA2F-ADA09201FA8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90640" y="1119240"/>
            <a:ext cx="65235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ender—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elvis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838080" y="3581280"/>
            <a:ext cx="7693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asy method to determine gende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urface of a woman’s pelvis can be scar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ub pubic angle of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ema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lvis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reater than 90</a:t>
            </a:r>
            <a:r>
              <a:rPr b="0" lang="en-US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 the male’s, les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1" name="Picture 6" descr="Ch 13 PelvisFemale01b"/>
          <p:cNvPicPr/>
          <p:nvPr/>
        </p:nvPicPr>
        <p:blipFill>
          <a:blip r:embed="rId1"/>
          <a:stretch/>
        </p:blipFill>
        <p:spPr>
          <a:xfrm>
            <a:off x="2590920" y="2286000"/>
            <a:ext cx="1523880" cy="1171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Ch 13 PelvisMale01b"/>
          <p:cNvPicPr/>
          <p:nvPr/>
        </p:nvPicPr>
        <p:blipFill>
          <a:blip r:embed="rId2"/>
          <a:stretch/>
        </p:blipFill>
        <p:spPr>
          <a:xfrm>
            <a:off x="4782960" y="2286000"/>
            <a:ext cx="146556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Male   </a:t>
            </a:r>
            <a:r>
              <a:rPr b="1" lang="en-US" sz="5400" spc="-1" strike="noStrike">
                <a:solidFill>
                  <a:srgbClr val="ff0000"/>
                </a:solidFill>
                <a:latin typeface="American Typewriter Condensed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merican Typewriter Condensed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merican Typewriter Condensed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emale</a:t>
            </a:r>
            <a:r>
              <a:rPr b="1" lang="en-US" sz="5400" spc="-1" strike="noStrike">
                <a:solidFill>
                  <a:srgbClr val="ff0000"/>
                </a:solidFill>
                <a:latin typeface="American Typewriter Condensed"/>
              </a:rPr>
              <a:t> 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3733560" cy="2981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457200" y="1146240"/>
            <a:ext cx="3733920" cy="2897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3"/>
          <a:stretch/>
        </p:blipFill>
        <p:spPr>
          <a:xfrm>
            <a:off x="5029200" y="4346640"/>
            <a:ext cx="3962520" cy="2143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4"/>
          <a:stretch/>
        </p:blipFill>
        <p:spPr>
          <a:xfrm>
            <a:off x="609480" y="4346640"/>
            <a:ext cx="3505320" cy="2090520"/>
          </a:xfrm>
          <a:prstGeom prst="rect">
            <a:avLst/>
          </a:prstGeom>
          <a:ln w="0">
            <a:noFill/>
          </a:ln>
        </p:spPr>
      </p:pic>
      <p:sp>
        <p:nvSpPr>
          <p:cNvPr id="398" name="Line 7"/>
          <p:cNvSpPr/>
          <p:nvPr/>
        </p:nvSpPr>
        <p:spPr>
          <a:xfrm>
            <a:off x="5257800" y="2517840"/>
            <a:ext cx="3352680" cy="144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609480" y="2289240"/>
            <a:ext cx="3276720" cy="144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6248520" y="2975040"/>
            <a:ext cx="1371600" cy="144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1676520" y="2898720"/>
            <a:ext cx="1218960" cy="180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1600200" y="6556320"/>
            <a:ext cx="1295280" cy="180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19920" y="6556320"/>
            <a:ext cx="1981080" cy="180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3418200" y="64022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 Pubic Ang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BD0A-48D7-462A-87E6-82698FD6FE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9520" y="915120"/>
            <a:ext cx="70840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13</a:t>
            </a: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Forensic Anthropology: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What We Learn from Bone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bone is form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male and female skeletal remai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how bones contain a record of injuries and disea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1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D4D0-CF5B-4457-A13B-343E8165AF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rcRect l="28751" t="32030" r="11876" b="1250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5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45D5-C441-4080-B2EE-D0A16468D540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67640" y="681480"/>
            <a:ext cx="6332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Gender Differences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ca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should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males are generall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i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arg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n that of fema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ddition, abo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 person in twen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s an extra rib. This is more common in males than in fem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279396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5FEE-4269-4189-B2B0-158C1D1C39A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der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Thigh bone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837720" y="2523960"/>
            <a:ext cx="4038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emur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ick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joins the pelvis at a straighter angle than the female fem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7" name="Picture 4" descr="45866_f1316"/>
          <p:cNvPicPr/>
          <p:nvPr/>
        </p:nvPicPr>
        <p:blipFill>
          <a:blip r:embed="rId1"/>
          <a:stretch/>
        </p:blipFill>
        <p:spPr>
          <a:xfrm>
            <a:off x="5410080" y="2590920"/>
            <a:ext cx="2799000" cy="3504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24A6-A458-461F-A633-E188A597746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895680" y="1048680"/>
            <a:ext cx="6589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ge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Skull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14600" y="24379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By about age 30, the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Arial"/>
              </a:rPr>
              <a:t>suture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at the back of the skull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Arial"/>
              </a:rPr>
              <a:t>closes </a:t>
            </a:r>
            <a:br>
              <a:rPr sz="2500"/>
            </a:br>
            <a:r>
              <a:rPr b="0" lang="en-US" sz="25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By about age 32, the suture running across the top of the skull, back to front, closes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By about age 50, the suture running side to side over the top of the skull, near the front, closes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22" name="Picture 13" descr="Ch 13 SutureTop02c"/>
          <p:cNvPicPr/>
          <p:nvPr/>
        </p:nvPicPr>
        <p:blipFill>
          <a:blip r:embed="rId1"/>
          <a:stretch/>
        </p:blipFill>
        <p:spPr>
          <a:xfrm>
            <a:off x="1133640" y="3581280"/>
            <a:ext cx="1076040" cy="1143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Ch 13 SuturesProfileBk01a"/>
          <p:cNvPicPr/>
          <p:nvPr/>
        </p:nvPicPr>
        <p:blipFill>
          <a:blip r:embed="rId2"/>
          <a:stretch/>
        </p:blipFill>
        <p:spPr>
          <a:xfrm>
            <a:off x="914400" y="2286000"/>
            <a:ext cx="1447920" cy="1203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Ch 13 SuturesProfileFrntTurned01a"/>
          <p:cNvPicPr/>
          <p:nvPr/>
        </p:nvPicPr>
        <p:blipFill>
          <a:blip r:embed="rId3"/>
          <a:stretch/>
        </p:blipFill>
        <p:spPr>
          <a:xfrm>
            <a:off x="762120" y="4952880"/>
            <a:ext cx="1500120" cy="12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0D2-D56E-4898-8A30-AA733829D6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95680" y="1048680"/>
            <a:ext cx="6666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Ag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586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 birth—450+ bones in the skelet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ults—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206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bon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Epiphysis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lin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—appears where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cartilage is replaced by b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the cartilage is fully replaced,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line is no longer visibl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is information can be used to </a:t>
            </a:r>
            <a:br>
              <a:rPr sz="2600"/>
            </a:b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pproximat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 skeleton’s ag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29" name="Picture 12" descr="45866_f1318"/>
          <p:cNvPicPr/>
          <p:nvPr/>
        </p:nvPicPr>
        <p:blipFill>
          <a:blip r:embed="rId1"/>
          <a:stretch/>
        </p:blipFill>
        <p:spPr>
          <a:xfrm>
            <a:off x="7058160" y="2819520"/>
            <a:ext cx="1476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D95-5BC6-4645-B685-56C1A698F10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95680" y="1048680"/>
            <a:ext cx="6666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ge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Epiphysis 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433" name="Picture 6" descr="45866_ircd1301"/>
          <p:cNvPicPr/>
          <p:nvPr/>
        </p:nvPicPr>
        <p:blipFill>
          <a:blip r:embed="rId1"/>
          <a:stretch/>
        </p:blipFill>
        <p:spPr>
          <a:xfrm>
            <a:off x="1676520" y="2362320"/>
            <a:ext cx="54864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C505-ADD9-4FA9-8D34-DFE64083AA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95680" y="1048680"/>
            <a:ext cx="6666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Age—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Epiphysis 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437" name="Picture 4" descr="45866_ircd1302"/>
          <p:cNvPicPr/>
          <p:nvPr/>
        </p:nvPicPr>
        <p:blipFill>
          <a:blip r:embed="rId1"/>
          <a:stretch/>
        </p:blipFill>
        <p:spPr>
          <a:xfrm>
            <a:off x="3886200" y="914400"/>
            <a:ext cx="39686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CD4A-E513-421A-8F5F-C4F3371FC6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95680" y="1048680"/>
            <a:ext cx="6666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ight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693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stimate of heigh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made by measuring one of the long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a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aken into consid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ee Textbook for Height estimation formula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0977-15EA-4613-A665-D7140824CDAE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Race</a:t>
            </a:r>
            <a:endParaRPr b="1" lang="en-US" sz="4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e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fficult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determine from most skeletal remains, especially since pure races are becoming uncommon. An experienced forensic anthropologist can generally place skulls into one of three group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Caucasian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uropean, Middle Eastern, and Indian des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Negroid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frican, Aborigine, and Melanesian desc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Mongoloid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sian, Native American and Polynesian des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42CA-B07C-4AF4-B1F5-09FFAE1EAD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Distinguish Rac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 eye soc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ence or presence of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as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p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surements of the nasal 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gnathism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jection of upper jaw beyond lower ja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th of the 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tion of the jaw and 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see textbook figure 13-21 for comparison of characteristic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65DE-B6DA-4AC6-BF7E-42609DAA91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39520" y="915120"/>
            <a:ext cx="70840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13</a:t>
            </a: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Forensic Anthropology: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What We Learn from Bone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62120" y="2666520"/>
            <a:ext cx="8076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person’s approximate age could be determin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e differences in facial structures among r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the role of mitochondrial DNA in bone identifi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5" name="Picture 4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1882-B80F-4ED0-8E97-1C2F73144E8B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Odontology and</a:t>
            </a:r>
            <a:br>
              <a:rPr sz="4400"/>
            </a:b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Identification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eth are often used for body identification beca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are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ard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ubstances in the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are unique to the individ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-rays are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ood record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tee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5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8F4A-6FAA-435D-9ABD-2B6EAFD030F7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044160" y="6055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Odontology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4190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dentity of an individual can be determined by comparing a person’s teeth to their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ntal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cords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nusual features including the number and types of teeth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illing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spacing of the teeth, and/or special dental work (bridges, false teeth, root canals) help to make a positive identific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5313240" y="1981080"/>
            <a:ext cx="24796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1437-C9A0-4A95-BA38-2BB02C0332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95680" y="1048680"/>
            <a:ext cx="6589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Facial Reconstruc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cial muscles follow the contour of the skul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face can be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rebuilt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from just skeletal remai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acial markers are positioned at critical locati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ay is contoured to follow the height of the marker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mputer programs perform a similar func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mputer programs also can “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” missing persons and criminal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oter Placeholder 6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D998-0F31-426A-BEF5-C310048E8F00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48880" y="757800"/>
            <a:ext cx="5722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Facial Restoration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fter determining the sex, age, and race of an individual, facial features can be built upon a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kull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o assist in identification. Erasers are used to make tissue depths at various points on the skull.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Cla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is used to build  around these markers and facial features are molded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4876920" y="4038480"/>
            <a:ext cx="2757240" cy="1981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2819160" cy="1841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183D-36B8-4D20-BD44-9D0557F43D8A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341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Animal Facial Restoration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905040" y="19652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termining what T Rex looked like using the bone form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om thi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th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402000" cy="3581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85732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1EE1-CC58-476E-A411-C23A431440D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95680" y="1048680"/>
            <a:ext cx="69706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NA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Evidenc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Bone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contains 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little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nuclear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DNA but it does contain mitochondrial DNA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Nuclear DNA degenerates before mitochondrial DNA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Mitochondrial DNA is inherited only from the 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mother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ompare results with living relatives on the mother’s side of the family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3A6B-82FB-462C-8426-4DB75E765DC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00720" y="90072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keletal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rauma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Analys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ensic anthropologists determine if damage to bones occurr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afte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stin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tterns exist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amage b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viron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p-force traum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unt-force traum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nshot wou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ife wou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DA93-4DAD-481B-94A9-80DCE77DD279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586600" y="605520"/>
            <a:ext cx="64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The Body Farm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ickname of a two and a half acre research facility in Tennessee developed in 1980 by Bill Bass where bodies are placed i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rious conditio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allowed to decompose. 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in purpose is to observe and understand the processes and timetable of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stmortem deca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Over the years it has helped to improve the ability to determine "time since death" in murder c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ic locus est ubi mortui viveuntes docen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the place where the dead teach the liv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9A4F-A923-45BD-A35D-A6D14961AF7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34120" y="834120"/>
            <a:ext cx="7322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Summary . . . .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nes are alive and carry on all life func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one conditi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tell investigators about a person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alth and nutriti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ing lif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le and female skeletons diff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 of a pers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death c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 estimate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analyzing b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3005-DB26-4525-9239-61417B56C25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son’s heigh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ima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y the length of long b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cial reconstructi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possible to some ext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tochondrial DN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extracted to help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y skeleta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ai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kelet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uma analysi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ines bones for evidence of damag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5" name="Picture 4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A2B3-0478-431B-985F-D5299A4F53B7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The</a:t>
            </a:r>
            <a:r>
              <a:rPr b="0" lang="en-US" sz="6600" spc="-1" strike="noStrike">
                <a:solidFill>
                  <a:srgbClr val="53a753"/>
                </a:solidFill>
                <a:latin typeface="Arial Black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Pathologist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762120" y="2666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s th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ime of death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s can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ost accurately if the body is found within th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rst 24 hou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certain indicators such as algor, livor and rigor mort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6076-7009-4FCE-9104-945827C0185C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053440" y="42300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Rigor Mortis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66680" y="2057400"/>
            <a:ext cx="7620120" cy="4038480"/>
          </a:xfrm>
          <a:prstGeom prst="rect">
            <a:avLst/>
          </a:prstGeom>
          <a:noFill/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533520" y="2971800"/>
            <a:ext cx="815328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1257480" y="2076480"/>
            <a:ext cx="73911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emperatur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Stiffnes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Approximate Tim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f body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of body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 Since Death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57480" y="3048120"/>
            <a:ext cx="190476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a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a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3200400" y="3048120"/>
            <a:ext cx="228600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ot st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ot st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5715000" y="3048120"/>
            <a:ext cx="297180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ot dead more than 3 h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ad between 3 and 8 h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ad  8 to 30 ho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ad more than 30 ho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1368720" y="1293840"/>
            <a:ext cx="63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igidity of skeletal muscl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dea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2806-7B07-40C9-AF0D-87B839E12E75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Livor Mortis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ivor mort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the settling of blood, resulting in a reddish or purplish color patte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vidity can indicate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sition of the bod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death.  When lividity becomes fixed, then the distribution of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ttern will no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en if the body’s position is altered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vidity usually becomes fixed betwe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0 and 15 hou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deat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" descr="Livor%20Mortis125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685800" y="1066680"/>
            <a:ext cx="82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algor morti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: postmortem changes that cause a body to lose heat (occurs 15 min – 2 hours after deat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rigor morti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: th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hortening an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tiffening of muscl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hat occurs aft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a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livor morti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: pooling 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ettling of blood i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reas of the bod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closest to the groun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fter dea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EAE4-E79A-4E9B-B274-7CBD489C44F6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Algor Mortis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gor mortis is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oling ra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the body after death. At a crime scene, the body temperature is obtained through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ctal tempera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ver tempera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lly the body cool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to 1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WP TypographicSymbols"/>
              </a:rPr>
              <a:t>.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5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degrees Fahrenhei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hour until it reaches the surrounding temperatur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erature of the surrounding environ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Type of clothing on the body, Wetness of the clothing, Air movement, Layers of clothing, Size of the individual may affect 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dcterms:modified xsi:type="dcterms:W3CDTF">2017-04-18T14:11:01Z</dcterms:modified>
  <cp:revision>172</cp:revision>
  <dc:subject/>
  <dc:title>Slide 1</dc:title>
</cp:coreProperties>
</file>