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043D-FDB9-46FC-93E2-865CB12AF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33F9-EDD1-4A16-BA01-B7946731A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2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FFDC-A942-42AB-827F-00910A7D1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67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67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1828-AAEC-4B5F-82D1-50C8093D47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ABB6-5F7F-44A0-AF88-E535B98DE2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EC1C-00F6-40CC-95F6-D733BA74B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263A-406B-4E22-8C36-CBA24556F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DA5D-2940-45DD-9A5E-54C4985B4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4DB4-3B98-4635-AD9C-9BFA67EDE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B2D32-FC40-4BED-B392-D26CB2E53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2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17AE-FC63-432B-8DE1-B3B8800E5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4340-552A-4DF8-8E99-0052C386D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19960" indent="-22392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16000" indent="-22392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120" y="6244920"/>
            <a:ext cx="4038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3C4A-93DC-4084-8EC4-F8418BBC48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humanhair"/>
          <p:cNvPicPr/>
          <p:nvPr/>
        </p:nvPicPr>
        <p:blipFill>
          <a:blip r:embed="rId2"/>
          <a:stretch/>
        </p:blipFill>
        <p:spPr>
          <a:xfrm>
            <a:off x="-533520" y="0"/>
            <a:ext cx="22240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hapter 3:</a:t>
            </a:r>
            <a:br>
              <a:rPr sz="4800"/>
            </a:b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Hair</a:t>
            </a:r>
            <a:endParaRPr b="0" lang="en-US" sz="66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504960"/>
            <a:ext cx="6705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ree days after death, hair and fingernails continue to grow bu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calls taper off.”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ny Cars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dian and television hos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9A00-1004-42E4-90AC-06E4ED7192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678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imal Hair 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d Human Hair 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36576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Kartik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artika"/>
              </a:rPr>
              <a:t>Spinous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Kartika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Kartika"/>
              </a:rPr>
              <a:t>      </a:t>
            </a:r>
            <a:r>
              <a:rPr b="1" lang="en-US" sz="2400" spc="-1" strike="noStrike">
                <a:solidFill>
                  <a:srgbClr val="cc3300"/>
                </a:solidFill>
                <a:latin typeface="Kartik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artika"/>
              </a:rPr>
              <a:t>Coronal </a:t>
            </a:r>
            <a:r>
              <a:rPr b="1" lang="en-US" sz="2800" spc="-1" strike="noStrike">
                <a:solidFill>
                  <a:srgbClr val="cc3300"/>
                </a:solidFill>
                <a:latin typeface="Kartika"/>
              </a:rPr>
              <a:t>     </a:t>
            </a:r>
            <a:r>
              <a:rPr b="1" lang="en-US" sz="2800" spc="-1" strike="noStrike">
                <a:solidFill>
                  <a:srgbClr val="cc3300"/>
                </a:solidFill>
                <a:latin typeface="Kartik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artika"/>
              </a:rPr>
              <a:t>Imbricat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imals: cuticle scales resemble petals (spinous) or a stack of crowns (coronal)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umans: commonly flattened and narrow (imbricate)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animals can also have imbricate!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84" name="Picture 5" descr="Ch 3 Imbricate03"/>
          <p:cNvPicPr/>
          <p:nvPr/>
        </p:nvPicPr>
        <p:blipFill>
          <a:blip r:embed="rId1"/>
          <a:stretch/>
        </p:blipFill>
        <p:spPr>
          <a:xfrm>
            <a:off x="6172200" y="1714680"/>
            <a:ext cx="1371600" cy="183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h 3 Spinous02"/>
          <p:cNvPicPr/>
          <p:nvPr/>
        </p:nvPicPr>
        <p:blipFill>
          <a:blip r:embed="rId2"/>
          <a:stretch/>
        </p:blipFill>
        <p:spPr>
          <a:xfrm>
            <a:off x="1752480" y="1752480"/>
            <a:ext cx="1471680" cy="184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h 3 Coronal02"/>
          <p:cNvPicPr/>
          <p:nvPr/>
        </p:nvPicPr>
        <p:blipFill>
          <a:blip r:embed="rId3"/>
          <a:stretch/>
        </p:blipFill>
        <p:spPr>
          <a:xfrm>
            <a:off x="4267080" y="1585800"/>
            <a:ext cx="1295640" cy="19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D128-6EF6-4A42-93F2-992AFD92E0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uman Scales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562720" y="1904760"/>
            <a:ext cx="3124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order to visualize th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a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a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ear fingernail polish on a glass sl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olish begins t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ry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hair on the polish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lmost dry, lift off the hair and observe the scal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mprin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pattern is seen i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lide?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2718-EA6D-48D1-B15C-E9A48BB697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ortex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rt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ives the hair its shape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ha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wo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jor characteristic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lan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ment granules that give hair it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lor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stribution of pigment varies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rtical fu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spaces, usually found near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y be found throughout the hair shaf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F6FF-E2CF-4047-BD72-D450165614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Medulla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edu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hair core tha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visible. The medulla comes in different types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attern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00" name="Picture 17" descr=""/>
          <p:cNvPicPr/>
          <p:nvPr/>
        </p:nvPicPr>
        <p:blipFill>
          <a:blip r:embed="rId1"/>
          <a:stretch/>
        </p:blipFill>
        <p:spPr>
          <a:xfrm>
            <a:off x="6095880" y="3809880"/>
            <a:ext cx="1924200" cy="1838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8"/>
          <p:cNvSpPr/>
          <p:nvPr/>
        </p:nvSpPr>
        <p:spPr>
          <a:xfrm>
            <a:off x="1676520" y="3048120"/>
            <a:ext cx="43434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mittent or interrup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Fragm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ta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s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pres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0E9C-02B2-47B6-9A43-22647DA5FB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4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Types of Medulla 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1971720" y="1657440"/>
            <a:ext cx="194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2"/>
          <p:cNvSpPr/>
          <p:nvPr/>
        </p:nvSpPr>
        <p:spPr>
          <a:xfrm>
            <a:off x="1971720" y="1657440"/>
            <a:ext cx="194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6"/>
          <p:cNvSpPr/>
          <p:nvPr/>
        </p:nvSpPr>
        <p:spPr>
          <a:xfrm>
            <a:off x="1971720" y="1657440"/>
            <a:ext cx="194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52" descr="MedullaPatterns01 copy"/>
          <p:cNvPicPr/>
          <p:nvPr/>
        </p:nvPicPr>
        <p:blipFill>
          <a:blip r:embed="rId1"/>
          <a:stretch/>
        </p:blipFill>
        <p:spPr>
          <a:xfrm>
            <a:off x="1743120" y="1665360"/>
            <a:ext cx="74008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2339-0BC6-4116-AF06-7C34E9C4AD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uman Medulla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medulla may be continuous, fragmented or absent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4314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4985-1D09-42FF-8E82-BD6053A589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dullary Index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by measur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medulla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ividing it by the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di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ullary Index for human hair is generall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/3 (0.33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imal hair, it is usuall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re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½ (0.5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18" name="Picture 1028" descr="mouse"/>
          <p:cNvPicPr/>
          <p:nvPr/>
        </p:nvPicPr>
        <p:blipFill>
          <a:blip r:embed="rId1">
            <a:lum bright="12000"/>
          </a:blip>
          <a:srcRect l="43714" t="28452" r="47505" b="60316"/>
          <a:stretch/>
        </p:blipFill>
        <p:spPr>
          <a:xfrm>
            <a:off x="6553080" y="1905120"/>
            <a:ext cx="1828800" cy="3276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30"/>
          <p:cNvSpPr/>
          <p:nvPr/>
        </p:nvSpPr>
        <p:spPr>
          <a:xfrm>
            <a:off x="678168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D1AD-8CB1-4B2A-9BCC-634CC68428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Medulla Index—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imals vs. Humans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pic>
        <p:nvPicPr>
          <p:cNvPr id="123" name="Picture 4" descr="45866_f0311"/>
          <p:cNvPicPr/>
          <p:nvPr/>
        </p:nvPicPr>
        <p:blipFill>
          <a:blip r:embed="rId1"/>
          <a:stretch/>
        </p:blipFill>
        <p:spPr>
          <a:xfrm>
            <a:off x="1501920" y="2133720"/>
            <a:ext cx="76215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20E5-EFB4-4B31-9DA9-F73D638E26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Types of Hair 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2040" y="3365280"/>
            <a:ext cx="78483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Buckled </a:t>
            </a: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   Blunt    </a:t>
            </a: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Kartika"/>
              </a:rPr>
              <a:t>     Double Medull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 cross section: circular, triangular, irregular, or flattened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hape: influences the curl of the hai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exture: coarse or f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8" name="Picture 4" descr="Untitled3"/>
          <p:cNvPicPr/>
          <p:nvPr/>
        </p:nvPicPr>
        <p:blipFill>
          <a:blip r:embed="rId1"/>
          <a:stretch/>
        </p:blipFill>
        <p:spPr>
          <a:xfrm>
            <a:off x="1447920" y="789120"/>
            <a:ext cx="2085840" cy="181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Ch 3 BluntHair02"/>
          <p:cNvPicPr/>
          <p:nvPr/>
        </p:nvPicPr>
        <p:blipFill>
          <a:blip r:embed="rId2"/>
          <a:stretch/>
        </p:blipFill>
        <p:spPr>
          <a:xfrm>
            <a:off x="3733920" y="789120"/>
            <a:ext cx="2209680" cy="1815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Untitled4"/>
          <p:cNvPicPr/>
          <p:nvPr/>
        </p:nvPicPr>
        <p:blipFill>
          <a:blip r:embed="rId3"/>
          <a:stretch/>
        </p:blipFill>
        <p:spPr>
          <a:xfrm>
            <a:off x="6210360" y="762120"/>
            <a:ext cx="2514600" cy="1817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6477120" y="2766960"/>
            <a:ext cx="22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3733920" y="2770200"/>
            <a:ext cx="22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 or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1366920" y="2809800"/>
            <a:ext cx="22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A62A-02B7-4808-8B28-DA75B1406A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ir Shape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straight, curly or kinky depending on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ross-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ay be round, oval or crescent-shape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2666880" y="3962520"/>
            <a:ext cx="762120" cy="76176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4495680" y="4114800"/>
            <a:ext cx="1143000" cy="4572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 flipV="1">
            <a:off x="6477120" y="3428280"/>
            <a:ext cx="1600200" cy="1219320"/>
          </a:xfrm>
          <a:custGeom>
            <a:avLst/>
            <a:gdLst>
              <a:gd name="textAreaLeft" fmla="*/ 1800 w 1600200"/>
              <a:gd name="textAreaRight" fmla="*/ 1598400 w 1600200"/>
              <a:gd name="textAreaTop" fmla="*/ 0 h 1219320"/>
              <a:gd name="textAreaBottom" fmla="*/ 585000 h 1219320"/>
            </a:gdLst>
            <a:ahLst/>
            <a:rect l="textAreaLeft" t="textAreaTop" r="textAreaRight" b="textAreaBottom"/>
            <a:pathLst>
              <a:path w="21600" h="21600">
                <a:moveTo>
                  <a:pt x="4671" y="8718"/>
                </a:moveTo>
                <a:cubicBezTo>
                  <a:pt x="5563" y="6093"/>
                  <a:pt x="8027" y="4327"/>
                  <a:pt x="10800" y="4328"/>
                </a:cubicBezTo>
                <a:cubicBezTo>
                  <a:pt x="13572" y="4328"/>
                  <a:pt x="16036" y="6093"/>
                  <a:pt x="16928" y="8718"/>
                </a:cubicBezTo>
                <a:lnTo>
                  <a:pt x="21026" y="7326"/>
                </a:lnTo>
                <a:cubicBezTo>
                  <a:pt x="19538" y="2946"/>
                  <a:pt x="15425" y="-1"/>
                  <a:pt x="10799" y="0"/>
                </a:cubicBezTo>
                <a:cubicBezTo>
                  <a:pt x="6174" y="0"/>
                  <a:pt x="2061" y="2946"/>
                  <a:pt x="573" y="7326"/>
                </a:cubicBezTo>
                <a:lnTo>
                  <a:pt x="4671" y="8718"/>
                </a:lnTo>
                <a:close/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2424600" y="483696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ra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634640" y="48006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ur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379560" y="4761000"/>
            <a:ext cx="17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scent mo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t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in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24F2-1E18-4F05-AFEA-E568CC1DB3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mericana BT"/>
              </a:rPr>
              <a:t>Bellwork</a:t>
            </a:r>
            <a:endParaRPr b="0" lang="en-US" sz="40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hat are the functions of hair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4884-54DD-47E6-9B39-6E9FD61B72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differences between animal and human hair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2666880" y="3962520"/>
            <a:ext cx="762120" cy="76176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4495680" y="4114800"/>
            <a:ext cx="1143000" cy="4572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 flipV="1">
            <a:off x="6477120" y="3428280"/>
            <a:ext cx="1600200" cy="1219320"/>
          </a:xfrm>
          <a:custGeom>
            <a:avLst/>
            <a:gdLst>
              <a:gd name="textAreaLeft" fmla="*/ 1800 w 1600200"/>
              <a:gd name="textAreaRight" fmla="*/ 1598400 w 1600200"/>
              <a:gd name="textAreaTop" fmla="*/ 0 h 1219320"/>
              <a:gd name="textAreaBottom" fmla="*/ 585000 h 1219320"/>
            </a:gdLst>
            <a:ahLst/>
            <a:rect l="textAreaLeft" t="textAreaTop" r="textAreaRight" b="textAreaBottom"/>
            <a:pathLst>
              <a:path w="21600" h="21600">
                <a:moveTo>
                  <a:pt x="4671" y="8718"/>
                </a:moveTo>
                <a:cubicBezTo>
                  <a:pt x="5563" y="6093"/>
                  <a:pt x="8027" y="4327"/>
                  <a:pt x="10800" y="4328"/>
                </a:cubicBezTo>
                <a:cubicBezTo>
                  <a:pt x="13572" y="4328"/>
                  <a:pt x="16036" y="6093"/>
                  <a:pt x="16928" y="8718"/>
                </a:cubicBezTo>
                <a:lnTo>
                  <a:pt x="21026" y="7326"/>
                </a:lnTo>
                <a:cubicBezTo>
                  <a:pt x="19538" y="2946"/>
                  <a:pt x="15425" y="-1"/>
                  <a:pt x="10799" y="0"/>
                </a:cubicBezTo>
                <a:cubicBezTo>
                  <a:pt x="6174" y="0"/>
                  <a:pt x="2061" y="2946"/>
                  <a:pt x="573" y="7326"/>
                </a:cubicBezTo>
                <a:lnTo>
                  <a:pt x="4671" y="8718"/>
                </a:lnTo>
                <a:close/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2424600" y="483696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ra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634640" y="48006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ur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6379560" y="4761000"/>
            <a:ext cx="17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scent mo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t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in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9727-35C4-45B8-B3E8-0CB96BB026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80"/>
                </a:solidFill>
                <a:latin typeface="Americana BT"/>
              </a:rPr>
              <a:t>Types of Hair </a:t>
            </a:r>
            <a:endParaRPr b="0" lang="en-US" sz="60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01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uman hair varies on the bod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ead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yebrows 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Lashes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Mustache 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Beard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nderarms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Body hair 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spcBef>
                <a:spcPts val="799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ubic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9AFC-12AE-4840-A0E6-44E6695B2C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ir Growth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99072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749"/>
              </a:spcBef>
              <a:buClr>
                <a:srgbClr val="00008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39000" indent="-245520">
              <a:lnSpc>
                <a:spcPct val="100000"/>
              </a:lnSpc>
              <a:spcBef>
                <a:spcPts val="1749"/>
              </a:spcBef>
              <a:buClr>
                <a:srgbClr val="00008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a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 that i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ing; lasting up to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_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39000" indent="-245520">
              <a:lnSpc>
                <a:spcPct val="100000"/>
              </a:lnSpc>
              <a:spcBef>
                <a:spcPts val="1749"/>
              </a:spcBef>
              <a:buClr>
                <a:srgbClr val="00008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a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 is growing and changing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39000" indent="-245520">
              <a:lnSpc>
                <a:spcPct val="100000"/>
              </a:lnSpc>
              <a:spcBef>
                <a:spcPts val="1749"/>
              </a:spcBef>
              <a:buClr>
                <a:srgbClr val="00008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lo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 that i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rm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eady to fall out; lasting two to six months (follicle is dormant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94840" indent="-294840">
              <a:lnSpc>
                <a:spcPct val="100000"/>
              </a:lnSpc>
              <a:spcBef>
                <a:spcPts val="1749"/>
              </a:spcBef>
              <a:buClr>
                <a:srgbClr val="00008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s about 0.5 mm per day or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 centimeter per mon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approximately on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al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h per month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F53A-7FC6-4735-9E30-CA5EDDA86A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Root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pic>
        <p:nvPicPr>
          <p:cNvPr id="165" name="Picture 37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438280" y="3581280"/>
            <a:ext cx="2438640" cy="210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9" descr=""/>
          <p:cNvPicPr/>
          <p:nvPr/>
        </p:nvPicPr>
        <p:blipFill>
          <a:blip r:embed="rId2"/>
          <a:stretch/>
        </p:blipFill>
        <p:spPr>
          <a:xfrm>
            <a:off x="5181480" y="3571920"/>
            <a:ext cx="2667240" cy="2103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1"/>
          <p:cNvSpPr/>
          <p:nvPr/>
        </p:nvSpPr>
        <p:spPr>
          <a:xfrm>
            <a:off x="2286000" y="1371600"/>
            <a:ext cx="59436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root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fferent based on        whether they have bee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orcib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moved or if they are telogen hairs and have fallen out. Animal roots will vary, but in general have a spear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3"/>
          <p:cNvSpPr/>
          <p:nvPr/>
        </p:nvSpPr>
        <p:spPr>
          <a:xfrm>
            <a:off x="3733920" y="53341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len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4"/>
          <p:cNvSpPr/>
          <p:nvPr/>
        </p:nvSpPr>
        <p:spPr>
          <a:xfrm>
            <a:off x="6019920" y="5334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cibly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4AC2-EC40-4BAC-8291-65C4866961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ir Comparison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08200" y="1366920"/>
            <a:ext cx="4114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, shape and color intensity of pigment granul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y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ir has color in cuticle and cortex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aching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ov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 and gives a yellow tint &amp; is brittle. Disturbs the scal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86040" y="1371600"/>
            <a:ext cx="3429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types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or absence of medulla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edullary typ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ry pattern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ry index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9370-3398-44BE-B7B6-864D52ADD7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69720"/>
            <a:ext cx="3962160" cy="14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000080"/>
                </a:solidFill>
                <a:latin typeface="Americana BT"/>
              </a:rPr>
              <a:t>Racial </a:t>
            </a:r>
            <a:br>
              <a:rPr sz="5400"/>
            </a:br>
            <a:r>
              <a:rPr b="0" lang="en-US" sz="5400" spc="-1" strike="noStrike">
                <a:solidFill>
                  <a:srgbClr val="000080"/>
                </a:solidFill>
                <a:latin typeface="Americana BT"/>
              </a:rPr>
              <a:t>Differences  </a:t>
            </a:r>
            <a:endParaRPr b="0" lang="en-US" sz="5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693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Broad, racial groups do exhibit some shared physical characteristics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But NOT applicable to all individuals in these group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erefore,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latino"/>
              </a:rPr>
              <a:t>Individual hairs CANNOT be assigned to any of these group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79" name="Picture 5" descr="fig25"/>
          <p:cNvPicPr/>
          <p:nvPr/>
        </p:nvPicPr>
        <p:blipFill>
          <a:blip r:embed="rId1"/>
          <a:stretch/>
        </p:blipFill>
        <p:spPr>
          <a:xfrm>
            <a:off x="4419720" y="493560"/>
            <a:ext cx="1600200" cy="1246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Untitled6"/>
          <p:cNvPicPr/>
          <p:nvPr/>
        </p:nvPicPr>
        <p:blipFill>
          <a:blip r:embed="rId2"/>
          <a:stretch/>
        </p:blipFill>
        <p:spPr>
          <a:xfrm>
            <a:off x="6004080" y="1204920"/>
            <a:ext cx="1600200" cy="644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Untitled6"/>
          <p:cNvPicPr/>
          <p:nvPr/>
        </p:nvPicPr>
        <p:blipFill>
          <a:blip r:embed="rId3"/>
          <a:stretch/>
        </p:blipFill>
        <p:spPr>
          <a:xfrm>
            <a:off x="5977080" y="512640"/>
            <a:ext cx="1600200" cy="692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fig27"/>
          <p:cNvPicPr/>
          <p:nvPr/>
        </p:nvPicPr>
        <p:blipFill>
          <a:blip r:embed="rId4"/>
          <a:stretch/>
        </p:blipFill>
        <p:spPr>
          <a:xfrm>
            <a:off x="7521480" y="576360"/>
            <a:ext cx="1600200" cy="12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439B-4D8C-43F3-AB9C-F7E0C70E87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NA from Hair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uclear D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f the hair has been forcibly removed, some follicular tissue may be attached containing DNA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ir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ha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abundan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itochondrial D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herited only from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It can be typed by comparing relatives if no DNA from the body is available. This process is more difficult and costly than using nuclear DNA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2CB4-597C-4618-B75E-E7B50F6561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lection of Hair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ed hairs must be accompanied by 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dequ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 of control samples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possible suspec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thers who may have deposited hair at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cen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Sampl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ll-length hairs from all areas of scalp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ll-length pubic hair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FC39-CEF3-4E46-B276-E801A43087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ir Toxicology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70102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asy to collect and stor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ternally availabl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rovide information on the individual’s history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ru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or of poisoning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s must be taken from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tions on the body to get an accurat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ime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0572-5515-496E-AAF5-24EE5113F7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70102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ings that hair can tell us?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2ABE-3F0A-4B09-A980-68ED081050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uman hai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e of the most frequently found pieces of evidence at the scene of a violent crime. It can provide a link between the criminal and the crime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hair one can determine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ource i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uman or anima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 (sometim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of the location on the source’s b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the hair was forcibly remove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hair has been treated with chemical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rugs have been ingeste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EAF0-ABB1-4D5B-BDE8-72E5D48188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ir Toxicology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6920" y="1828440"/>
            <a:ext cx="396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pole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d in exile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8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y analyzing his hair, some investigators suggest he wa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iso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deliberate administrat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se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others suggest that it was vapors from the dye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all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did him in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278280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09A9-B5C7-4B6E-B684-A64F984559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imal Hair 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d Human Hair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7693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igmentation: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SzPct val="90000"/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imal hair is denser toward the medull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SzPct val="90000"/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uman hair tends to be denser toward the cuticl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anded Color Patterns: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ssible in anima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t in human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edulla: much thicker in animals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08" name="Picture 4" descr="Ch 3 HairShaft01"/>
          <p:cNvPicPr/>
          <p:nvPr/>
        </p:nvPicPr>
        <p:blipFill>
          <a:blip r:embed="rId1"/>
          <a:stretch/>
        </p:blipFill>
        <p:spPr>
          <a:xfrm>
            <a:off x="7315200" y="1600200"/>
            <a:ext cx="182880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FAD7-29D2-4960-BD95-5E1DB64D21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678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imal Hair 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and Human Hair 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37335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Kartik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artika"/>
              </a:rPr>
              <a:t>Spinous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Kartika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Kartika"/>
              </a:rPr>
              <a:t>      </a:t>
            </a:r>
            <a:r>
              <a:rPr b="1" lang="en-US" sz="2400" spc="-1" strike="noStrike">
                <a:solidFill>
                  <a:srgbClr val="cc3300"/>
                </a:solidFill>
                <a:latin typeface="Kartika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artika"/>
              </a:rPr>
              <a:t>Coronal </a:t>
            </a:r>
            <a:r>
              <a:rPr b="1" lang="en-US" sz="2800" spc="-1" strike="noStrike">
                <a:solidFill>
                  <a:srgbClr val="cc3300"/>
                </a:solidFill>
                <a:latin typeface="Kartika"/>
              </a:rPr>
              <a:t>     </a:t>
            </a:r>
            <a:r>
              <a:rPr b="1" lang="en-US" sz="2800" spc="-1" strike="noStrike">
                <a:solidFill>
                  <a:srgbClr val="cc3300"/>
                </a:solidFill>
                <a:latin typeface="Kartika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Kartika"/>
              </a:rPr>
              <a:t>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artika"/>
              </a:rPr>
              <a:t>Imbricat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imals: cuticle scales resemble petals (spinous) or a stack of crowns (coronal)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umans: commonly flattened and narrow (imbricate)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but animals also have this pattern!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13" name="Picture 5" descr="Ch 3 Imbricate03"/>
          <p:cNvPicPr/>
          <p:nvPr/>
        </p:nvPicPr>
        <p:blipFill>
          <a:blip r:embed="rId1"/>
          <a:stretch/>
        </p:blipFill>
        <p:spPr>
          <a:xfrm>
            <a:off x="6400800" y="1714680"/>
            <a:ext cx="1371600" cy="1836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h 3 Spinous02"/>
          <p:cNvPicPr/>
          <p:nvPr/>
        </p:nvPicPr>
        <p:blipFill>
          <a:blip r:embed="rId2"/>
          <a:stretch/>
        </p:blipFill>
        <p:spPr>
          <a:xfrm>
            <a:off x="1371600" y="1585800"/>
            <a:ext cx="1471680" cy="1843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h 3 Coronal02"/>
          <p:cNvPicPr/>
          <p:nvPr/>
        </p:nvPicPr>
        <p:blipFill>
          <a:blip r:embed="rId3"/>
          <a:stretch/>
        </p:blipFill>
        <p:spPr>
          <a:xfrm>
            <a:off x="3886200" y="1585800"/>
            <a:ext cx="1295280" cy="19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88B6-A5D9-484E-AF82-5BBD7CCC64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. . . . . . . . . . . . . . Summary . . . . 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2388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ir functions to regulate temperature, reduce friction, protect from light, and produce sensory data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ir consists of a (a) hair shaft produced by a (b) follicle embedded in the skin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shaft consists of an outer cuticle, a cortex, and an inner medulla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ir characteristics vary depending on location on the body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28BA-F2FB-42A4-91C8-B2247AB2C3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. . . . . . . . . . . . . . . . . . Summary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162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ir development has three stages: anagen, catagen, and teloge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rious hair treatments produce characteristic effects useful to forensic experts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me characteristics can be grouped into general racial categories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ensic experts examine hair using chemicals, light, electrons, neutrons, and DNA sequencing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DF70-0718-4350-932E-5C923757B6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. . . . . . . . . . . . . . . . . . Bellwork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99840" y="19807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008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are topics we should discuss for the exam tomorrow?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7845-DE51-4CF6-AE39-9F3E15BD23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80"/>
                </a:solidFill>
                <a:latin typeface="Americana BT"/>
              </a:rPr>
              <a:t>The Function of Hair</a:t>
            </a:r>
            <a:endParaRPr b="0" lang="en-US" sz="60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Regulates body temperature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ecreases frict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rotects against sunligh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346F-E0F5-458B-A4E6-44964C4A1B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7604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mericana BT"/>
              </a:rPr>
              <a:t>The Structure of Hair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A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Palatino"/>
              </a:rPr>
              <a:t>follicle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embedded in the skin produces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Palatino"/>
              </a:rPr>
              <a:t>hair shaft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hree layers (illustrated above):  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901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he inner </a:t>
            </a:r>
            <a:r>
              <a:rPr b="0" lang="en-US" sz="3600" spc="-1" strike="noStrike">
                <a:solidFill>
                  <a:srgbClr val="cc3300"/>
                </a:solidFill>
                <a:latin typeface="Palatino"/>
              </a:rPr>
              <a:t>medulla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901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he </a:t>
            </a:r>
            <a:r>
              <a:rPr b="0" lang="en-US" sz="3600" spc="-1" strike="noStrike">
                <a:solidFill>
                  <a:srgbClr val="cc3300"/>
                </a:solidFill>
                <a:latin typeface="Palatino"/>
              </a:rPr>
              <a:t>cortex</a:t>
            </a: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901"/>
              </a:spcBef>
              <a:buClr>
                <a:srgbClr val="000080"/>
              </a:buClr>
              <a:buFont typeface="Palatino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the outer </a:t>
            </a:r>
            <a:r>
              <a:rPr b="0" lang="en-US" sz="3600" spc="-1" strike="noStrike">
                <a:solidFill>
                  <a:srgbClr val="cc3300"/>
                </a:solidFill>
                <a:latin typeface="Palatino"/>
              </a:rPr>
              <a:t>cuticle</a:t>
            </a:r>
            <a:endParaRPr b="0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59" name="Picture 4" descr="Ch 3 HairShaft01"/>
          <p:cNvPicPr/>
          <p:nvPr/>
        </p:nvPicPr>
        <p:blipFill>
          <a:blip r:embed="rId1"/>
          <a:stretch/>
        </p:blipFill>
        <p:spPr>
          <a:xfrm>
            <a:off x="6838920" y="762120"/>
            <a:ext cx="23050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1F83-B2D9-4ACE-945B-08C2B9A82A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in Structure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pic>
        <p:nvPicPr>
          <p:cNvPr id="63" name="Picture 1028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0102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EE00-09E7-4EFB-9508-CB1F3A1DB0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ir Shaft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posed of: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utic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ide covering, mad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al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rt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r layer made of keratin and imbedded with pigment; also contai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sa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cortical fusi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dul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de layer running down the center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5715000" y="1724040"/>
            <a:ext cx="32004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ensic Science: Fundamentals &amp; Investigations, Chapter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5A66-6D13-42F4-95DB-F641322073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mericana BT"/>
              </a:rPr>
              <a:t>Cuticles, Cortex, and Medulla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pic>
        <p:nvPicPr>
          <p:cNvPr id="72" name="Picture 4" descr="45866_f0303"/>
          <p:cNvPicPr/>
          <p:nvPr/>
        </p:nvPicPr>
        <p:blipFill>
          <a:blip r:embed="rId1"/>
          <a:stretch/>
        </p:blipFill>
        <p:spPr>
          <a:xfrm>
            <a:off x="2438280" y="1676520"/>
            <a:ext cx="57913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2895480" y="6245280"/>
            <a:ext cx="4038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dall/Hunt Publish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3FD8-A1A7-4626-9BBA-9A27D81351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uticle</a:t>
            </a:r>
            <a:endParaRPr b="0" lang="en-US" sz="4400" spc="-1" strike="noStrike">
              <a:solidFill>
                <a:srgbClr val="000080"/>
              </a:solidFill>
              <a:latin typeface="Americana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uter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yer of hair which is covered with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ca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scales point toward the tip of the hair. Scale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ff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species of animals and are named based on their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ppea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three basic patterns are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ou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bricat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172200" y="4267080"/>
            <a:ext cx="733320" cy="1737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>
            <a:alphaModFix amt="82000"/>
          </a:blip>
          <a:stretch/>
        </p:blipFill>
        <p:spPr>
          <a:xfrm>
            <a:off x="5334120" y="4267080"/>
            <a:ext cx="685800" cy="175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7086600" y="4267080"/>
            <a:ext cx="6746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20:58:22Z</dcterms:created>
  <dc:creator>Barbara Weekley</dc:creator>
  <dc:description/>
  <dc:language>en-US</dc:language>
  <cp:lastModifiedBy>Kerry Miyoshi</cp:lastModifiedBy>
  <dcterms:modified xsi:type="dcterms:W3CDTF">2017-01-23T19:56:44Z</dcterms:modified>
  <cp:revision>62</cp:revision>
  <dc:subject/>
  <dc:title>Hair</dc:title>
</cp:coreProperties>
</file>