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C5D7-4994-4591-97C8-3069001C4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214B-8AEB-47D5-AB2E-8B031E2B8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D652-A31C-4C3E-887F-2163A25A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5276-F202-4B3B-87E2-5A422E547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FD0F-1244-4ED5-AD94-D2F9E546A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12EF-05A4-4557-AE35-1EC8B751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A3BD-E3F0-44FB-8121-32A6027B6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5CF4-D111-468C-9A5C-55EBB6BC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BA60-0E6E-47E1-8E35-2B9B218D1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91FF-5FA9-42F7-9EEB-665296831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E2CC-DAD8-4996-8683-48846FEAB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1E47-C1BA-493F-8CDF-3EB13E7EC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1600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244920"/>
            <a:ext cx="4038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255-76AC-48F1-9E4A-FA4CED910C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humanhair"/>
          <p:cNvPicPr/>
          <p:nvPr/>
        </p:nvPicPr>
        <p:blipFill>
          <a:blip r:embed="rId2"/>
          <a:stretch/>
        </p:blipFill>
        <p:spPr>
          <a:xfrm>
            <a:off x="-533520" y="0"/>
            <a:ext cx="22240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pter 3:</a:t>
            </a:r>
            <a:br>
              <a:rPr sz="4800"/>
            </a:b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Hair</a:t>
            </a:r>
            <a:endParaRPr b="0" lang="en-US" sz="66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50496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ree days after death, hair and fingernails continue to grow bu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calls taper off.”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Cars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dian and television hos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71FF-8094-49CE-A305-FA69803E7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678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3657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Spinous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Kartik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Coronal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imals: cuticle scales resemble petals (spinous) or a stack of crowns (coronal)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umans: commonly flattened and narrow (imbricate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animals can also have imbricate!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84" name="Picture 5" descr="Ch 3 Imbricate03"/>
          <p:cNvPicPr/>
          <p:nvPr/>
        </p:nvPicPr>
        <p:blipFill>
          <a:blip r:embed="rId1"/>
          <a:stretch/>
        </p:blipFill>
        <p:spPr>
          <a:xfrm>
            <a:off x="6172200" y="1714680"/>
            <a:ext cx="1371600" cy="18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h 3 Spinous02"/>
          <p:cNvPicPr/>
          <p:nvPr/>
        </p:nvPicPr>
        <p:blipFill>
          <a:blip r:embed="rId2"/>
          <a:stretch/>
        </p:blipFill>
        <p:spPr>
          <a:xfrm>
            <a:off x="1752480" y="1752480"/>
            <a:ext cx="1471680" cy="18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h 3 Coronal02"/>
          <p:cNvPicPr/>
          <p:nvPr/>
        </p:nvPicPr>
        <p:blipFill>
          <a:blip r:embed="rId3"/>
          <a:stretch/>
        </p:blipFill>
        <p:spPr>
          <a:xfrm>
            <a:off x="4267080" y="1585800"/>
            <a:ext cx="129564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C94-FBB2-4D50-97C2-3ACC33697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an Scales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62720" y="1904760"/>
            <a:ext cx="3124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order to visualize th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ar fingernail polish on a glass sl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lish begins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y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hair on the polis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lmost dry, lift off the hair and observe the scal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mprin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pattern is seen i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lide?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B1B-FCDA-4D3D-964B-6B4A26217C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rtex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rt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ives the hair its shape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ha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wo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jor characteristic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la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 granules that give hair it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lo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tribution of pigment varies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rtical fu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spaces, usually found nea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y be found throughout the hair shaf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6AC-CCC3-407A-958A-94700F7036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air core t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visible. The medulla comes in different types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00" name="Picture 17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924200" cy="1838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/>
          <p:cNvSpPr/>
          <p:nvPr/>
        </p:nvSpPr>
        <p:spPr>
          <a:xfrm>
            <a:off x="1676520" y="3048120"/>
            <a:ext cx="4343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mittent or interru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rag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pre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616-1B5A-4C2C-95AA-25F0A1BAF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Types of Medulla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2" descr="MedullaPatterns01 copy"/>
          <p:cNvPicPr/>
          <p:nvPr/>
        </p:nvPicPr>
        <p:blipFill>
          <a:blip r:embed="rId1"/>
          <a:stretch/>
        </p:blipFill>
        <p:spPr>
          <a:xfrm>
            <a:off x="1743120" y="1665360"/>
            <a:ext cx="74008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6336-F302-4B69-BD95-187978043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an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medulla may be continuous, fragmented or absent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43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C8B1-D2F5-4DEF-B655-6783987004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dullary Index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by measur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viding it by th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di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ullary Index for human hair is generall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/3 (0.33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imal hair, it is usuall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½ (0.5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18" name="Picture 1028" descr="mouse"/>
          <p:cNvPicPr/>
          <p:nvPr/>
        </p:nvPicPr>
        <p:blipFill>
          <a:blip r:embed="rId1">
            <a:lum bright="12000"/>
          </a:blip>
          <a:srcRect l="43714" t="28452" r="47505" b="60316"/>
          <a:stretch/>
        </p:blipFill>
        <p:spPr>
          <a:xfrm>
            <a:off x="6553080" y="1905120"/>
            <a:ext cx="18288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678168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BF7-F5A5-464B-8D84-A2C64CA129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Medulla Index—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s vs. Humans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123" name="Picture 4" descr="45866_f0311"/>
          <p:cNvPicPr/>
          <p:nvPr/>
        </p:nvPicPr>
        <p:blipFill>
          <a:blip r:embed="rId1"/>
          <a:stretch/>
        </p:blipFill>
        <p:spPr>
          <a:xfrm>
            <a:off x="1501920" y="2133720"/>
            <a:ext cx="76215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EC6-8353-47EA-A7F5-1C2548F20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Types of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2040" y="336528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Buckled 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   Blunt    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     Double Medull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 cross section: circular, triangular, irregular, or flattene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hape: influences the curl of the hai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exture: coarse or f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8" name="Picture 4" descr="Untitled3"/>
          <p:cNvPicPr/>
          <p:nvPr/>
        </p:nvPicPr>
        <p:blipFill>
          <a:blip r:embed="rId1"/>
          <a:stretch/>
        </p:blipFill>
        <p:spPr>
          <a:xfrm>
            <a:off x="1447920" y="789120"/>
            <a:ext cx="2085840" cy="181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h 3 BluntHair02"/>
          <p:cNvPicPr/>
          <p:nvPr/>
        </p:nvPicPr>
        <p:blipFill>
          <a:blip r:embed="rId2"/>
          <a:stretch/>
        </p:blipFill>
        <p:spPr>
          <a:xfrm>
            <a:off x="3733920" y="78912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Untitled4"/>
          <p:cNvPicPr/>
          <p:nvPr/>
        </p:nvPicPr>
        <p:blipFill>
          <a:blip r:embed="rId3"/>
          <a:stretch/>
        </p:blipFill>
        <p:spPr>
          <a:xfrm>
            <a:off x="6210360" y="762120"/>
            <a:ext cx="2514600" cy="1817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6477120" y="276696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733920" y="277020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o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1366920" y="280980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EADD-671E-4BC0-A6DE-A88A40D1D4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Shap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traight, curly or kinky depending o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ross-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ay be round, oval or crescent-shape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2666880" y="3962520"/>
            <a:ext cx="762120" cy="76176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495680" y="4114800"/>
            <a:ext cx="1143000" cy="457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 flipV="1">
            <a:off x="6477120" y="3428280"/>
            <a:ext cx="1600200" cy="1219320"/>
          </a:xfrm>
          <a:custGeom>
            <a:avLst/>
            <a:gdLst>
              <a:gd name="textAreaLeft" fmla="*/ 1800 w 1600200"/>
              <a:gd name="textAreaRight" fmla="*/ 1598400 w 1600200"/>
              <a:gd name="textAreaTop" fmla="*/ 0 h 1219320"/>
              <a:gd name="textAreaBottom" fmla="*/ 585000 h 1219320"/>
            </a:gdLst>
            <a:ahLst/>
            <a:rect l="textAreaLeft" t="textAreaTop" r="textAreaRight" b="textAreaBottom"/>
            <a:pathLst>
              <a:path w="21600" h="21600">
                <a:moveTo>
                  <a:pt x="4671" y="8718"/>
                </a:moveTo>
                <a:cubicBezTo>
                  <a:pt x="5563" y="6093"/>
                  <a:pt x="8027" y="4327"/>
                  <a:pt x="10800" y="4328"/>
                </a:cubicBezTo>
                <a:cubicBezTo>
                  <a:pt x="13572" y="4328"/>
                  <a:pt x="16036" y="6093"/>
                  <a:pt x="16928" y="8718"/>
                </a:cubicBezTo>
                <a:lnTo>
                  <a:pt x="21026" y="7326"/>
                </a:lnTo>
                <a:cubicBezTo>
                  <a:pt x="19538" y="2946"/>
                  <a:pt x="15425" y="-1"/>
                  <a:pt x="10799" y="0"/>
                </a:cubicBezTo>
                <a:cubicBezTo>
                  <a:pt x="6174" y="0"/>
                  <a:pt x="2061" y="2946"/>
                  <a:pt x="573" y="7326"/>
                </a:cubicBezTo>
                <a:lnTo>
                  <a:pt x="4671" y="8718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424600" y="48369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a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634640" y="4800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r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379560" y="476100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ent mo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in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112-57B6-4AF1-AB1A-A5F989350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mericana BT"/>
              </a:rPr>
              <a:t>Bellwork</a:t>
            </a:r>
            <a:endParaRPr b="0" lang="en-US" sz="4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at are the functions of hair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6B3-6E1A-44CC-A368-56E8330AB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fferences between animal and human hair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666880" y="3962520"/>
            <a:ext cx="762120" cy="76176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4495680" y="4114800"/>
            <a:ext cx="1143000" cy="457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 flipV="1">
            <a:off x="6477120" y="3428280"/>
            <a:ext cx="1600200" cy="1219320"/>
          </a:xfrm>
          <a:custGeom>
            <a:avLst/>
            <a:gdLst>
              <a:gd name="textAreaLeft" fmla="*/ 1800 w 1600200"/>
              <a:gd name="textAreaRight" fmla="*/ 1598400 w 1600200"/>
              <a:gd name="textAreaTop" fmla="*/ 0 h 1219320"/>
              <a:gd name="textAreaBottom" fmla="*/ 585000 h 1219320"/>
            </a:gdLst>
            <a:ahLst/>
            <a:rect l="textAreaLeft" t="textAreaTop" r="textAreaRight" b="textAreaBottom"/>
            <a:pathLst>
              <a:path w="21600" h="21600">
                <a:moveTo>
                  <a:pt x="4671" y="8718"/>
                </a:moveTo>
                <a:cubicBezTo>
                  <a:pt x="5563" y="6093"/>
                  <a:pt x="8027" y="4327"/>
                  <a:pt x="10800" y="4328"/>
                </a:cubicBezTo>
                <a:cubicBezTo>
                  <a:pt x="13572" y="4328"/>
                  <a:pt x="16036" y="6093"/>
                  <a:pt x="16928" y="8718"/>
                </a:cubicBezTo>
                <a:lnTo>
                  <a:pt x="21026" y="7326"/>
                </a:lnTo>
                <a:cubicBezTo>
                  <a:pt x="19538" y="2946"/>
                  <a:pt x="15425" y="-1"/>
                  <a:pt x="10799" y="0"/>
                </a:cubicBezTo>
                <a:cubicBezTo>
                  <a:pt x="6174" y="0"/>
                  <a:pt x="2061" y="2946"/>
                  <a:pt x="573" y="7326"/>
                </a:cubicBezTo>
                <a:lnTo>
                  <a:pt x="4671" y="8718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424600" y="48369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a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634640" y="4800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r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379560" y="476100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ent mo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in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20C-B1BD-434E-A522-6FB500D93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80"/>
                </a:solidFill>
                <a:latin typeface="Americana BT"/>
              </a:rPr>
              <a:t>Types of Hair </a:t>
            </a:r>
            <a:endParaRPr b="0" lang="en-US" sz="6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uman hair varies on the bod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ea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yebrows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ashe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ustache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ear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nderarm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ody hair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ubic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C34D-3E30-4CC2-8BB4-654344337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Growth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a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that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ing; lasting up to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_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is growing and changing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that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rm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ady to fall out; lasting two to six months (follicle is dormant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94840" indent="-29484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 about 0.5 mm per day 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 centimeter per mo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pproximately on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a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h per month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681A-06E4-40F9-9EA1-F03D5CD1F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o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165" name="Picture 37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38280" y="3581280"/>
            <a:ext cx="2438640" cy="210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9" descr=""/>
          <p:cNvPicPr/>
          <p:nvPr/>
        </p:nvPicPr>
        <p:blipFill>
          <a:blip r:embed="rId2"/>
          <a:stretch/>
        </p:blipFill>
        <p:spPr>
          <a:xfrm>
            <a:off x="5181480" y="3571920"/>
            <a:ext cx="2667240" cy="2103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1"/>
          <p:cNvSpPr/>
          <p:nvPr/>
        </p:nvSpPr>
        <p:spPr>
          <a:xfrm>
            <a:off x="2286000" y="1371600"/>
            <a:ext cx="59436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root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fferent based on        whether they have bee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ci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oved or if they are telogen hairs and have fallen out. Animal roots will vary, but in general have a spear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3"/>
          <p:cNvSpPr/>
          <p:nvPr/>
        </p:nvSpPr>
        <p:spPr>
          <a:xfrm>
            <a:off x="3733920" y="5334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len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4"/>
          <p:cNvSpPr/>
          <p:nvPr/>
        </p:nvSpPr>
        <p:spPr>
          <a:xfrm>
            <a:off x="6019920" y="5334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cibly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756-CEF7-44E8-83FF-240D14FD6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Comparison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08200" y="1366920"/>
            <a:ext cx="4114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shape and color intensity of pigment granul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y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ir has color in cuticle and cortex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aching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ov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 and gives a yellow tint &amp; is brittle. Disturbs the scal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429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ypes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r absence of medulla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ullary typ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ry pattern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ry index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64D7-1C45-4C2A-A128-7014AE779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69720"/>
            <a:ext cx="3962160" cy="14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000080"/>
                </a:solidFill>
                <a:latin typeface="Americana BT"/>
              </a:rPr>
              <a:t>Racial </a:t>
            </a:r>
            <a:br>
              <a:rPr sz="5400"/>
            </a:br>
            <a:r>
              <a:rPr b="0" lang="en-US" sz="5400" spc="-1" strike="noStrike">
                <a:solidFill>
                  <a:srgbClr val="000080"/>
                </a:solidFill>
                <a:latin typeface="Americana BT"/>
              </a:rPr>
              <a:t>Differences  </a:t>
            </a:r>
            <a:endParaRPr b="0" lang="en-US" sz="5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road, racial groups do exhibit some shared physical characteristic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ut NOT applicable to all individuals in these group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refore,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"/>
              </a:rPr>
              <a:t>Individual hairs CANNOT be assigned to any of these group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79" name="Picture 5" descr="fig25"/>
          <p:cNvPicPr/>
          <p:nvPr/>
        </p:nvPicPr>
        <p:blipFill>
          <a:blip r:embed="rId1"/>
          <a:stretch/>
        </p:blipFill>
        <p:spPr>
          <a:xfrm>
            <a:off x="4419720" y="49356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Untitled6"/>
          <p:cNvPicPr/>
          <p:nvPr/>
        </p:nvPicPr>
        <p:blipFill>
          <a:blip r:embed="rId2"/>
          <a:stretch/>
        </p:blipFill>
        <p:spPr>
          <a:xfrm>
            <a:off x="6004080" y="1204920"/>
            <a:ext cx="1600200" cy="64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Untitled6"/>
          <p:cNvPicPr/>
          <p:nvPr/>
        </p:nvPicPr>
        <p:blipFill>
          <a:blip r:embed="rId3"/>
          <a:stretch/>
        </p:blipFill>
        <p:spPr>
          <a:xfrm>
            <a:off x="5977080" y="512640"/>
            <a:ext cx="1600200" cy="69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fig27"/>
          <p:cNvPicPr/>
          <p:nvPr/>
        </p:nvPicPr>
        <p:blipFill>
          <a:blip r:embed="rId4"/>
          <a:stretch/>
        </p:blipFill>
        <p:spPr>
          <a:xfrm>
            <a:off x="7521480" y="576360"/>
            <a:ext cx="160020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EA4-14B7-465D-9F6A-6DE6DA60B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NA from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ar 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the hair has been forcibly removed, some follicular tissue may be attached containing DN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i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h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bunda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tochondrial 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herited only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t can be typed by comparing relatives if no DNA from the body is available. This process is more difficult and costly than using nuclear DNA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9F1-D8C6-4381-87B1-3EBF85679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lection of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ed hairs must be accompanied by 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dequ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control sample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ossible suspec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thers who may have deposited hair at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amp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-length hairs from all areas of scalp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-length pubic hair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8E5-F0E3-4307-AE1C-78E6FD0E3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Toxicolog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asy to collect and stor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ternally availabl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ovide information on the individual’s histor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or of poisoning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must be taken fro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tions on the body to get an accurat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im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BE6-B420-42CB-92B2-541357418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ings that hair can tell us?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6950-D36E-479E-B9DA-4CA774DA2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uman hai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frequently found pieces of evidence at the scene of a violent crime. It can provide a link between the criminal and the crim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air one can determine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ource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uman or anima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(sometim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the location on the source’s b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hair was forcibly remov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air has been treated with chemical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rugs have been ingest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46B4-C391-4105-9223-E7E6B185C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Toxicolog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pole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d in exile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analyzing his hair, some investigators suggest he w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iso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deliberate administra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se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others suggest that it was vapors from the dye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l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did him in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278280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238-3714-4C8D-9EEA-5A266FE04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7693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igmentation: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SzPct val="90000"/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imal hair is denser toward the medull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SzPct val="90000"/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uman hair tends to be denser toward the cuticl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anded Color Patterns: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ssible in anima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t in human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edulla: much thicker in animals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8" name="Picture 4" descr="Ch 3 HairShaft01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02B-D59D-4D06-B7C3-2BD0BE2566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678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3733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Spinous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Kartik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Coronal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imals: cuticle scales resemble petals (spinous) or a stack of crowns (coronal)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umans: commonly flattened and narrow (imbricate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but animals also have this pattern!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3" name="Picture 5" descr="Ch 3 Imbricate03"/>
          <p:cNvPicPr/>
          <p:nvPr/>
        </p:nvPicPr>
        <p:blipFill>
          <a:blip r:embed="rId1"/>
          <a:stretch/>
        </p:blipFill>
        <p:spPr>
          <a:xfrm>
            <a:off x="6400800" y="1714680"/>
            <a:ext cx="1371600" cy="18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h 3 Spinous02"/>
          <p:cNvPicPr/>
          <p:nvPr/>
        </p:nvPicPr>
        <p:blipFill>
          <a:blip r:embed="rId2"/>
          <a:stretch/>
        </p:blipFill>
        <p:spPr>
          <a:xfrm>
            <a:off x="1371600" y="1585800"/>
            <a:ext cx="1471680" cy="1843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h 3 Coronal02"/>
          <p:cNvPicPr/>
          <p:nvPr/>
        </p:nvPicPr>
        <p:blipFill>
          <a:blip r:embed="rId3"/>
          <a:stretch/>
        </p:blipFill>
        <p:spPr>
          <a:xfrm>
            <a:off x="3886200" y="1585800"/>
            <a:ext cx="129528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AE6-41AF-474E-A823-A631B89C9E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Summary . . . .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functions to regulate temperature, reduce friction, protect from light, and produce sensory data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consists of a (a) hair shaft produced by a (b) follicle embedded in the skin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shaft consists of an outer cuticle, a cortex, and an inner medull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characteristics vary depending on location on the body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DB6-1D5A-440D-B5A9-B9B5197D4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. . . . Summar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development has three stages: anagen, catagen, and teloge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rious hair treatments produce characteristic effects useful to forensic expert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 characteristics can be grouped into general racial categorie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ensic experts examine hair using chemicals, light, electrons, neutrons, and DNA sequencing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9B8-3BCD-40D6-8034-8CDF2D5DAB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. . . . 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opics we should discuss for the exam tomorrow?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20D-0B5B-432D-B82F-5C3D6AE255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80"/>
                </a:solidFill>
                <a:latin typeface="Americana BT"/>
              </a:rPr>
              <a:t>The Function of Hair</a:t>
            </a:r>
            <a:endParaRPr b="0" lang="en-US" sz="6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gulates body temperature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ecreases fric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rotects against sunligh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F642-4BBF-43C1-80BE-5FE43245C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7604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mericana BT"/>
              </a:rPr>
              <a:t>The Structure of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Palatino"/>
              </a:rPr>
              <a:t>follicle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embedded in the skin produce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Palatino"/>
              </a:rPr>
              <a:t>hair shaft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ree layers (illustrated above): 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inner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cortex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outer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59" name="Picture 4" descr="Ch 3 HairShaft01"/>
          <p:cNvPicPr/>
          <p:nvPr/>
        </p:nvPicPr>
        <p:blipFill>
          <a:blip r:embed="rId1"/>
          <a:stretch/>
        </p:blipFill>
        <p:spPr>
          <a:xfrm>
            <a:off x="6838920" y="762120"/>
            <a:ext cx="2305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6BD-4E52-4A06-92D1-3BE70F1E9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n Structur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63" name="Picture 1028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010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711-0DFE-4001-963C-1360F7805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Shaf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osed of: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uti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covering, mad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rt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layer made of keratin and imbedded with pigment; also conta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sa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cortical fusi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u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layer running down the center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715000" y="1724040"/>
            <a:ext cx="3200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63F-67C2-4DBA-B155-8E8661BFE7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Cuticles, Cortex, and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72" name="Picture 4" descr="45866_f0303"/>
          <p:cNvPicPr/>
          <p:nvPr/>
        </p:nvPicPr>
        <p:blipFill>
          <a:blip r:embed="rId1"/>
          <a:stretch/>
        </p:blipFill>
        <p:spPr>
          <a:xfrm>
            <a:off x="2438280" y="1676520"/>
            <a:ext cx="57913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62B-210C-47C2-8D59-97A283C1A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ticl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yer of hair which is covered with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scales point toward the tip of the hair. Scal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species of animals and are named based on thei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ppea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hree basic patterns are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ou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733320" cy="173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>
            <a:alphaModFix amt="82000"/>
          </a:blip>
          <a:stretch/>
        </p:blipFill>
        <p:spPr>
          <a:xfrm>
            <a:off x="5334120" y="4267080"/>
            <a:ext cx="685800" cy="175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7086600" y="4267080"/>
            <a:ext cx="674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20:58:22Z</dcterms:created>
  <dc:creator>Barbara Weekley</dc:creator>
  <dc:description/>
  <dc:language>en-US</dc:language>
  <cp:lastModifiedBy>Kerry Miyoshi</cp:lastModifiedBy>
  <dcterms:modified xsi:type="dcterms:W3CDTF">2017-01-23T19:56:44Z</dcterms:modified>
  <cp:revision>62</cp:revision>
  <dc:subject/>
  <dc:title>Hair</dc:title>
</cp:coreProperties>
</file>