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7FB9-5A46-48FE-98E7-5C7D80588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6F4C-9CC9-49ED-9FF0-2A190CCBC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8760-7F40-4079-B6C4-841E5E13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B8E0-7A52-4991-BA8E-F02B269A6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BA57-2E37-4157-B795-93CDE724B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0D29-8FCB-4246-8811-23593752A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D201-C933-4E0C-B703-32BF6DC9C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2DD6-D96B-4045-99DE-C0165961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4EDC-5AC5-4E5F-8D14-039788D57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0524-2DD9-49C8-854C-AD1A211BE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DDD7-6D7A-4EE0-805C-84D3711F0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5EA8-7971-4B90-96F7-850787E44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2E29-4806-406B-8E85-D02410D81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F4E3-06E0-44D9-A002-8F9C10B9D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0F90-5B34-4F54-9A35-6137E86A4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364C-C5E4-41F3-83FA-EDA5314F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F682-6ED2-43B1-99F7-41436A5A2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0955-6E40-4BB7-8C3A-329A328CC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C85A-990C-4A09-95B4-A860748E6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C519-A286-429F-B077-C10A60409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5B9D-402D-47FA-AA8C-7762DFA4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7483-E546-44AD-80E9-5D86276F2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99D3-069E-4FE7-B9AF-690E06D8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E8F5-A8C8-430F-8341-7806289AE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A518-9785-4436-B9BB-4AEE08B84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02DE-09B4-49CE-A98B-6DAD13509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35F6-E8F1-4064-9557-02DECDEF3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6C2-32C7-44F3-AFA0-E19EA804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D1C-5F58-441A-9E7F-99A06C82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147-B6F1-43E6-86C8-0DCFF703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AF1-7688-47E7-BE24-C4F9755F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59F-C6A1-4E71-8D9B-85DE316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E5B-D0E1-4C37-9181-7D807DBB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C13-C305-4067-9353-7197C36A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7EF-E9EC-4C65-A54C-0C40FF48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58D-E3F0-4D12-9347-280EE426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02E-9CCF-4B3E-8478-4EA3BA3E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5B9-1063-45AD-B7AF-070C2433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9B4-7CB8-4B31-95F7-2F20B720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F6B1-0D79-4C03-8A2B-E2D2CC767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loodbasicslogo"/>
          <p:cNvPicPr/>
          <p:nvPr/>
        </p:nvPicPr>
        <p:blipFill>
          <a:blip r:embed="rId1"/>
          <a:stretch/>
        </p:blipFill>
        <p:spPr>
          <a:xfrm>
            <a:off x="152280" y="914400"/>
            <a:ext cx="86868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PLAS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yellowish liquid portion of blood that contains electrolytes, nutrients and vitamins, hormones, clotting factors, and proteins such as antibodies to fight inf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 SER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iquid that separates from the blood when a clot is form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. ANTI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ubstance, usually a protein, that stimulates the body to produce antibodies agains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. FIBRIN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rotein in the plasma that causes clo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. ANTIBO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tein in the blood serum that destroys or inactivates a specific anti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4628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. How is our blood type determin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Your blood type is established before you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specifi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herited from your parents (you receive one gene from yo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one from yo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These two genes determine your blood type by causing proteins (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GLUTINOGEN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xist on the surface of all of your red blood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. What are blood typ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219320" y="3360600"/>
            <a:ext cx="6629400" cy="3269520"/>
            <a:chOff x="1219320" y="3360600"/>
            <a:chExt cx="6629400" cy="3269520"/>
          </a:xfrm>
        </p:grpSpPr>
        <p:pic>
          <p:nvPicPr>
            <p:cNvPr id="74" name="Picture 4" descr=""/>
            <p:cNvPicPr/>
            <p:nvPr/>
          </p:nvPicPr>
          <p:blipFill>
            <a:blip r:embed="rId1"/>
            <a:stretch/>
          </p:blipFill>
          <p:spPr>
            <a:xfrm>
              <a:off x="1219320" y="3360600"/>
              <a:ext cx="6629400" cy="305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5"/>
            <p:cNvSpPr/>
            <p:nvPr/>
          </p:nvSpPr>
          <p:spPr>
            <a:xfrm>
              <a:off x="2187720" y="6353640"/>
              <a:ext cx="46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tp://learn.genetics.utah.edu/units/basics/blood/types.cf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457200" y="1447920"/>
            <a:ext cx="8001000" cy="1608480"/>
            <a:chOff x="457200" y="1447920"/>
            <a:chExt cx="8001000" cy="1608480"/>
          </a:xfrm>
        </p:grpSpPr>
        <p:sp>
          <p:nvSpPr>
            <p:cNvPr id="77" name="Text Box 7"/>
            <p:cNvSpPr/>
            <p:nvPr/>
          </p:nvSpPr>
          <p:spPr>
            <a:xfrm>
              <a:off x="457200" y="1447920"/>
              <a:ext cx="525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re are 3 alleles or genes for blood type:  A, B, &amp; O. Since we have 2 genes, there are 6 possible combin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6019920" y="1447920"/>
              <a:ext cx="2438280" cy="1608480"/>
            </a:xfrm>
            <a:prstGeom prst="rect">
              <a:avLst/>
            </a:prstGeom>
            <a:solidFill>
              <a:srgbClr val="a5002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lood Typ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A or AO = Type 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B or BO = Type B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OO = Type O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B = Type 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llwork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re the different blood typ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yp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ype A antigens on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nti B antibodies in s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Typ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ype B antigens on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nti A antibodies in s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Type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oth A and B antigens on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either Anti A or Anti B antibodies in s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ype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either A or B antigens on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oth Anti A and Anti B antibodies in s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67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blood does the human body cont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457200" y="762120"/>
            <a:ext cx="8228880" cy="5486040"/>
            <a:chOff x="457200" y="762120"/>
            <a:chExt cx="8228880" cy="5486040"/>
          </a:xfrm>
        </p:grpSpPr>
        <p:sp>
          <p:nvSpPr>
            <p:cNvPr id="83" name="Rectangle 5"/>
            <p:cNvSpPr/>
            <p:nvPr/>
          </p:nvSpPr>
          <p:spPr>
            <a:xfrm>
              <a:off x="457200" y="762120"/>
              <a:ext cx="822888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6"/>
            <p:cNvGrpSpPr/>
            <p:nvPr/>
          </p:nvGrpSpPr>
          <p:grpSpPr>
            <a:xfrm>
              <a:off x="950760" y="974880"/>
              <a:ext cx="7239960" cy="4960800"/>
              <a:chOff x="950760" y="974880"/>
              <a:chExt cx="7239960" cy="4960800"/>
            </a:xfrm>
          </p:grpSpPr>
          <p:grpSp>
            <p:nvGrpSpPr>
              <p:cNvPr id="85" name="Group 7"/>
              <p:cNvGrpSpPr/>
              <p:nvPr/>
            </p:nvGrpSpPr>
            <p:grpSpPr>
              <a:xfrm>
                <a:off x="950760" y="1924560"/>
                <a:ext cx="7239960" cy="4011120"/>
                <a:chOff x="950760" y="1924560"/>
                <a:chExt cx="7239960" cy="4011120"/>
              </a:xfrm>
            </p:grpSpPr>
            <p:sp>
              <p:nvSpPr>
                <p:cNvPr id="86" name="Text Box 8"/>
                <p:cNvSpPr/>
                <p:nvPr/>
              </p:nvSpPr>
              <p:spPr>
                <a:xfrm>
                  <a:off x="950760" y="5689440"/>
                  <a:ext cx="723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://www.lanecountyblood.org/images/other/bloodfacts.jp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" name="Group 9"/>
                <p:cNvGrpSpPr/>
                <p:nvPr/>
              </p:nvGrpSpPr>
              <p:grpSpPr>
                <a:xfrm>
                  <a:off x="1115280" y="1924560"/>
                  <a:ext cx="6417000" cy="3726360"/>
                  <a:chOff x="1115280" y="1924560"/>
                  <a:chExt cx="6417000" cy="3726360"/>
                </a:xfrm>
              </p:grpSpPr>
              <p:pic>
                <p:nvPicPr>
                  <p:cNvPr id="88" name="Picture 1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72640" y="2354760"/>
                    <a:ext cx="5512320" cy="32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9" name="Text Box 11"/>
                  <p:cNvSpPr/>
                  <p:nvPr/>
                </p:nvSpPr>
                <p:spPr>
                  <a:xfrm>
                    <a:off x="6380280" y="4611600"/>
                    <a:ext cx="11520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5%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Text Box 12"/>
                  <p:cNvSpPr/>
                  <p:nvPr/>
                </p:nvSpPr>
                <p:spPr>
                  <a:xfrm>
                    <a:off x="1608840" y="5151240"/>
                    <a:ext cx="1151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0%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3"/>
                  <p:cNvSpPr/>
                  <p:nvPr/>
                </p:nvSpPr>
                <p:spPr>
                  <a:xfrm>
                    <a:off x="1115280" y="3000240"/>
                    <a:ext cx="1151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%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Text Box 14"/>
                  <p:cNvSpPr/>
                  <p:nvPr/>
                </p:nvSpPr>
                <p:spPr>
                  <a:xfrm>
                    <a:off x="3089520" y="1924560"/>
                    <a:ext cx="1151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%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" name="Text Box 15"/>
              <p:cNvSpPr/>
              <p:nvPr/>
            </p:nvSpPr>
            <p:spPr>
              <a:xfrm>
                <a:off x="1197000" y="974880"/>
                <a:ext cx="674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ow common are the 4 blood types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2"/>
          <p:cNvSpPr/>
          <p:nvPr/>
        </p:nvSpPr>
        <p:spPr>
          <a:xfrm>
            <a:off x="152280" y="304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. Blood Ty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4"/>
          <p:cNvGrpSpPr/>
          <p:nvPr/>
        </p:nvGrpSpPr>
        <p:grpSpPr>
          <a:xfrm>
            <a:off x="6248520" y="914400"/>
            <a:ext cx="2743200" cy="5333760"/>
            <a:chOff x="6248520" y="914400"/>
            <a:chExt cx="2743200" cy="5333760"/>
          </a:xfrm>
        </p:grpSpPr>
        <p:sp>
          <p:nvSpPr>
            <p:cNvPr id="96" name="Text Box 23"/>
            <p:cNvSpPr/>
            <p:nvPr/>
          </p:nvSpPr>
          <p:spPr>
            <a:xfrm>
              <a:off x="6248520" y="91440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. Use the results shown to determine the blood type for each sample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5"/>
            <p:cNvSpPr/>
            <p:nvPr/>
          </p:nvSpPr>
          <p:spPr>
            <a:xfrm>
              <a:off x="6496200" y="2057400"/>
              <a:ext cx="2247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No Clump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6"/>
            <p:cNvSpPr/>
            <p:nvPr/>
          </p:nvSpPr>
          <p:spPr>
            <a:xfrm>
              <a:off x="6667560" y="18288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Clu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36"/>
            <p:cNvGrpSpPr/>
            <p:nvPr/>
          </p:nvGrpSpPr>
          <p:grpSpPr>
            <a:xfrm>
              <a:off x="6615360" y="3047760"/>
              <a:ext cx="2009160" cy="3200400"/>
              <a:chOff x="6615360" y="3047760"/>
              <a:chExt cx="2009160" cy="3200400"/>
            </a:xfrm>
          </p:grpSpPr>
          <p:grpSp>
            <p:nvGrpSpPr>
              <p:cNvPr id="100" name="Group 37"/>
              <p:cNvGrpSpPr/>
              <p:nvPr/>
            </p:nvGrpSpPr>
            <p:grpSpPr>
              <a:xfrm>
                <a:off x="6615360" y="3047760"/>
                <a:ext cx="2009160" cy="3200400"/>
                <a:chOff x="6615360" y="3047760"/>
                <a:chExt cx="2009160" cy="3200400"/>
              </a:xfrm>
            </p:grpSpPr>
            <p:grpSp>
              <p:nvGrpSpPr>
                <p:cNvPr id="101" name="Group 38"/>
                <p:cNvGrpSpPr/>
                <p:nvPr/>
              </p:nvGrpSpPr>
              <p:grpSpPr>
                <a:xfrm>
                  <a:off x="6615360" y="3047760"/>
                  <a:ext cx="2009160" cy="2590560"/>
                  <a:chOff x="6615360" y="3047760"/>
                  <a:chExt cx="2009160" cy="2590560"/>
                </a:xfrm>
              </p:grpSpPr>
              <p:sp>
                <p:nvSpPr>
                  <p:cNvPr id="102" name="Rectangle 39"/>
                  <p:cNvSpPr/>
                  <p:nvPr/>
                </p:nvSpPr>
                <p:spPr>
                  <a:xfrm>
                    <a:off x="6615360" y="3047760"/>
                    <a:ext cx="2009160" cy="2590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Oval 40"/>
                  <p:cNvSpPr/>
                  <p:nvPr/>
                </p:nvSpPr>
                <p:spPr>
                  <a:xfrm>
                    <a:off x="7906680" y="3911400"/>
                    <a:ext cx="430920" cy="863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Text Box 41"/>
                  <p:cNvSpPr/>
                  <p:nvPr/>
                </p:nvSpPr>
                <p:spPr>
                  <a:xfrm>
                    <a:off x="6723360" y="3155400"/>
                    <a:ext cx="322560" cy="4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Oval 42"/>
                  <p:cNvSpPr/>
                  <p:nvPr/>
                </p:nvSpPr>
                <p:spPr>
                  <a:xfrm>
                    <a:off x="7046280" y="3371400"/>
                    <a:ext cx="428760" cy="8636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Text Box 43"/>
                  <p:cNvSpPr/>
                  <p:nvPr/>
                </p:nvSpPr>
                <p:spPr>
                  <a:xfrm>
                    <a:off x="6740280" y="5061960"/>
                    <a:ext cx="305640" cy="4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Oval 44"/>
                  <p:cNvSpPr/>
                  <p:nvPr/>
                </p:nvSpPr>
                <p:spPr>
                  <a:xfrm>
                    <a:off x="7046280" y="4559040"/>
                    <a:ext cx="428760" cy="863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Text Box 45"/>
                  <p:cNvSpPr/>
                  <p:nvPr/>
                </p:nvSpPr>
                <p:spPr>
                  <a:xfrm>
                    <a:off x="7814880" y="3518640"/>
                    <a:ext cx="62856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46"/>
                <p:cNvSpPr/>
                <p:nvPr/>
              </p:nvSpPr>
              <p:spPr>
                <a:xfrm>
                  <a:off x="6615360" y="5867280"/>
                  <a:ext cx="19810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lood Type: ___ 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Line 47"/>
              <p:cNvSpPr/>
              <p:nvPr/>
            </p:nvSpPr>
            <p:spPr>
              <a:xfrm>
                <a:off x="7110720" y="5016240"/>
                <a:ext cx="28728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48"/>
              <p:cNvGrpSpPr/>
              <p:nvPr/>
            </p:nvGrpSpPr>
            <p:grpSpPr>
              <a:xfrm>
                <a:off x="7110720" y="3670200"/>
                <a:ext cx="287280" cy="287280"/>
                <a:chOff x="7110720" y="3670200"/>
                <a:chExt cx="287280" cy="287280"/>
              </a:xfrm>
            </p:grpSpPr>
            <p:sp>
              <p:nvSpPr>
                <p:cNvPr id="112" name="Line 49"/>
                <p:cNvSpPr/>
                <p:nvPr/>
              </p:nvSpPr>
              <p:spPr>
                <a:xfrm>
                  <a:off x="7110720" y="3813840"/>
                  <a:ext cx="287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50"/>
                <p:cNvSpPr/>
                <p:nvPr/>
              </p:nvSpPr>
              <p:spPr>
                <a:xfrm flipV="1">
                  <a:off x="7254360" y="3670200"/>
                  <a:ext cx="0" cy="28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51"/>
              <p:cNvGrpSpPr/>
              <p:nvPr/>
            </p:nvGrpSpPr>
            <p:grpSpPr>
              <a:xfrm>
                <a:off x="7974000" y="4216320"/>
                <a:ext cx="287640" cy="287280"/>
                <a:chOff x="7974000" y="4216320"/>
                <a:chExt cx="287640" cy="287280"/>
              </a:xfrm>
            </p:grpSpPr>
            <p:sp>
              <p:nvSpPr>
                <p:cNvPr id="115" name="Line 52"/>
                <p:cNvSpPr/>
                <p:nvPr/>
              </p:nvSpPr>
              <p:spPr>
                <a:xfrm>
                  <a:off x="7974000" y="4359960"/>
                  <a:ext cx="28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53"/>
                <p:cNvSpPr/>
                <p:nvPr/>
              </p:nvSpPr>
              <p:spPr>
                <a:xfrm flipV="1">
                  <a:off x="8117640" y="4216320"/>
                  <a:ext cx="0" cy="28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57"/>
          <p:cNvGrpSpPr/>
          <p:nvPr/>
        </p:nvGrpSpPr>
        <p:grpSpPr>
          <a:xfrm>
            <a:off x="228600" y="990720"/>
            <a:ext cx="5867280" cy="5586120"/>
            <a:chOff x="228600" y="990720"/>
            <a:chExt cx="5867280" cy="5586120"/>
          </a:xfrm>
        </p:grpSpPr>
        <p:pic>
          <p:nvPicPr>
            <p:cNvPr id="118" name="Picture 28" descr="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52396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30"/>
            <p:cNvSpPr/>
            <p:nvPr/>
          </p:nvSpPr>
          <p:spPr>
            <a:xfrm>
              <a:off x="2819520" y="1066680"/>
              <a:ext cx="3047760" cy="33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determine a person’s blood type, we add three different serums to blood samples and see if clumps form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umps = Positive (+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 Clumps = Negative (-)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the blood type be for this sample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5" descr=""/>
            <p:cNvPicPr/>
            <p:nvPr/>
          </p:nvPicPr>
          <p:blipFill>
            <a:blip r:embed="rId2"/>
            <a:srcRect l="45626" t="37308" r="22343" b="42009"/>
            <a:stretch/>
          </p:blipFill>
          <p:spPr>
            <a:xfrm>
              <a:off x="1295280" y="4648320"/>
              <a:ext cx="480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55"/>
            <p:cNvSpPr/>
            <p:nvPr/>
          </p:nvSpPr>
          <p:spPr>
            <a:xfrm>
              <a:off x="533520" y="52578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#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6"/>
            <p:cNvSpPr/>
            <p:nvPr/>
          </p:nvSpPr>
          <p:spPr>
            <a:xfrm flipH="1">
              <a:off x="2437920" y="39625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89"/>
          <p:cNvGrpSpPr/>
          <p:nvPr/>
        </p:nvGrpSpPr>
        <p:grpSpPr>
          <a:xfrm>
            <a:off x="4772160" y="152280"/>
            <a:ext cx="2009160" cy="3200400"/>
            <a:chOff x="4772160" y="152280"/>
            <a:chExt cx="2009160" cy="3200400"/>
          </a:xfrm>
        </p:grpSpPr>
        <p:grpSp>
          <p:nvGrpSpPr>
            <p:cNvPr id="124" name="Group 40"/>
            <p:cNvGrpSpPr/>
            <p:nvPr/>
          </p:nvGrpSpPr>
          <p:grpSpPr>
            <a:xfrm>
              <a:off x="4772160" y="152280"/>
              <a:ext cx="2009160" cy="3200400"/>
              <a:chOff x="4772160" y="152280"/>
              <a:chExt cx="2009160" cy="3200400"/>
            </a:xfrm>
          </p:grpSpPr>
          <p:grpSp>
            <p:nvGrpSpPr>
              <p:cNvPr id="125" name="Group 41"/>
              <p:cNvGrpSpPr/>
              <p:nvPr/>
            </p:nvGrpSpPr>
            <p:grpSpPr>
              <a:xfrm>
                <a:off x="4772160" y="152280"/>
                <a:ext cx="2009160" cy="2590560"/>
                <a:chOff x="4772160" y="152280"/>
                <a:chExt cx="2009160" cy="2590560"/>
              </a:xfrm>
            </p:grpSpPr>
            <p:sp>
              <p:nvSpPr>
                <p:cNvPr id="126" name="Rectangle 42"/>
                <p:cNvSpPr/>
                <p:nvPr/>
              </p:nvSpPr>
              <p:spPr>
                <a:xfrm>
                  <a:off x="4772160" y="152280"/>
                  <a:ext cx="2009160" cy="2590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43"/>
                <p:cNvSpPr/>
                <p:nvPr/>
              </p:nvSpPr>
              <p:spPr>
                <a:xfrm>
                  <a:off x="6063480" y="1015920"/>
                  <a:ext cx="43092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44"/>
                <p:cNvSpPr/>
                <p:nvPr/>
              </p:nvSpPr>
              <p:spPr>
                <a:xfrm>
                  <a:off x="4880160" y="259920"/>
                  <a:ext cx="32256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45"/>
                <p:cNvSpPr/>
                <p:nvPr/>
              </p:nvSpPr>
              <p:spPr>
                <a:xfrm>
                  <a:off x="5203080" y="475920"/>
                  <a:ext cx="428760" cy="86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Text Box 46"/>
                <p:cNvSpPr/>
                <p:nvPr/>
              </p:nvSpPr>
              <p:spPr>
                <a:xfrm>
                  <a:off x="4897080" y="2166480"/>
                  <a:ext cx="30564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Oval 47"/>
                <p:cNvSpPr/>
                <p:nvPr/>
              </p:nvSpPr>
              <p:spPr>
                <a:xfrm>
                  <a:off x="5203080" y="1663560"/>
                  <a:ext cx="42876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48"/>
                <p:cNvSpPr/>
                <p:nvPr/>
              </p:nvSpPr>
              <p:spPr>
                <a:xfrm>
                  <a:off x="5971680" y="623160"/>
                  <a:ext cx="628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Text Box 49"/>
              <p:cNvSpPr/>
              <p:nvPr/>
            </p:nvSpPr>
            <p:spPr>
              <a:xfrm>
                <a:off x="4772160" y="2971800"/>
                <a:ext cx="19810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8"/>
            <p:cNvGrpSpPr/>
            <p:nvPr/>
          </p:nvGrpSpPr>
          <p:grpSpPr>
            <a:xfrm>
              <a:off x="5270400" y="1968480"/>
              <a:ext cx="287280" cy="287280"/>
              <a:chOff x="5270400" y="1968480"/>
              <a:chExt cx="287280" cy="287280"/>
            </a:xfrm>
          </p:grpSpPr>
          <p:sp>
            <p:nvSpPr>
              <p:cNvPr id="135" name="Line 19"/>
              <p:cNvSpPr/>
              <p:nvPr/>
            </p:nvSpPr>
            <p:spPr>
              <a:xfrm>
                <a:off x="5270400" y="211212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20"/>
              <p:cNvSpPr/>
              <p:nvPr/>
            </p:nvSpPr>
            <p:spPr>
              <a:xfrm flipV="1">
                <a:off x="5414040" y="196848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53"/>
            <p:cNvGrpSpPr/>
            <p:nvPr/>
          </p:nvGrpSpPr>
          <p:grpSpPr>
            <a:xfrm>
              <a:off x="5270400" y="761760"/>
              <a:ext cx="287280" cy="287280"/>
              <a:chOff x="5270400" y="761760"/>
              <a:chExt cx="287280" cy="287280"/>
            </a:xfrm>
          </p:grpSpPr>
          <p:sp>
            <p:nvSpPr>
              <p:cNvPr id="138" name="Line 54"/>
              <p:cNvSpPr/>
              <p:nvPr/>
            </p:nvSpPr>
            <p:spPr>
              <a:xfrm>
                <a:off x="5270400" y="90540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55"/>
              <p:cNvSpPr/>
              <p:nvPr/>
            </p:nvSpPr>
            <p:spPr>
              <a:xfrm flipV="1">
                <a:off x="5414040" y="76176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Line 56"/>
            <p:cNvSpPr/>
            <p:nvPr/>
          </p:nvSpPr>
          <p:spPr>
            <a:xfrm>
              <a:off x="6121440" y="1447560"/>
              <a:ext cx="287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77"/>
          <p:cNvGrpSpPr/>
          <p:nvPr/>
        </p:nvGrpSpPr>
        <p:grpSpPr>
          <a:xfrm>
            <a:off x="6981840" y="152280"/>
            <a:ext cx="2009160" cy="3200400"/>
            <a:chOff x="6981840" y="152280"/>
            <a:chExt cx="2009160" cy="3200400"/>
          </a:xfrm>
        </p:grpSpPr>
        <p:grpSp>
          <p:nvGrpSpPr>
            <p:cNvPr id="142" name="Group 57"/>
            <p:cNvGrpSpPr/>
            <p:nvPr/>
          </p:nvGrpSpPr>
          <p:grpSpPr>
            <a:xfrm>
              <a:off x="6981840" y="152280"/>
              <a:ext cx="2009160" cy="3200400"/>
              <a:chOff x="6981840" y="152280"/>
              <a:chExt cx="2009160" cy="3200400"/>
            </a:xfrm>
          </p:grpSpPr>
          <p:grpSp>
            <p:nvGrpSpPr>
              <p:cNvPr id="143" name="Group 58"/>
              <p:cNvGrpSpPr/>
              <p:nvPr/>
            </p:nvGrpSpPr>
            <p:grpSpPr>
              <a:xfrm>
                <a:off x="6981840" y="152280"/>
                <a:ext cx="2009160" cy="2590560"/>
                <a:chOff x="6981840" y="152280"/>
                <a:chExt cx="2009160" cy="2590560"/>
              </a:xfrm>
            </p:grpSpPr>
            <p:sp>
              <p:nvSpPr>
                <p:cNvPr id="144" name="Rectangle 59"/>
                <p:cNvSpPr/>
                <p:nvPr/>
              </p:nvSpPr>
              <p:spPr>
                <a:xfrm>
                  <a:off x="6981840" y="152280"/>
                  <a:ext cx="2009160" cy="2590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0"/>
                <p:cNvSpPr/>
                <p:nvPr/>
              </p:nvSpPr>
              <p:spPr>
                <a:xfrm>
                  <a:off x="8273160" y="1015920"/>
                  <a:ext cx="43092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 Box 61"/>
                <p:cNvSpPr/>
                <p:nvPr/>
              </p:nvSpPr>
              <p:spPr>
                <a:xfrm>
                  <a:off x="7089840" y="259920"/>
                  <a:ext cx="32256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62"/>
                <p:cNvSpPr/>
                <p:nvPr/>
              </p:nvSpPr>
              <p:spPr>
                <a:xfrm>
                  <a:off x="7412760" y="475920"/>
                  <a:ext cx="428760" cy="86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63"/>
                <p:cNvSpPr/>
                <p:nvPr/>
              </p:nvSpPr>
              <p:spPr>
                <a:xfrm>
                  <a:off x="7106760" y="2166480"/>
                  <a:ext cx="30564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Oval 64"/>
                <p:cNvSpPr/>
                <p:nvPr/>
              </p:nvSpPr>
              <p:spPr>
                <a:xfrm>
                  <a:off x="7412760" y="1663560"/>
                  <a:ext cx="42876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65"/>
                <p:cNvSpPr/>
                <p:nvPr/>
              </p:nvSpPr>
              <p:spPr>
                <a:xfrm>
                  <a:off x="8181360" y="623160"/>
                  <a:ext cx="628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66"/>
              <p:cNvSpPr/>
              <p:nvPr/>
            </p:nvSpPr>
            <p:spPr>
              <a:xfrm>
                <a:off x="6981840" y="2971800"/>
                <a:ext cx="19810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67"/>
            <p:cNvGrpSpPr/>
            <p:nvPr/>
          </p:nvGrpSpPr>
          <p:grpSpPr>
            <a:xfrm>
              <a:off x="7477200" y="1981080"/>
              <a:ext cx="287280" cy="287280"/>
              <a:chOff x="7477200" y="1981080"/>
              <a:chExt cx="287280" cy="287280"/>
            </a:xfrm>
          </p:grpSpPr>
          <p:sp>
            <p:nvSpPr>
              <p:cNvPr id="153" name="Line 68"/>
              <p:cNvSpPr/>
              <p:nvPr/>
            </p:nvSpPr>
            <p:spPr>
              <a:xfrm>
                <a:off x="7477200" y="212472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69"/>
              <p:cNvSpPr/>
              <p:nvPr/>
            </p:nvSpPr>
            <p:spPr>
              <a:xfrm flipV="1">
                <a:off x="7620840" y="198108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Line 70"/>
            <p:cNvSpPr/>
            <p:nvPr/>
          </p:nvSpPr>
          <p:spPr>
            <a:xfrm>
              <a:off x="7477200" y="914400"/>
              <a:ext cx="28728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1"/>
            <p:cNvSpPr/>
            <p:nvPr/>
          </p:nvSpPr>
          <p:spPr>
            <a:xfrm>
              <a:off x="8340840" y="1447560"/>
              <a:ext cx="287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63"/>
          <p:cNvGrpSpPr/>
          <p:nvPr/>
        </p:nvGrpSpPr>
        <p:grpSpPr>
          <a:xfrm>
            <a:off x="4772160" y="3429000"/>
            <a:ext cx="2009160" cy="3200400"/>
            <a:chOff x="4772160" y="3429000"/>
            <a:chExt cx="2009160" cy="3200400"/>
          </a:xfrm>
        </p:grpSpPr>
        <p:grpSp>
          <p:nvGrpSpPr>
            <p:cNvPr id="158" name="Group 110"/>
            <p:cNvGrpSpPr/>
            <p:nvPr/>
          </p:nvGrpSpPr>
          <p:grpSpPr>
            <a:xfrm>
              <a:off x="4772160" y="3429000"/>
              <a:ext cx="2009160" cy="3200400"/>
              <a:chOff x="4772160" y="3429000"/>
              <a:chExt cx="2009160" cy="3200400"/>
            </a:xfrm>
          </p:grpSpPr>
          <p:grpSp>
            <p:nvGrpSpPr>
              <p:cNvPr id="159" name="Group 111"/>
              <p:cNvGrpSpPr/>
              <p:nvPr/>
            </p:nvGrpSpPr>
            <p:grpSpPr>
              <a:xfrm>
                <a:off x="4772160" y="3429000"/>
                <a:ext cx="2009160" cy="2590560"/>
                <a:chOff x="4772160" y="3429000"/>
                <a:chExt cx="2009160" cy="2590560"/>
              </a:xfrm>
            </p:grpSpPr>
            <p:sp>
              <p:nvSpPr>
                <p:cNvPr id="160" name="Rectangle 112"/>
                <p:cNvSpPr/>
                <p:nvPr/>
              </p:nvSpPr>
              <p:spPr>
                <a:xfrm>
                  <a:off x="4772160" y="3429000"/>
                  <a:ext cx="2009160" cy="2590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Oval 113"/>
                <p:cNvSpPr/>
                <p:nvPr/>
              </p:nvSpPr>
              <p:spPr>
                <a:xfrm>
                  <a:off x="6063480" y="4292640"/>
                  <a:ext cx="43092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114"/>
                <p:cNvSpPr/>
                <p:nvPr/>
              </p:nvSpPr>
              <p:spPr>
                <a:xfrm>
                  <a:off x="4880160" y="3536640"/>
                  <a:ext cx="32256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Oval 115"/>
                <p:cNvSpPr/>
                <p:nvPr/>
              </p:nvSpPr>
              <p:spPr>
                <a:xfrm>
                  <a:off x="5203080" y="3752640"/>
                  <a:ext cx="428760" cy="86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Text Box 116"/>
                <p:cNvSpPr/>
                <p:nvPr/>
              </p:nvSpPr>
              <p:spPr>
                <a:xfrm>
                  <a:off x="4897080" y="5443200"/>
                  <a:ext cx="30564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Oval 117"/>
                <p:cNvSpPr/>
                <p:nvPr/>
              </p:nvSpPr>
              <p:spPr>
                <a:xfrm>
                  <a:off x="5203080" y="4940280"/>
                  <a:ext cx="42876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Text Box 118"/>
                <p:cNvSpPr/>
                <p:nvPr/>
              </p:nvSpPr>
              <p:spPr>
                <a:xfrm>
                  <a:off x="5971680" y="3899880"/>
                  <a:ext cx="628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119"/>
              <p:cNvSpPr/>
              <p:nvPr/>
            </p:nvSpPr>
            <p:spPr>
              <a:xfrm>
                <a:off x="4772160" y="6248520"/>
                <a:ext cx="19810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20"/>
            <p:cNvGrpSpPr/>
            <p:nvPr/>
          </p:nvGrpSpPr>
          <p:grpSpPr>
            <a:xfrm>
              <a:off x="5270400" y="5244480"/>
              <a:ext cx="286920" cy="287640"/>
              <a:chOff x="5270400" y="5244480"/>
              <a:chExt cx="286920" cy="287640"/>
            </a:xfrm>
          </p:grpSpPr>
          <p:sp>
            <p:nvSpPr>
              <p:cNvPr id="169" name="Line 121"/>
              <p:cNvSpPr/>
              <p:nvPr/>
            </p:nvSpPr>
            <p:spPr>
              <a:xfrm>
                <a:off x="5270400" y="5388840"/>
                <a:ext cx="286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22"/>
              <p:cNvSpPr/>
              <p:nvPr/>
            </p:nvSpPr>
            <p:spPr>
              <a:xfrm flipV="1">
                <a:off x="5413680" y="5244480"/>
                <a:ext cx="0" cy="28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24"/>
            <p:cNvSpPr/>
            <p:nvPr/>
          </p:nvSpPr>
          <p:spPr>
            <a:xfrm>
              <a:off x="5270400" y="4182840"/>
              <a:ext cx="28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26"/>
            <p:cNvSpPr/>
            <p:nvPr/>
          </p:nvSpPr>
          <p:spPr>
            <a:xfrm>
              <a:off x="6121080" y="4724280"/>
              <a:ext cx="2869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69"/>
          <p:cNvGrpSpPr/>
          <p:nvPr/>
        </p:nvGrpSpPr>
        <p:grpSpPr>
          <a:xfrm>
            <a:off x="2562120" y="3429000"/>
            <a:ext cx="2009160" cy="3200400"/>
            <a:chOff x="2562120" y="3429000"/>
            <a:chExt cx="2009160" cy="3200400"/>
          </a:xfrm>
        </p:grpSpPr>
        <p:grpSp>
          <p:nvGrpSpPr>
            <p:cNvPr id="174" name="Group 92"/>
            <p:cNvGrpSpPr/>
            <p:nvPr/>
          </p:nvGrpSpPr>
          <p:grpSpPr>
            <a:xfrm>
              <a:off x="2562120" y="3429000"/>
              <a:ext cx="2009160" cy="3200400"/>
              <a:chOff x="2562120" y="3429000"/>
              <a:chExt cx="2009160" cy="3200400"/>
            </a:xfrm>
          </p:grpSpPr>
          <p:grpSp>
            <p:nvGrpSpPr>
              <p:cNvPr id="175" name="Group 93"/>
              <p:cNvGrpSpPr/>
              <p:nvPr/>
            </p:nvGrpSpPr>
            <p:grpSpPr>
              <a:xfrm>
                <a:off x="2562120" y="3429000"/>
                <a:ext cx="2009160" cy="2590560"/>
                <a:chOff x="2562120" y="3429000"/>
                <a:chExt cx="2009160" cy="2590560"/>
              </a:xfrm>
            </p:grpSpPr>
            <p:sp>
              <p:nvSpPr>
                <p:cNvPr id="176" name="Rectangle 94"/>
                <p:cNvSpPr/>
                <p:nvPr/>
              </p:nvSpPr>
              <p:spPr>
                <a:xfrm>
                  <a:off x="2562120" y="3429000"/>
                  <a:ext cx="2009160" cy="2590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95"/>
                <p:cNvSpPr/>
                <p:nvPr/>
              </p:nvSpPr>
              <p:spPr>
                <a:xfrm>
                  <a:off x="3853440" y="4292640"/>
                  <a:ext cx="43092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Text Box 96"/>
                <p:cNvSpPr/>
                <p:nvPr/>
              </p:nvSpPr>
              <p:spPr>
                <a:xfrm>
                  <a:off x="2670120" y="3536640"/>
                  <a:ext cx="32256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97"/>
                <p:cNvSpPr/>
                <p:nvPr/>
              </p:nvSpPr>
              <p:spPr>
                <a:xfrm>
                  <a:off x="2993040" y="3752640"/>
                  <a:ext cx="428760" cy="86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Text Box 98"/>
                <p:cNvSpPr/>
                <p:nvPr/>
              </p:nvSpPr>
              <p:spPr>
                <a:xfrm>
                  <a:off x="2687040" y="5443200"/>
                  <a:ext cx="30564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99"/>
                <p:cNvSpPr/>
                <p:nvPr/>
              </p:nvSpPr>
              <p:spPr>
                <a:xfrm>
                  <a:off x="2993040" y="4940280"/>
                  <a:ext cx="428760" cy="86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100"/>
                <p:cNvSpPr/>
                <p:nvPr/>
              </p:nvSpPr>
              <p:spPr>
                <a:xfrm>
                  <a:off x="3761640" y="3899880"/>
                  <a:ext cx="628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xt Box 101"/>
              <p:cNvSpPr/>
              <p:nvPr/>
            </p:nvSpPr>
            <p:spPr>
              <a:xfrm>
                <a:off x="2562120" y="6248520"/>
                <a:ext cx="19810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59"/>
            <p:cNvGrpSpPr/>
            <p:nvPr/>
          </p:nvGrpSpPr>
          <p:grpSpPr>
            <a:xfrm>
              <a:off x="3057480" y="4051080"/>
              <a:ext cx="287280" cy="287280"/>
              <a:chOff x="3057480" y="4051080"/>
              <a:chExt cx="287280" cy="287280"/>
            </a:xfrm>
          </p:grpSpPr>
          <p:sp>
            <p:nvSpPr>
              <p:cNvPr id="185" name="Line 104"/>
              <p:cNvSpPr/>
              <p:nvPr/>
            </p:nvSpPr>
            <p:spPr>
              <a:xfrm>
                <a:off x="3057480" y="419580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05"/>
              <p:cNvSpPr/>
              <p:nvPr/>
            </p:nvSpPr>
            <p:spPr>
              <a:xfrm flipV="1">
                <a:off x="3201840" y="405108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06"/>
            <p:cNvGrpSpPr/>
            <p:nvPr/>
          </p:nvGrpSpPr>
          <p:grpSpPr>
            <a:xfrm>
              <a:off x="3920760" y="4597200"/>
              <a:ext cx="287640" cy="287280"/>
              <a:chOff x="3920760" y="4597200"/>
              <a:chExt cx="287640" cy="287280"/>
            </a:xfrm>
          </p:grpSpPr>
          <p:sp>
            <p:nvSpPr>
              <p:cNvPr id="188" name="Line 107"/>
              <p:cNvSpPr/>
              <p:nvPr/>
            </p:nvSpPr>
            <p:spPr>
              <a:xfrm>
                <a:off x="3920760" y="4740840"/>
                <a:ext cx="28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08"/>
              <p:cNvSpPr/>
              <p:nvPr/>
            </p:nvSpPr>
            <p:spPr>
              <a:xfrm flipV="1">
                <a:off x="4064400" y="45972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60"/>
            <p:cNvGrpSpPr/>
            <p:nvPr/>
          </p:nvGrpSpPr>
          <p:grpSpPr>
            <a:xfrm>
              <a:off x="3062160" y="5249880"/>
              <a:ext cx="287280" cy="287280"/>
              <a:chOff x="3062160" y="5249880"/>
              <a:chExt cx="287280" cy="287280"/>
            </a:xfrm>
          </p:grpSpPr>
          <p:sp>
            <p:nvSpPr>
              <p:cNvPr id="191" name="Line 161"/>
              <p:cNvSpPr/>
              <p:nvPr/>
            </p:nvSpPr>
            <p:spPr>
              <a:xfrm>
                <a:off x="3062160" y="5394600"/>
                <a:ext cx="28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62"/>
              <p:cNvSpPr/>
              <p:nvPr/>
            </p:nvSpPr>
            <p:spPr>
              <a:xfrm flipV="1">
                <a:off x="3206520" y="524988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128"/>
          <p:cNvGrpSpPr/>
          <p:nvPr/>
        </p:nvGrpSpPr>
        <p:grpSpPr>
          <a:xfrm>
            <a:off x="6981840" y="3429000"/>
            <a:ext cx="2009160" cy="3200400"/>
            <a:chOff x="6981840" y="3429000"/>
            <a:chExt cx="2009160" cy="3200400"/>
          </a:xfrm>
        </p:grpSpPr>
        <p:grpSp>
          <p:nvGrpSpPr>
            <p:cNvPr id="194" name="Group 129"/>
            <p:cNvGrpSpPr/>
            <p:nvPr/>
          </p:nvGrpSpPr>
          <p:grpSpPr>
            <a:xfrm>
              <a:off x="6981840" y="3429000"/>
              <a:ext cx="2009160" cy="2590560"/>
              <a:chOff x="6981840" y="3429000"/>
              <a:chExt cx="2009160" cy="2590560"/>
            </a:xfrm>
          </p:grpSpPr>
          <p:sp>
            <p:nvSpPr>
              <p:cNvPr id="195" name="Rectangle 130"/>
              <p:cNvSpPr/>
              <p:nvPr/>
            </p:nvSpPr>
            <p:spPr>
              <a:xfrm>
                <a:off x="6981840" y="3429000"/>
                <a:ext cx="2009160" cy="2590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131"/>
              <p:cNvSpPr/>
              <p:nvPr/>
            </p:nvSpPr>
            <p:spPr>
              <a:xfrm>
                <a:off x="8273160" y="4292640"/>
                <a:ext cx="430920" cy="86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132"/>
              <p:cNvSpPr/>
              <p:nvPr/>
            </p:nvSpPr>
            <p:spPr>
              <a:xfrm>
                <a:off x="7089840" y="3536640"/>
                <a:ext cx="3225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33"/>
              <p:cNvSpPr/>
              <p:nvPr/>
            </p:nvSpPr>
            <p:spPr>
              <a:xfrm>
                <a:off x="7412760" y="3752640"/>
                <a:ext cx="428760" cy="86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34"/>
              <p:cNvSpPr/>
              <p:nvPr/>
            </p:nvSpPr>
            <p:spPr>
              <a:xfrm>
                <a:off x="7106760" y="5443200"/>
                <a:ext cx="30564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35"/>
              <p:cNvSpPr/>
              <p:nvPr/>
            </p:nvSpPr>
            <p:spPr>
              <a:xfrm>
                <a:off x="7412760" y="4940280"/>
                <a:ext cx="428760" cy="86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136"/>
              <p:cNvSpPr/>
              <p:nvPr/>
            </p:nvSpPr>
            <p:spPr>
              <a:xfrm>
                <a:off x="8181360" y="3899880"/>
                <a:ext cx="628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Text Box 137"/>
            <p:cNvSpPr/>
            <p:nvPr/>
          </p:nvSpPr>
          <p:spPr>
            <a:xfrm>
              <a:off x="6981840" y="6248520"/>
              <a:ext cx="1981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lood Type: ___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Line 139"/>
          <p:cNvSpPr/>
          <p:nvPr/>
        </p:nvSpPr>
        <p:spPr>
          <a:xfrm>
            <a:off x="7477200" y="54021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2"/>
          <p:cNvSpPr/>
          <p:nvPr/>
        </p:nvSpPr>
        <p:spPr>
          <a:xfrm>
            <a:off x="8340840" y="4724280"/>
            <a:ext cx="2872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64"/>
          <p:cNvGrpSpPr/>
          <p:nvPr/>
        </p:nvGrpSpPr>
        <p:grpSpPr>
          <a:xfrm>
            <a:off x="7464600" y="4038480"/>
            <a:ext cx="287280" cy="287280"/>
            <a:chOff x="7464600" y="4038480"/>
            <a:chExt cx="287280" cy="287280"/>
          </a:xfrm>
        </p:grpSpPr>
        <p:sp>
          <p:nvSpPr>
            <p:cNvPr id="206" name="Line 165"/>
            <p:cNvSpPr/>
            <p:nvPr/>
          </p:nvSpPr>
          <p:spPr>
            <a:xfrm>
              <a:off x="7464600" y="418212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66"/>
            <p:cNvSpPr/>
            <p:nvPr/>
          </p:nvSpPr>
          <p:spPr>
            <a:xfrm flipV="1">
              <a:off x="7608240" y="403848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70"/>
          <p:cNvSpPr/>
          <p:nvPr/>
        </p:nvSpPr>
        <p:spPr>
          <a:xfrm>
            <a:off x="152280" y="304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od Ty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1"/>
          <p:cNvSpPr/>
          <p:nvPr/>
        </p:nvSpPr>
        <p:spPr>
          <a:xfrm>
            <a:off x="152280" y="762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the results shown to determine the blood type for each sampl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74"/>
          <p:cNvGrpSpPr/>
          <p:nvPr/>
        </p:nvGrpSpPr>
        <p:grpSpPr>
          <a:xfrm>
            <a:off x="152280" y="3581280"/>
            <a:ext cx="1905120" cy="1145520"/>
            <a:chOff x="152280" y="3581280"/>
            <a:chExt cx="1905120" cy="1145520"/>
          </a:xfrm>
        </p:grpSpPr>
        <p:sp>
          <p:nvSpPr>
            <p:cNvPr id="211" name="Text Box 172"/>
            <p:cNvSpPr/>
            <p:nvPr/>
          </p:nvSpPr>
          <p:spPr>
            <a:xfrm>
              <a:off x="152280" y="3809880"/>
              <a:ext cx="190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abse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73"/>
            <p:cNvSpPr/>
            <p:nvPr/>
          </p:nvSpPr>
          <p:spPr>
            <a:xfrm>
              <a:off x="152280" y="35812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pres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176" descr=""/>
          <p:cNvPicPr/>
          <p:nvPr/>
        </p:nvPicPr>
        <p:blipFill>
          <a:blip r:embed="rId1"/>
          <a:srcRect l="45626" t="37308" r="22343" b="42009"/>
          <a:stretch/>
        </p:blipFill>
        <p:spPr>
          <a:xfrm>
            <a:off x="152280" y="1531800"/>
            <a:ext cx="434340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I. Rh Fac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6248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cientists sometimes stud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he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ke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learn more about the human anatomy because there are certain similarities between the two species. While studying Rhesus monkeys, a certain blood protein was discovered. This protein is also present in the blood of some people. Other people, however, do not have the prote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presence of the protein, or lack of it, is referred to as the Rh (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he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a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If your blood does contain the protein, your blood is said to be 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h+). If your blood does not contain the protein, your blood is said to be 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h-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781680" y="3962520"/>
            <a:ext cx="213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A+  A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B+  B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AB+ AB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+  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04920" y="640080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i.edu/biosci/blood/r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21193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I. How can blood be used as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Blood samp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an be analyzed to determ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OD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can be matched to possible susp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Blood dropl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an be analyzed to give clues to the location of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ovement of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CTI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yp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JU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Blood spa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an be analyzed to determ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give investigators clues to how a crime might have happe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History of Blood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1901: Austrian Karl Landsteiner discovered human bloo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e found that by mixing 2 different kinds of blood (not compatible) that the result was (clumping) agglutination that would kill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59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. Blood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1219320"/>
            <a:ext cx="853416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The average adult has abo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 quart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(12 pint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blood inside of their bod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which makes up 7-8% of their body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w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is red liquid is liv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1. It carries oxygen and nutrients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 part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t carries carbon dioxide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other waste products back to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lungs, kidneys and liver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dispos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t fights again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helps he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u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3657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ab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l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in two to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of blood.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, there are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elet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blood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4343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. What makes up our bl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RED BLOOD 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rythrocytes)  The most abundant cells in our blood; they are produced in the bone marrow (because they have no nucleus) and contain a protein called hemoglobin (iron which is red) that carries oxygen to our cells and carbon dioxide back to the lu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WHITE BLOOD 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leukocyt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se are the larger of the two types of blood cells and are part of the immune system which destroys infectious agents called pathogens. They do have a nucleus and are able to reproduce themsel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PLATEL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hrombocyt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otting factors that are carried in the plasma; they clot together in a process called coagulation to seal a wound and prevent a loss of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1:58:23Z</dcterms:created>
  <dc:creator>Tracy Trimpe</dc:creator>
  <dc:description/>
  <dc:language>en-US</dc:language>
  <cp:lastModifiedBy>Kerry Miyoshi</cp:lastModifiedBy>
  <dcterms:modified xsi:type="dcterms:W3CDTF">2017-02-21T21:25:29Z</dcterms:modified>
  <cp:revision>78</cp:revision>
  <dc:subject/>
  <dc:title>Slide 1</dc:title>
</cp:coreProperties>
</file>