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482F-70A0-47B9-B59D-E2B66E05F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2DEE-0A1E-46C0-9B0C-747506319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2A46-A192-4DC8-B5DC-86F8BA17F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3C0F-8A5A-4112-B0F7-BDA2521B8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DCFF-5D23-4E40-B351-2C1A7F9E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B5FC-94E7-4ABF-B105-3502AE23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F8AFD-7121-48A0-9AA1-6F61D14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A08C-F07D-4950-8F18-9CFDCF6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9A347-9604-4240-B20F-BC469A00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2E9F-A918-4338-A333-6CB365D4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6160F-AB9D-426B-A028-01BB85B3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FE31-6645-4A44-9CB1-F0B9DB7F9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D5965-5413-4689-A5C7-224304D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92451-D2C0-41DD-B491-A6AD3B8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5BC2-4A8A-4EF1-B433-76CDEED4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5A25C-FC38-4373-9341-D35FE044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A494-0414-47F3-A723-88A88050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8467-0E26-4666-AAB5-A085B5C8A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D3B2-45BB-4C80-AFB9-8E6948C95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0EE3-4977-41CC-9FD5-E3FCA75D1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8E52-D47D-4772-B434-80FE1F0CC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D324-A83B-4B59-BF52-A23697CB0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E306-387A-419E-895B-0B1BE98DD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D1DD-9E66-4F3E-B256-1F2D44AD5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54E-905E-4C40-B6CC-B698745D0A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605E-96B7-4570-9870-F9395E1B1E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0AD-2636-4F02-94A5-A61600A2BA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9160" y="915120"/>
            <a:ext cx="72363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efinition of deat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4BF-24C5-48D3-A235-170443D98C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Livor Mortis (cont)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vidity (the pooling of blood in the body) begins about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wo hour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dea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oloration becomes permanent after eight ho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death occurred between 2 and 8 hours, lividity will be present, but if the skin is pressed, the color will disappear.  After 8 hours, if the skin is pressed, the lividity will remai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bient temperature affects the speed of decomposition and lividity to set in. If the corpse is left outside on a hot, summer day, livor mortis takes place at a faster rate.  If left in a cool room, livor mortis is slow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cause gravity pulls the blood toward the ground, lividity can also determine the position of the body during the first eight ho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vidity can also reveal if a body has been moved.  (p. 21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4262-2168-4168-9BE6-A65ABDDD12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livid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1D7-99A7-40A0-9BFC-7321CC1670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96040" y="1048680"/>
            <a:ext cx="7656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he Rigidity of Death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 (death stiffne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out oxygen in the blood—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ium accumulates in the muscles (due to lack of oxyge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cles stiffe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s within 2 hours after dea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rts in the head and gradually works its way down to the leg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12 hours, the body is in its most rigid st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about 15 hours—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cle fibers begin to dissol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ftening begi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tiffness gradually disappears after 36 hours.*Depending on body weight and temperature, rigor may remain for 48 ho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D79-6093-4CF1-B978-02580677BD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96040" y="1048680"/>
            <a:ext cx="7656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57" name="Picture 5" descr="45866_f1106"/>
          <p:cNvPicPr/>
          <p:nvPr/>
        </p:nvPicPr>
        <p:blipFill>
          <a:blip r:embed="rId1"/>
          <a:stretch/>
        </p:blipFill>
        <p:spPr>
          <a:xfrm>
            <a:off x="3505320" y="2438280"/>
            <a:ext cx="4114800" cy="3827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066680" y="2590920"/>
            <a:ext cx="2362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ve muscle fibers slide back and for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fter death, muscle fibers become locked in a flexed pos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D1DA-6D81-4659-B32D-0C4E42ABB3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2739960"/>
          <a:ext cx="6858000" cy="2670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Time Sc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dy is at its most rigid st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over 12 hou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isible signs of rigo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hou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more than 48 hours ag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generally disappea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36 hou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838080" y="6553080"/>
            <a:ext cx="7620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362-3E12-4F71-B544-7A0CD4AB6A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Rigor Mort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998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actors affecting rigor mort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Ambient temperatur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oler the body, the slower the onset of rigor; the warmer the body, the onset of rigor is fas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eight of the bod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person with less oxygen stored (lower in weight) experiences rigor faster; a person with more oxygen stored (heavier in weight) experiences rigor slow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00"/>
              </a:spcBef>
              <a:spcAft>
                <a:spcPts val="349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ype of clothing, or lack of i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presence of clothes accelerates rigor mortis; a naked body cools faster, which slows down the onset of rigor mort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Illn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2a56"/>
                </a:solidFill>
                <a:latin typeface="Arial"/>
              </a:rPr>
              <a:t>If a person dies with a fever, the body temp will be higher, and rigor mortis will set in fas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Level of physical activity shortly before deat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2a56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002a56"/>
                </a:solidFill>
                <a:latin typeface="Arial"/>
              </a:rPr>
              <a:t>a person was exercising or struggling before death, then rigor will progress faster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Sun exposur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A body exposed to direct sunlight will be warmer, and rigor mortis would occur fas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349"/>
              </a:spcBef>
              <a:spcAft>
                <a:spcPts val="176"/>
              </a:spcAft>
              <a:buClr>
                <a:srgbClr val="003366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cause so many variables can affect how fast rigor mortis progresses, a precise time of death cannot be determined, it can only be estimated.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BB3-BAD7-4A31-B7AA-99A26F6096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Algor Morti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e Chill of Death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—temp loss in a corp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dy heat falls after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1.4 degrees per hour immediately after dea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lowing to about .7 degree per hour after about 12 hours until the body reaches the same temperature as the surround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at loss is affected by the ambient tempera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pse temperature is measured by a thermometer inserted into the l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of death is expressed as a range of time because it can’t be calculated exa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D37-E43D-4F4D-87FC-16104B9531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00720" y="97704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What is rigor mort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What is algor mort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tomach and Intestinal Content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general, it takes 4-6 hours for the stomach to empty its contents into the small intestine and another 12 hours for the food to leave the small intest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takes about 24 hours from when a meal was eaten until all undigested food is released from the large intest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his, it can be concluded th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A94-CCB0-46FC-B935-488ACCD89F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437-B363-4E61-9B06-073EF6362C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Stomach and Intestinal Conten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2590920"/>
          <a:ext cx="6629400" cy="3098520"/>
        </p:xfrm>
        <a:graphic>
          <a:graphicData uri="http://schemas.openxmlformats.org/drawingml/2006/table">
            <a:tbl>
              <a:tblPr/>
              <a:tblGrid>
                <a:gridCol w="3316320"/>
                <a:gridCol w="3313080"/>
              </a:tblGrid>
              <a:tr h="49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te of Cont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ming of Deat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digested food present in the stoma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ero to two hours after the last me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mach is empty, but food found in small intest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ath occurred at least four to six hours after a me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all intestine is empty; waste found in large intest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ath occurred 12 or more hours after a me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5BCD-58C9-4B2B-B0C4-C0D563B7E1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9160" y="915120"/>
            <a:ext cx="72363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1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eath: Meaning, Manner,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echanism, Cause, and Time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the definition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four manners of death: natural, accidental, suicidal, and homicid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cause, manner, and mechanisms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evelopment of rigor, algor, and livor mortis following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624-D3E7-45BD-B11E-9948B28837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4480" y="834120"/>
            <a:ext cx="3436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86" name="Picture 21" descr="45866_f1110"/>
          <p:cNvPicPr/>
          <p:nvPr/>
        </p:nvPicPr>
        <p:blipFill>
          <a:blip r:embed="rId1"/>
          <a:stretch/>
        </p:blipFill>
        <p:spPr>
          <a:xfrm>
            <a:off x="4191120" y="990720"/>
            <a:ext cx="4275000" cy="5410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2"/>
          <p:cNvSpPr/>
          <p:nvPr/>
        </p:nvSpPr>
        <p:spPr>
          <a:xfrm>
            <a:off x="914400" y="2590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63a"/>
                </a:solidFill>
                <a:latin typeface="Kartika"/>
              </a:rPr>
              <a:t>—</a:t>
            </a:r>
            <a:r>
              <a:rPr b="1" i="1" lang="en-US" sz="2800" spc="-1" strike="noStrike">
                <a:solidFill>
                  <a:srgbClr val="3a763a"/>
                </a:solidFill>
                <a:latin typeface="Kartika"/>
              </a:rPr>
              <a:t>Stomach and Intestinal Cont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--Stages of Decomposi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rpse decomposes in predictable ways over time that can help examiners judge when death occurr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 Within 2 days after death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ell autolysis begins following deat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reen and purplish staining occurs from blood decomposi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skin takes on a marbled appear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face becomes discolor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 After 4 day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skin blist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abdomen swells with the gas carbon dioxide that is released by bacteria living in the intenti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12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08AA-52F5-4266-B4F8-49E37198BE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--Stages of Decomposi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361960"/>
            <a:ext cx="769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 Within 6-10 day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corpse bloats with carbon dioxide as bacteria continue to feed on tissues.  Eventually, the gas causes the chest and abdominal cavities to burst and collap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luids begin to leak from the body openings as cell membranes rup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yeballs and other tissues liquef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514440">
              <a:lnSpc>
                <a:spcPct val="8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skin sloughs of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  See Figure 11-11 on page 317—Stages of Decom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111-1600-46CF-8B59-302845CD0DC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9BAA-E887-45ED-8CFA-A0CFCB98D5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05760" y="905760"/>
            <a:ext cx="771336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Stages of Decomposi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ose: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ithin 2 day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fter 4 day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ithin 6-10 day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uids begin to leak from body openings as cell membranes rup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oloration of the f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kin sloughs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kin blis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en and purplish staining from blood decom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orpse bloa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yeballs and other tissues liquef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bdomen swe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rbling appearance on the sk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EF3B-6A72-4723-A1D6-15F69AD71B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Insec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entomologi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s insect evidence from on, above, and below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rds environmental cond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minutes of a death, certain insects arrive to lay their eggs on the warm body—blowflies—they are attracted to 2 gases of decom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the corpse progresses through the stages of decomposition, other kinds of insects arr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DE5C-A58E-407D-B56B-03179BF855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720" y="977040"/>
            <a:ext cx="551376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Blowfly Life Cycl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8 hours after death—blowfly eggs can be found in the moist, warm areas of a corp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20 hours—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ir 3 larva stag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5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y—3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ir 3 larva stag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Picture 16" descr="45866_f1117d"/>
          <p:cNvPicPr/>
          <p:nvPr/>
        </p:nvPicPr>
        <p:blipFill>
          <a:blip r:embed="rId1"/>
          <a:stretch/>
        </p:blipFill>
        <p:spPr>
          <a:xfrm>
            <a:off x="3733920" y="4648320"/>
            <a:ext cx="1066680" cy="425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45866_f1117b"/>
          <p:cNvPicPr/>
          <p:nvPr/>
        </p:nvPicPr>
        <p:blipFill>
          <a:blip r:embed="rId2"/>
          <a:stretch/>
        </p:blipFill>
        <p:spPr>
          <a:xfrm>
            <a:off x="3809880" y="3825720"/>
            <a:ext cx="83844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6655-1D90-4D2E-B862-5CBD472984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Blowfly Life Cycl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 to 12 days—larvae migrates to a dry plac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8 to 24 days— Early pupa; immobile; changes from light brown to dark b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2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24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y the pupa cases will split open and adult blowflies will emerg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8" descr="45866_f1117e"/>
          <p:cNvPicPr/>
          <p:nvPr/>
        </p:nvPicPr>
        <p:blipFill>
          <a:blip r:embed="rId1"/>
          <a:stretch/>
        </p:blipFill>
        <p:spPr>
          <a:xfrm>
            <a:off x="3581280" y="2819520"/>
            <a:ext cx="1295640" cy="406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45866_f1117g"/>
          <p:cNvPicPr/>
          <p:nvPr/>
        </p:nvPicPr>
        <p:blipFill>
          <a:blip r:embed="rId2"/>
          <a:stretch/>
        </p:blipFill>
        <p:spPr>
          <a:xfrm>
            <a:off x="3657600" y="5257800"/>
            <a:ext cx="114300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B3EC-B34E-403E-A306-0D7B4580F1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96040" y="1048680"/>
            <a:ext cx="7732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me of Death—Insect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insect life cycle provides scientists with a benchmark to estimate a time of death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sect evidence cannot provide an exact time of death because of fluctuating environmental condi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sect evidence provides a close estimat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A36D-B253-42C9-A216-E6DEF6E739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4120" y="834120"/>
            <a:ext cx="678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ral definitions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ody decomposing through three stages— livor, rigor, and algor mortis—provides an estimated time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mach contents and insect evidence also aid in estimating the time 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ronmental factors affect the estimated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5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711B-F1FE-42CE-AF68-30E7B79152F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9160" y="915120"/>
            <a:ext cx="723636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1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eath: Meaning, Manner,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echanism, Cause, and Time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imate the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stages of decomposition of a corp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evidence on stomach contents to estimate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insect evidence to estimate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how environmental factors can affect the estimated time of dea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4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6EC9-6C6D-4EA2-8AE1-5A608D2C62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finition of Death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ssation, or end, of li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rreversible cessation of blood circ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ssation of all brain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rts do not agree on a single defi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cases of suspicious death, a forensic pathologist (MD) conducts an examination on the deceased, called an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utops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utopsy is conducted to determine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mann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au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mechani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time of dea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th is a process rather than an instant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the heart stops beating, the cells of the body begin to die because they no longer receive a fresh supply of oxyg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oxygen levels drop, the basic processes of the body fail to occur.  Nerves, muscles, organs, and the brain stop wor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a cell dies, it breaks down. Once enough cells begin to break down, life cannot be restar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ll breakdown i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utoly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BA5C-DB12-4381-9AD4-FE1B5C00A2C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D8C-9F20-4EA3-A953-8E72182E5A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lysis—cell breakd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45866_f1101"/>
          <p:cNvPicPr/>
          <p:nvPr/>
        </p:nvPicPr>
        <p:blipFill>
          <a:blip r:embed="rId1"/>
          <a:stretch/>
        </p:blipFill>
        <p:spPr>
          <a:xfrm>
            <a:off x="2514600" y="2924280"/>
            <a:ext cx="35053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0B8C-B29A-42D7-9035-1564457F63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9800" y="981720"/>
            <a:ext cx="61891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he Manner of Death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manner of death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b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most common—interruption &amp; failure  of body functions resulting from age or dis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ccident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caused by unplanned events (car accident, falling from a ladder, etc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uicid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when a person purposefully kills oneself (hanging, drug overdose, gunshot, etc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omicid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death of one person caused by another per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50320" indent="-4251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Undetermin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stated on death certificate if the official cause can’t be determined (this leaves room for further investigation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96080" indent="-496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times the manner of death is difficult to determ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11CE-486D-491B-9477-845D65C235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910080"/>
            <a:ext cx="6941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ause and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Mechanism of Death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3200400"/>
            <a:ext cx="7693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Cause of the death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as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the death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disease, physical injury, stroke, heart attack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ases of Death by Homicid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bludgeoning, shooting, burning, drowning, strangulation, hanging, suffocation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echanism of death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pecific change in the bod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brought about the cessation of lif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loss of blood (exsanguination), cessation of brain function, cessation of heart function (heart failure), cessation of breathing (respiratory failure)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5" descr="Ch 11 murderedBody01a"/>
          <p:cNvPicPr/>
          <p:nvPr/>
        </p:nvPicPr>
        <p:blipFill>
          <a:blip r:embed="rId1"/>
          <a:stretch/>
        </p:blipFill>
        <p:spPr>
          <a:xfrm>
            <a:off x="5522760" y="1295280"/>
            <a:ext cx="28591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1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A25-A5C2-47AE-8DF3-41F7051D17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0440" y="910080"/>
            <a:ext cx="7704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a753"/>
                </a:solidFill>
                <a:latin typeface="Kartika"/>
              </a:rPr>
              <a:t>During an autopsy, the forensic examiner wants to determine </a:t>
            </a:r>
            <a:r>
              <a:rPr b="1" lang="en-US" sz="2000" spc="-1" strike="noStrike" u="sng">
                <a:solidFill>
                  <a:srgbClr val="53a753"/>
                </a:solidFill>
                <a:uFillTx/>
                <a:latin typeface="Kartika"/>
              </a:rPr>
              <a:t>when</a:t>
            </a:r>
            <a:r>
              <a:rPr b="1" lang="en-US" sz="2000" spc="-1" strike="noStrike">
                <a:solidFill>
                  <a:srgbClr val="53a753"/>
                </a:solidFill>
                <a:latin typeface="Kartika"/>
              </a:rPr>
              <a:t> the person died.  Why???</a:t>
            </a:r>
            <a:endParaRPr b="1" lang="en-US" sz="2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763a"/>
                </a:solidFill>
                <a:latin typeface="Kartika"/>
              </a:rPr>
              <a:t>Time of Death—Livor Morti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Kartika"/>
              </a:rPr>
              <a:t>The Leaden-Color of Dea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ividity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decomposition, blood seeps down and settles in the lower parts of a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 blood cells turn bluish-purple; the purplish color is visible on parts of the skin wherever the blood pools.  The process takes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8" descr="45866_f1104"/>
          <p:cNvPicPr/>
          <p:nvPr/>
        </p:nvPicPr>
        <p:blipFill>
          <a:blip r:embed="rId1"/>
          <a:stretch/>
        </p:blipFill>
        <p:spPr>
          <a:xfrm>
            <a:off x="1676520" y="5105520"/>
            <a:ext cx="609588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3-28T15:14:15Z</dcterms:modified>
  <cp:revision>181</cp:revision>
  <dc:subject/>
  <dc:title>Slide 1</dc:title>
</cp:coreProperties>
</file>