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732C-7337-461A-9F89-945C1271E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B273-950A-42A9-8802-BF3AA5166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F772-698C-44E2-884D-580383947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1180-1882-4783-9AA3-ABF6C262E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6D34-F982-4C8A-A3CB-B05B900F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26D2E-21CA-4CBB-9703-24BF829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BD957-F79F-460A-B418-CD584D4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15B00-7371-4DC6-990B-9C2224D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9EA4E-5B09-43D2-9E0F-7373DEC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98502-BA38-48D3-8D88-6CA1F16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463E7-D32A-447D-BAEB-791F455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B653-67D3-4B11-83E0-DE7CBA8E5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208A8-9BA2-4449-8D67-D83676B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2506-C5EC-4CFA-94CE-07BF494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CD364-7351-44AB-A9A4-EDFCFA9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DDAB9-D9F4-4CCD-B267-A18142DE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D4A4-DDF7-4583-928C-3B0BE3CD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287D-2678-4060-84B2-17A5477E9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FF11-BA91-4593-8025-B308ACC88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0E8B-102A-4DE7-9B14-5989BAB4F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E0B9-5B42-499A-8CE1-482B6642D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27F0-0AA3-4E5E-AB2E-C7F49BAF0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F357-B23C-4414-B921-538464975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4850-8273-4865-8E56-3D607CAF7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B9B-7C9B-47CC-BE33-0ECBE32992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4EA-4C39-406A-B12F-0AFC64F7A5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DF31-F24E-4E8F-A977-195254A01D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efinition of dea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FFAC-C593-426E-B31C-08DF53FD05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Livor Mortis (cont)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idity (the pooling of blood in the body) begins about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wo hour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oloration becomes permanent after eight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death occurred between 2 and 8 hours, lividity will be present, but if the skin is pressed, the color will disappear.  After 8 hours, if the skin is pressed, the lividity will remai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bient temperature affects the speed of decomposition and lividity to set in. If the corpse is left outside on a hot, summer day, livor mortis takes place at a faster rate.  If left in a cool room, livor mortis is slow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cause gravity pulls the blood toward the ground, lividity can also determine the position of the body during the first eight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idity can also reveal if a body has been moved.  (p. 21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D193-917A-4E51-AD07-992D89E1A7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livid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EB2-D339-49E3-BC77-AB75952AE9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96040" y="1048680"/>
            <a:ext cx="7656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he Rigidity of Death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 (death stiffne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out oxygen in the blood—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ium accumulates in the muscles (due to lack of oxyge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cles stiffe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s within 2 hours after dea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s in the head and gradually works its way down to the leg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12 hours, the body is in its most rigid st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about 15 hours—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cle fibers begin to dissol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ftening begi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iffness gradually disappears after 36 hours.*Depending on body weight and temperature, rigor may remain for 48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EA73-D9E8-4884-A604-D6338B28F7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96040" y="1048680"/>
            <a:ext cx="7656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57" name="Picture 5" descr="45866_f1106"/>
          <p:cNvPicPr/>
          <p:nvPr/>
        </p:nvPicPr>
        <p:blipFill>
          <a:blip r:embed="rId1"/>
          <a:stretch/>
        </p:blipFill>
        <p:spPr>
          <a:xfrm>
            <a:off x="3505320" y="2438280"/>
            <a:ext cx="4114800" cy="3827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066680" y="2590920"/>
            <a:ext cx="2362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ve muscle fibers slide back and for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fter death, muscle fibers become locked in a flexed 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D851-0BEC-4552-BF12-CC4CBFED31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2739960"/>
          <a:ext cx="6858000" cy="2670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Time Sc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dy is at its most rigid st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over 12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isible signs of rigo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more than 48 hours a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generally disappea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36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838080" y="6553080"/>
            <a:ext cx="7620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E42-E13B-444A-8554-7C5B52714A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998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ctors affecting rigor mort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Ambient temperatur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oler the body, the slower the onset of rigor; the warmer the body, the onset of rigor is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eight of the bod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person with less oxygen stored (lower in weight) experiences rigor faster; a person with more oxygen stored (heavier in weight) experiences rigor slow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ype of clothing, or lack of i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presence of clothes accelerates rigor mortis; a naked body cools faster, which slows down the onset of rigor mort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Illn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2a56"/>
                </a:solidFill>
                <a:latin typeface="Arial"/>
              </a:rPr>
              <a:t>If a person dies with a fever, the body temp will be higher, and rigor mortis will set in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Level of physical activity shortly before deat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2a56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002a56"/>
                </a:solidFill>
                <a:latin typeface="Arial"/>
              </a:rPr>
              <a:t>a person was exercising or struggling before death, then rigor will progress faster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un exposur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A body exposed to direct sunlight will be warmer, and rigor mortis would occur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49"/>
              </a:spcBef>
              <a:spcAft>
                <a:spcPts val="176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cause so many variables can affect how fast rigor mortis progresses, a precise time of death cannot be determined, it can only be estimated.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B36-76DC-4284-8779-08880DD3EB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Algor Morti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e Chill of Death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—temp loss in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dy heat falls after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1.4 degrees per hour immediately after dea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owing to about .7 degree per hour after about 12 hours until the body reaches the same temperature as the surround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at loss is affected by the ambient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pse temperature is measured by a thermometer inserted into the l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of death is expressed as a range of time because it can’t be calculated exa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EB5-49EE-46C8-931B-CD244129A6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at is rigor mort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at is algor mort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tomach and Intestinal Content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general, it takes 4-6 hours for the stomach to empty its contents into the small intestine and another 12 hours for the food to leave the small intest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takes about 24 hours from when a meal was eaten until all undigested food is released from the large intest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is, it can be concluded th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A2D-569A-4282-BF79-CC40A8C278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0C4-72E8-4ECE-9415-27316E5A3D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tomach and Intestinal Conten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90920"/>
          <a:ext cx="6629400" cy="3098520"/>
        </p:xfrm>
        <a:graphic>
          <a:graphicData uri="http://schemas.openxmlformats.org/drawingml/2006/table">
            <a:tbl>
              <a:tblPr/>
              <a:tblGrid>
                <a:gridCol w="3316320"/>
                <a:gridCol w="3313080"/>
              </a:tblGrid>
              <a:tr h="49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te of Cont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ing of Dea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igested food present in the stoma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ero to two hours after the last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mach is empty, but food found in small intest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ath occurred at least four to six hours after a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all intestine is empty; waste found in large intest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ath occurred 12 or more hours after a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104A-7D8E-4523-988C-5AE7CC7D41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1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ath: Meaning, Manner,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chanism, Cause, and Time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definition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four manners of death: natural, accidental, suicidal, and homicid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cause, manner, and mechanisms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evelopment of rigor, algor, and livor mortis following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33E2-F547-47B8-89C4-1175CE1A46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4480" y="834120"/>
            <a:ext cx="3436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86" name="Picture 21" descr="45866_f1110"/>
          <p:cNvPicPr/>
          <p:nvPr/>
        </p:nvPicPr>
        <p:blipFill>
          <a:blip r:embed="rId1"/>
          <a:stretch/>
        </p:blipFill>
        <p:spPr>
          <a:xfrm>
            <a:off x="4191120" y="990720"/>
            <a:ext cx="427500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2"/>
          <p:cNvSpPr/>
          <p:nvPr/>
        </p:nvSpPr>
        <p:spPr>
          <a:xfrm>
            <a:off x="914400" y="2590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63a"/>
                </a:solidFill>
                <a:latin typeface="Kartika"/>
              </a:rPr>
              <a:t>—</a:t>
            </a:r>
            <a:r>
              <a:rPr b="1" i="1" lang="en-US" sz="2800" spc="-1" strike="noStrike">
                <a:solidFill>
                  <a:srgbClr val="3a763a"/>
                </a:solidFill>
                <a:latin typeface="Kartika"/>
              </a:rPr>
              <a:t>Stomach and Intestinal Cont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--Stages of Decomposi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rpse decomposes in predictable ways over time that can help examiners judge when death occurr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 Within 2 days after death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ll autolysis begins following deat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reen and purplish staining occurs from blood decomposi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takes on a marbled appear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face becomes discolo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 After 4 day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blist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abdomen swells with the gas carbon dioxide that is released by bacteria living in the intenti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12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415-292A-43B2-B145-34061C6F9B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--Stages of Decomposi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361960"/>
            <a:ext cx="769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 Within 6-10 day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corpse bloats with carbon dioxide as bacteria continue to feed on tissues.  Eventually, the gas causes the chest and abdominal cavities to burst and collap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luids begin to leak from the body openings as cell membranes rup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yeballs and other tissues lique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sloughs of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  See Figure 11-11 on page 317—Stages of Decom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EE2-2227-477D-BA36-B47AD47670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1D4E-3916-44AA-8DA3-BF7CE643936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05760" y="905760"/>
            <a:ext cx="771336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tages of Decomposi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ose: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ithin 2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fter 4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ithin 6-10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uids begin to leak from body openings as cell membranes rup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oloration of the f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kin sloughs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kin blis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en and purplish staining from blood decom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rpse bloa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yeballs and other tissues liquef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bdomen swe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rbling appearance on the sk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B2C-1F8E-405F-98EB-0536A6A711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Insec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entomologi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s insect evidence from on, above, and below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rds environmental cond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minutes of a death, certain insects arrive to lay their eggs on the warm body—blowflies—they are attracted to 2 gases of decom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corpse progresses through the stages of decomposition, other kinds of insects arr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2BA9-1082-4ADE-A8B8-D7AA90F4EE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720" y="977040"/>
            <a:ext cx="5513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Blowfly Life Cycl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8 hours after death—blowfly eggs can be found in the moist, warm areas of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20 hours—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ir 3 larva stag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5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y—3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ir 3 larva stag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Picture 16" descr="45866_f1117d"/>
          <p:cNvPicPr/>
          <p:nvPr/>
        </p:nvPicPr>
        <p:blipFill>
          <a:blip r:embed="rId1"/>
          <a:stretch/>
        </p:blipFill>
        <p:spPr>
          <a:xfrm>
            <a:off x="3733920" y="4648320"/>
            <a:ext cx="1066680" cy="42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45866_f1117b"/>
          <p:cNvPicPr/>
          <p:nvPr/>
        </p:nvPicPr>
        <p:blipFill>
          <a:blip r:embed="rId2"/>
          <a:stretch/>
        </p:blipFill>
        <p:spPr>
          <a:xfrm>
            <a:off x="3809880" y="3825720"/>
            <a:ext cx="83844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CF4-7DE4-4BD0-BD5E-E92102A6B5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Blowfly Life Cycl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 to 12 days—larvae migrates to a dry plac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 to 24 days— Early pupa; immobile; changes from light brown to dark b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2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24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y the pupa cases will split open and adult blowflies will emer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8" descr="45866_f1117e"/>
          <p:cNvPicPr/>
          <p:nvPr/>
        </p:nvPicPr>
        <p:blipFill>
          <a:blip r:embed="rId1"/>
          <a:stretch/>
        </p:blipFill>
        <p:spPr>
          <a:xfrm>
            <a:off x="3581280" y="2819520"/>
            <a:ext cx="1295640" cy="406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45866_f1117g"/>
          <p:cNvPicPr/>
          <p:nvPr/>
        </p:nvPicPr>
        <p:blipFill>
          <a:blip r:embed="rId2"/>
          <a:stretch/>
        </p:blipFill>
        <p:spPr>
          <a:xfrm>
            <a:off x="3657600" y="5257800"/>
            <a:ext cx="114300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A570-9317-40AF-A7F7-5E21DD77E0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Insec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insect life cycle provides scientists with a benchmark to estimate a time of death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ect evidence cannot provide an exact time of death because of fluctuating environmental condi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ect evidence provides a close estimat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A0A-F942-46B8-BBFF-85B64089C0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4120" y="834120"/>
            <a:ext cx="678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ral definitions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dy decomposing through three stages— livor, rigor, and algor mortis—provides an estimated time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mach contents and insect evidence also aid in estimating the time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ronmental factors affect the estimated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5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ED7-0DE1-4895-9A92-71523C4650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1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ath: Meaning, Manner,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chanism, Cause, and Time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imate th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ages of decomposition of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evidence on stomach contents to estimat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insect evidence to estimat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environmental factors can affect the estimated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4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3004-8AE1-4EC4-85D8-4BD2292D18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finition of Death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ssation, or end, of li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rreversible cessation of blood circ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ssation of all brain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rts do not agree on a single defi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cases of suspicious death, a forensic pathologist (MD) conducts an examination on the deceased, called a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utops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utopsy is conducted to determine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mann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au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mechani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time of dea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th is a process rather than an instant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the heart stops beating, the cells of the body begin to die because they no longer receive a fresh supply of oxyg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xygen levels drop, the basic processes of the body fail to occur.  Nerves, muscles, organs, and the brain stop wor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a cell dies, it breaks down. Once enough cells begin to break down, life cannot be restar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ll breakdown i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utoly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925B-A1DC-482C-A5AF-0DAF84FD55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2D0-C2FC-4339-AFC2-E7FBCC1A8F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lysis—cell breakd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45866_f1101"/>
          <p:cNvPicPr/>
          <p:nvPr/>
        </p:nvPicPr>
        <p:blipFill>
          <a:blip r:embed="rId1"/>
          <a:stretch/>
        </p:blipFill>
        <p:spPr>
          <a:xfrm>
            <a:off x="2514600" y="2924280"/>
            <a:ext cx="35053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FF1-8C92-4B94-9E93-A79742639E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9800" y="981720"/>
            <a:ext cx="61891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Manner of Death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anner of death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b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most common—interruption &amp; failure  of body functions resulting from age or dis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ccident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caused by unplanned events (car accident, falling from a ladder, etc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uicid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when a person purposefully kills oneself (hanging, drug overdose, gunshot, etc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omicid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death of one person caused by another per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Undetermin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stated on death certificate if the official cause can’t be determined (this leaves room for further investigation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96080" indent="-496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times the manner of death is difficult to determ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45DB-5AF8-457A-BB1C-9C23D706B1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910080"/>
            <a:ext cx="6941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use and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Mechanism of Death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200400"/>
            <a:ext cx="7693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Cause of the death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as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the death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disease, physical injury, stroke, heart attack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ases of Death by Homicid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bludgeoning, shooting, burning, drowning, strangulation, hanging, suffocation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echanism of death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pecific change in the bod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brought about the cessation of lif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loss of blood (exsanguination), cessation of brain function, cessation of heart function (heart failure), cessation of breathing (respiratory failure)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5" descr="Ch 11 murderedBody01a"/>
          <p:cNvPicPr/>
          <p:nvPr/>
        </p:nvPicPr>
        <p:blipFill>
          <a:blip r:embed="rId1"/>
          <a:stretch/>
        </p:blipFill>
        <p:spPr>
          <a:xfrm>
            <a:off x="5522760" y="1295280"/>
            <a:ext cx="28591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F48-A659-440E-90D2-934CCA7E56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0440" y="910080"/>
            <a:ext cx="7704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a753"/>
                </a:solidFill>
                <a:latin typeface="Kartika"/>
              </a:rPr>
              <a:t>During an autopsy, the forensic examiner wants to determine </a:t>
            </a:r>
            <a:r>
              <a:rPr b="1" lang="en-US" sz="2000" spc="-1" strike="noStrike" u="sng">
                <a:solidFill>
                  <a:srgbClr val="53a753"/>
                </a:solidFill>
                <a:uFillTx/>
                <a:latin typeface="Kartika"/>
              </a:rPr>
              <a:t>when</a:t>
            </a:r>
            <a:r>
              <a:rPr b="1" lang="en-US" sz="2000" spc="-1" strike="noStrike">
                <a:solidFill>
                  <a:srgbClr val="53a753"/>
                </a:solidFill>
                <a:latin typeface="Kartika"/>
              </a:rPr>
              <a:t> the person died.  Why???</a:t>
            </a:r>
            <a:endParaRPr b="1" lang="en-US" sz="2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763a"/>
                </a:solidFill>
                <a:latin typeface="Kartika"/>
              </a:rPr>
              <a:t>Time of Death—Livor Mort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Kartika"/>
              </a:rPr>
              <a:t>The Leaden-Color of Dea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ividity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decomposition, blood seeps down and settles in the lower parts of a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blood cells turn bluish-purple; the purplish color is visible on parts of the skin wherever the blood pools.  The process takes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8" descr="45866_f1104"/>
          <p:cNvPicPr/>
          <p:nvPr/>
        </p:nvPicPr>
        <p:blipFill>
          <a:blip r:embed="rId1"/>
          <a:stretch/>
        </p:blipFill>
        <p:spPr>
          <a:xfrm>
            <a:off x="1676520" y="5105520"/>
            <a:ext cx="609588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3-28T15:14:15Z</dcterms:modified>
  <cp:revision>181</cp:revision>
  <dc:subject/>
  <dc:title>Slide 1</dc:title>
</cp:coreProperties>
</file>