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C4E5-6648-406F-8EDB-A570F37E1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C87F-19E0-479A-8D2D-DCB9BA3CD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F410-0121-464E-A27E-846B4F823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A1C0-D3F4-4A70-920E-6DA4D1F46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B8438-7CE9-43D4-AD92-D26CB331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35B89-BC54-45EB-A9A4-E7BA3BA9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3FAA9-9266-428A-9204-00015BB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4F1B-CCC5-4F6A-9F43-9846017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AE959-A681-4062-917A-C714E00E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61F8-E65F-4821-AB40-8506D0B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501B-4FC0-432C-9975-FAFEADE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461E-BD45-4DBA-AA70-AB1ABB820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6706-A836-4217-95BF-381936B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94951-4F91-4908-8247-CF5DD0A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ADD8-6DE3-47CB-A532-A3D2AA7F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51500-3434-4981-8858-94FFAAF1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74FE7-FDE9-4F9E-97FC-B5E2F395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BE2B-E4A2-48B5-92CF-9D4848EA5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01D3-D649-45C3-8C61-1E88A792D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9268-0D79-4DFA-BE5B-3D5C818B1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2194-5616-4CE4-9E20-9D09765C2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8AC9-C56C-46DA-868D-161D9E95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F82D-C0D1-4692-9404-708C55FFD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E484-5ABA-4831-AB4C-133E65C1D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DFE-5DE0-4A91-95D9-08DF3C1A3D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E983-8A95-4F24-98C2-38C0C40D6C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493-716B-4A77-A38F-A5CFBE6305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9160" y="915120"/>
            <a:ext cx="76935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9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rug Identification and Toxicology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dentify the five types of controlled substance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late signs and symptoms of overdose with a specific class of drugs or toxi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scribe the role of various types of toxins in causing death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scuss agents that may be used in bioterrorism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3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fine and describe the goals and practice of toxicology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2B7D-7B65-456C-B168-1A513C81AC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5760" y="1058040"/>
            <a:ext cx="73324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a753"/>
                </a:solidFill>
                <a:latin typeface="Kartika"/>
              </a:rPr>
              <a:t>Poison—</a:t>
            </a: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Murder, Accidental Overdoses, and Drug Offences</a:t>
            </a: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 </a:t>
            </a:r>
            <a:r>
              <a:rPr b="1" i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soning causes less than ½ of 1% of all homicides (not comm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idental drug overdoses are more comm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g off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than 50% of the federal prison pop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out 20% of the population in state priso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ests have increased since the early 1900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778-9B89-4E34-96F3-F31900223F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ontrolled Substance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lucinog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rco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mul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bolic stero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ress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838080" y="2438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gal drugs whose sale, possession, and use are restric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786-74D4-450B-8894-DD2056F16B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derived from pl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and intensity of response to these drugs varies from person to pers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ects the user’s perceptions, thinking, self-awareness, and 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527C-3B5D-4109-9E62-442D800783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ects of an overdose often inclu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heart ra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blood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ic attacks, anxiety, or psych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1B37-2EBD-40FE-8399-AD85E63507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Hallucinogen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1" name="Picture 14" descr="Picture 3"/>
          <p:cNvPicPr/>
          <p:nvPr/>
        </p:nvPicPr>
        <p:blipFill>
          <a:blip r:embed="rId1"/>
          <a:stretch/>
        </p:blipFill>
        <p:spPr>
          <a:xfrm>
            <a:off x="1600200" y="2209680"/>
            <a:ext cx="5867280" cy="3581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990720" y="5715000"/>
            <a:ext cx="7238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SD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– found in 1938 in a fungus that grows on grains, most potent mood changing.  Odorless, colorless and tasteless.  Sold in tablets, absorbent paper divided into decorative squar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CP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– pure, white, crystal powder, a tablet or capsul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2DD-58A1-47BD-AF66-156BCF7B43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Narcotic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5" name="Picture 7" descr="Picture 2"/>
          <p:cNvPicPr/>
          <p:nvPr/>
        </p:nvPicPr>
        <p:blipFill>
          <a:blip r:embed="rId1"/>
          <a:stretch/>
        </p:blipFill>
        <p:spPr>
          <a:xfrm>
            <a:off x="1676520" y="3062160"/>
            <a:ext cx="5562360" cy="3795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990720" y="2209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d"/>
                </a:solidFill>
                <a:latin typeface="Arial"/>
              </a:rPr>
              <a:t>Used to reduce pain by suppressing the central nervous system…often causes unconsciousnes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8FD-1B33-4C4A-885A-77EC8B1A1C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Stimula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Increases feelings of energy and alertness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uppresses appetite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Afterwards, depression often results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Overdose affects include high blood pressure, agitation, confusion, seizures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126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timulants tend to be highly addictive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AFA-45B4-436B-9801-A5419EE740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Stimula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52" name="Picture 6" descr="Figure 9-3"/>
          <p:cNvPicPr/>
          <p:nvPr/>
        </p:nvPicPr>
        <p:blipFill>
          <a:blip r:embed="rId1"/>
          <a:stretch/>
        </p:blipFill>
        <p:spPr>
          <a:xfrm>
            <a:off x="990720" y="2438280"/>
            <a:ext cx="721656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AA2-8DD5-4BE4-93A6-CB2CFC7E9F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760" y="981720"/>
            <a:ext cx="77133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Anabolic Steroid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hemical structure similar to testoster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mote cell and tissue growth increasing bone mass and body muscl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pular with weightlifters, bodybuilders, and other athlet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are some of the negative side effects?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38F0-60BA-4371-B0BA-67CF5D1DAF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Depressants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rbiturates and benzodiazepin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ffects the central nervous system by increasing GABA activity, a neurotransmitt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creased GABA causes drowsiness and slowed brain activit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lieves anxiety and produces slee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de effects include slurred speech and loss of coordin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ixing depressants with alcohol and other drugs increases potency and health ris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OLOG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y of poisons and the identification of dru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i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rea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min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ingesting,  inhaling,  inj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160-E759-43A4-BEB2-4D2B1B2642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2A3-C751-4BB1-957E-900D258850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Alcoho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what way are alcohols toxic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grain alcohol produc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classic symptoms of a hangover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effect of alcohol on the central nervous system?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chronic alcohol abuse cause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9BA9-5682-4A0B-9F44-436AE49417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Bellwork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ys do alcohol affect a hum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423-18CA-4815-824F-498F72A5BB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96040" y="112464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Bacterial Toxin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ta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also calle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ockja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roduced by the Clostridium tetani bacteria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uses violent muscle spas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tuli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roduced by Clostridium botulinum—botulism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aralyzes muscl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uses irreversible damage to nerve ending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tremely deadly in very small amou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ost poisonous biological substance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oxin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2120" y="23619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c - poisonous substances produced by living organisms. (bee sting, snake bite, plan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cohols – ethanol (beverag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al – EX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otuli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most poison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ostridium botuli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contaminated fo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ta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ea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ostridium tetan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0C86-D07B-4E26-9D5C-0910AFC4D4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958-8391-4A2D-B6AF-CBA846706F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Pesticides and Heavy Meta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73" name="Picture 5" descr="Figure 9-6a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987-FBA4-414E-94A5-117282BBB3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Pesticides and Heavy Metal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76" name="Picture 7" descr="Figure 9-6b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9A0-DAF5-462F-B470-D9C9369417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</a:t>
            </a:r>
            <a:br>
              <a:rPr sz="3200"/>
            </a:b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—Bioterrorism Age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icin</a:t>
            </a:r>
            <a:r>
              <a:rPr b="0" lang="en-US" sz="3600" spc="-1" strike="noStrike">
                <a:solidFill>
                  <a:srgbClr val="cc3300"/>
                </a:solidFill>
                <a:latin typeface="Kartik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oisonous protein in the castor be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hal in extremely small am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s the body in various way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haled as a mist or a 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ested as food or dri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jected into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s death within a few hou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714B-7876-4DD6-8FCE-7AA2730059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05760" y="98172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a753"/>
                </a:solidFill>
                <a:latin typeface="Kartika"/>
              </a:rPr>
              <a:t>Controlled Substances—Bioterrorism Agents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thrax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illus anthracis, which forms endosp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s to humans from infected animal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s the human body through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halation; causing breathing problems that usually result in dea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estion; becoming fatal in 25% to 60% of cas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4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orption via the skin; leading to death in about 20% of untreated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E4F4-793B-4A07-B22E-2C958FC753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Summary. . . . . . . . 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toxicology seeks to identify poisons or drugs in criminals and victi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ology is important in studying cases of drug overdose  and sporting viol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C191-ED9E-4C82-BAAF-1210365FC3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. . . . 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led substances fall into five main group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llucinoge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rco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mul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51"/>
              </a:spcAft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press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2895480"/>
            <a:ext cx="739116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potential problems with things you may come into contact with, ingest, or inhal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55E4-345B-4848-8691-67E7B8765B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5C76-E3B6-48C2-8E42-49489221F2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sons can be produced by living organis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sticides and heavy metals are common pois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1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terrorism agents include ricin and anthrax.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gree to which a substance is poisonous or can cause inj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(how it was ta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ation (frequenc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re of exposur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ingested, inhaled or absorb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on (mixture with other drug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AD62-F368-4BF2-8FA5-70CAE89FC2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0DE-66ED-4589-916A-25AA3A7DF2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ensic toxic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elps determine cause-and-effect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osure to a drug or other sub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xic or lethal effects from that 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82F-F06D-4C6E-93B7-A24453AE73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can be exposed to toxic substance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tional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reating illness or relieving pa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idental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harmful combinations or overdo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ly—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harming or killing others, or by suici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F960-F80A-4E2A-A9B4-8A5A91CBA6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four ways people can be exposed to toxic substan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rief History of Drug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99 BC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rates died of hemlock pois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senic poisoning “inheritance powde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97 – Orfila and Christison could identify arsenic in the tissue of bo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45 – cyanide capsules used to murder Nazi leaders Himmler and Go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8 – Jonestown cult members (cyanide punch   killing 900 peo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8 – Bulgarian dissident Markov died by ingesting ricin, a component of the waste product of the manufacture of castor oil from castor b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BC9-0166-4030-9888-D8EF84F92B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Pois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ly used pois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se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yan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ychn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icals used in fertil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564-AC4D-4880-A54D-2108591ACE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38080" y="548640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Acute poison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high dose over a short period of time, such as cyanide ingestion or inhalation, immediately producing sympto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Chronic poison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lower doses over longer periods of time, gradual sympto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3-14T21:27:18Z</dcterms:modified>
  <cp:revision>195</cp:revision>
  <dc:subject/>
  <dc:title>Slide 1</dc:title>
</cp:coreProperties>
</file>