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5054D-9EBA-4E12-A828-A1C13A3CF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674C1-FB98-465D-AB8A-5AB06820B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EAD06-2ABB-4065-BCB3-5E6228A01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66798-BE4A-4BDA-AE3D-00446FA6C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625EE-3AF1-40A9-BF8B-A9DE8842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35ABD-3230-48C5-8701-0D38801A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E6BF9-4DA4-4C85-A7B2-E0197DA3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7B87F-310C-476A-AF99-2C651AC6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DB3F9-32C9-44CC-96F6-FA772BA2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83D6C-158E-43BA-8B41-354B72F0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9E5F4-491C-4274-9CC8-D2F4ABAA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5D539-666F-41F5-B7A2-4344FFD52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187AF-C5B6-4E07-92D5-9EAB41FE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F4089-AC2F-4948-B6D2-891BCE43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62686-7E7B-4E2F-A526-5C9498E5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C910C-87B7-4233-A00F-828023E0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E12EC-23CB-4610-92E1-60CA4028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05F0E-6343-4915-9C8C-C7FF68E2A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62152-5ACF-4ABE-87D5-0E71534B9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6952F-BF2E-4054-AF98-90BE4DEE2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DBC97-C18E-40D8-8270-A0913C29A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9B03C-5CEC-44D6-975A-B4028FF7D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DDBDC-DFE0-427B-B623-899C432FC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F1057-208E-4EFC-8F38-FC1F34FA3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53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83772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9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BAB2-47FB-4654-A1ED-ACCCBE91CB0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3" descr="EOC Bar verso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4" descr="fingerprint"/>
          <p:cNvPicPr/>
          <p:nvPr/>
        </p:nvPicPr>
        <p:blipFill>
          <a:blip r:embed="rId3"/>
          <a:stretch/>
        </p:blipFill>
        <p:spPr>
          <a:xfrm>
            <a:off x="8474040" y="457200"/>
            <a:ext cx="66996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57600" y="4876920"/>
            <a:ext cx="4876920" cy="318960"/>
            <a:chOff x="3657600" y="48769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57600" y="48769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53a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74240" y="48769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5" name="Picture 13" descr="EOC Bar verso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fingerprint"/>
          <p:cNvPicPr/>
          <p:nvPr/>
        </p:nvPicPr>
        <p:blipFill>
          <a:blip r:embed="rId3"/>
          <a:stretch/>
        </p:blipFill>
        <p:spPr>
          <a:xfrm>
            <a:off x="8077320" y="1371600"/>
            <a:ext cx="669960" cy="838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3354-5DA3-48EA-B855-DCECEAC0C87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207B-54A7-4712-9934-435E92914CD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9160" y="915120"/>
            <a:ext cx="769356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a753"/>
                </a:solidFill>
                <a:latin typeface="Arial"/>
              </a:rPr>
              <a:t>Chapter 9</a:t>
            </a:r>
            <a:r>
              <a:rPr b="0" lang="en-US" sz="3200" spc="-1" strike="noStrike">
                <a:solidFill>
                  <a:srgbClr val="53a753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Drug Identification and Toxicology </a:t>
            </a:r>
            <a:br>
              <a:rPr sz="2700"/>
            </a:br>
            <a:r>
              <a:rPr b="1" lang="en-US" sz="2200" spc="-1" strike="noStrike">
                <a:solidFill>
                  <a:srgbClr val="53a753"/>
                </a:solidFill>
                <a:latin typeface="Arial"/>
              </a:rPr>
              <a:t>By the end of this chapter you will be able to:</a:t>
            </a:r>
            <a:r>
              <a:rPr b="1" lang="en-US" sz="18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2666520"/>
            <a:ext cx="807696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83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Identify the five types of controlled substances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3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Relate signs and symptoms of overdose with a specific class of drugs or toxins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3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Describe the role of various types of toxins in causing death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3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Discuss agents that may be used in bioterrorism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3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Define and describe the goals and practice of toxicology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6850-627B-4949-980F-466DD22F5CE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05760" y="1058040"/>
            <a:ext cx="733248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a753"/>
                </a:solidFill>
                <a:latin typeface="Kartika"/>
              </a:rPr>
              <a:t>Poison—</a:t>
            </a: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Murder, Accidental Overdoses, and Drug Offences</a:t>
            </a: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 </a:t>
            </a:r>
            <a:r>
              <a:rPr b="1" i="1" lang="en-US" sz="36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51460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isoning causes less than ½ of 1% of all homicides (not comm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idental drug overdoses are more comm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ug offen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1049"/>
              </a:spcBef>
              <a:spcAft>
                <a:spcPts val="60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than 50% of the federal prison pop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1049"/>
              </a:spcBef>
              <a:spcAft>
                <a:spcPts val="60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out 20% of the population in state prison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1049"/>
              </a:spcBef>
              <a:spcAft>
                <a:spcPts val="60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rests have increased since the early 1900’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550E-B699-4A06-A070-988D174BBDD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ontrolled Substances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31334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llucinoge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rcot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imul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bolic steroi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pressa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838080" y="24382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gal drugs whose sale, possession, and use are restric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F6A5-439C-4196-B401-7B9DC3176E1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0720" y="1053000"/>
            <a:ext cx="7723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Hallucinogens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590560"/>
            <a:ext cx="7693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ten derived from pl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ffect and intensity of response to these drugs varies from person to pers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ffects the user’s perceptions, thinking, self-awareness, and emo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7F83-216D-46CD-A514-D8EB369F6C0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00720" y="1053000"/>
            <a:ext cx="7723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Hallucinogens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590560"/>
            <a:ext cx="7693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ffects of an overdose often includ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d heart rat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d blood pres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nic attacks, anxiety, or psycho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C1A6-328A-406C-8572-9DE0A066814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00720" y="1053000"/>
            <a:ext cx="7723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Hallucinogens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141" name="Picture 14" descr="Picture 3"/>
          <p:cNvPicPr/>
          <p:nvPr/>
        </p:nvPicPr>
        <p:blipFill>
          <a:blip r:embed="rId1"/>
          <a:stretch/>
        </p:blipFill>
        <p:spPr>
          <a:xfrm>
            <a:off x="1600200" y="2209680"/>
            <a:ext cx="5867280" cy="35816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990720" y="5715000"/>
            <a:ext cx="7238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SD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– found in 1938 in a fungus that grows on grains, most potent mood changing.  Odorless, colorless and tasteless.  Sold in tablets, absorbent paper divided into decorative square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CP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– pure, white, crystal powder, a tablet or capsule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EA5F-3078-4B41-96E8-A4FB01076C8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00720" y="1053000"/>
            <a:ext cx="7723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Narcotics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145" name="Picture 7" descr="Picture 2"/>
          <p:cNvPicPr/>
          <p:nvPr/>
        </p:nvPicPr>
        <p:blipFill>
          <a:blip r:embed="rId1"/>
          <a:stretch/>
        </p:blipFill>
        <p:spPr>
          <a:xfrm>
            <a:off x="1676520" y="3062160"/>
            <a:ext cx="5562360" cy="37958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990720" y="2209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d"/>
                </a:solidFill>
                <a:latin typeface="Arial"/>
              </a:rPr>
              <a:t>Used to reduce pain by suppressing the central nervous system…often causes unconsciousnes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5AC0-D34A-47D2-8B2F-402E2BB5B0B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00720" y="1053000"/>
            <a:ext cx="76471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Stimulants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543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Aft>
                <a:spcPts val="1261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Increases feelings of energy and alertness 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1261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Suppresses appetite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1261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Afterwards, depression often results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1261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Overdose affects include high blood pressure, agitation, confusion, seizures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1261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Stimulants tend to be highly addictive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A19D-0D94-4DD7-BA5B-472D3661E4B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00720" y="1053000"/>
            <a:ext cx="76471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Stimulants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152" name="Picture 6" descr="Figure 9-3"/>
          <p:cNvPicPr/>
          <p:nvPr/>
        </p:nvPicPr>
        <p:blipFill>
          <a:blip r:embed="rId1"/>
          <a:stretch/>
        </p:blipFill>
        <p:spPr>
          <a:xfrm>
            <a:off x="990720" y="2438280"/>
            <a:ext cx="7216560" cy="25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188C-5D2A-413D-8078-E5D3124E098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05760" y="981720"/>
            <a:ext cx="771336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Anabolic Steroids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Aft>
                <a:spcPts val="81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 chemical structure similar to testosteron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81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romote cell and tissue growth increasing bone mass and body muscle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81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pular with weightlifters, bodybuilders, and other athlet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81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at are some of the negative side effects?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6BF8-E254-4E4B-8C61-5E1F27F074A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00720" y="1053000"/>
            <a:ext cx="7723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Depressants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5000"/>
              </a:lnSpc>
              <a:spcAft>
                <a:spcPts val="81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Barbiturates and benzodiazepin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17320" indent="-517320">
              <a:lnSpc>
                <a:spcPct val="85000"/>
              </a:lnSpc>
              <a:spcAft>
                <a:spcPts val="81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ffects the central nervous system by increasing GABA activity, a neurotransmitte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17320" indent="-517320">
              <a:lnSpc>
                <a:spcPct val="85000"/>
              </a:lnSpc>
              <a:spcAft>
                <a:spcPts val="81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creased GABA causes drowsiness and slowed brain activit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17320" indent="-517320">
              <a:lnSpc>
                <a:spcPct val="85000"/>
              </a:lnSpc>
              <a:spcAft>
                <a:spcPts val="81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elieves anxiety and produces sleep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17320" indent="-517320">
              <a:lnSpc>
                <a:spcPct val="85000"/>
              </a:lnSpc>
              <a:spcAft>
                <a:spcPts val="81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ide effects include slurred speech and loss of coordina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17320" indent="-517320">
              <a:lnSpc>
                <a:spcPct val="85000"/>
              </a:lnSpc>
              <a:spcAft>
                <a:spcPts val="81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ixing depressants with alcohol and other drugs increases potency and health risk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XICOLOG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tudy of poisons and the identification of dru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dici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reat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imina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ingesting,  inhaling,  injec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3E96-87A6-4148-8D2A-7086FB5EB6B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5799-942A-46AC-ABC7-78AE32A36F7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96040" y="112464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Alcohols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what way are alcohols toxic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is grain alcohol produced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classic symptoms of a hangover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effect of alcohol on the central nervous system?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chronic alcohol abuse cause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8D9E-271F-4333-B334-22D17C10E99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96040" y="112464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Bellwork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5146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ways do alcohol affect a huma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1167-0FAA-447C-AD05-70918508D95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96040" y="112464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Bacterial Toxins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etan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also called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Lockjaw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Produced by the Clostridium tetani bacteria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auses violent muscle spasm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otulis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Produced by Clostridium botulinum—botulism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Paralyzes muscl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auses irreversible damage to nerve ending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xtremely deadly in very small amount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Most poisonous biological substance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oxin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62120" y="23619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ganic - poisonous substances produced by living organisms. (bee sting, snake bite, plant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cohols – ethanol (beverag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al – EX.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otulis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most poison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  (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lostridium botulinu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  contaminated fo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.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etan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dead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  (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lostridium tetan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1A39-F13B-4949-9200-7F64458DD20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B654-5958-4F02-9BC0-4866B1208CE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00720" y="1053000"/>
            <a:ext cx="7723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Pesticides and Heavy Metals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173" name="Picture 5" descr="Figure 9-6a"/>
          <p:cNvPicPr/>
          <p:nvPr/>
        </p:nvPicPr>
        <p:blipFill>
          <a:blip r:embed="rId1"/>
          <a:stretch/>
        </p:blipFill>
        <p:spPr>
          <a:xfrm>
            <a:off x="1219320" y="2438280"/>
            <a:ext cx="685800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B093-03AA-4283-864B-E6F53FA2A4D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00720" y="1053000"/>
            <a:ext cx="7723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Pesticides and Heavy Metals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176" name="Picture 7" descr="Figure 9-6b"/>
          <p:cNvPicPr/>
          <p:nvPr/>
        </p:nvPicPr>
        <p:blipFill>
          <a:blip r:embed="rId1"/>
          <a:stretch/>
        </p:blipFill>
        <p:spPr>
          <a:xfrm>
            <a:off x="1219320" y="2438280"/>
            <a:ext cx="6858000" cy="34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8388-0B06-424D-AC6D-169CD701990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00720" y="1053000"/>
            <a:ext cx="7723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Bioterrorism Agents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icin</a:t>
            </a:r>
            <a:r>
              <a:rPr b="0" lang="en-US" sz="3600" spc="-1" strike="noStrike">
                <a:solidFill>
                  <a:srgbClr val="cc3300"/>
                </a:solidFill>
                <a:latin typeface="Kartika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oisonous protein in the castor be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thal in extremely small am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ers the body in various way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haled as a mist or a powd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gested as food or drin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jected into the bo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uses death within a few hou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5010-1285-49AE-8814-79E57D2DA94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05760" y="981720"/>
            <a:ext cx="725616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—Bioterrorism Agents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thrax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52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illus anthracis, which forms endosp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52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reads to humans from infected animal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451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ers the human body through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Aft>
                <a:spcPts val="45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halation; causing breathing problems that usually result in deat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Aft>
                <a:spcPts val="45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gestion; becoming fatal in 25% to 60% of cas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Aft>
                <a:spcPts val="45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sorption via the skin; leading to death in about 20% of untreated c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6440-EE5C-428A-99EC-570A37E6FE7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34120" y="834120"/>
            <a:ext cx="724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 . . . . . Summary. . . . . . . . </a:t>
            </a:r>
            <a:r>
              <a:rPr b="1" lang="en-US" sz="32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876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ensic toxicology seeks to identify poisons or drugs in criminals and victim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876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xicology is important in studying cases of drug overdose  and sporting violat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728D-C07A-4C15-A472-C9DDE40A882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34120" y="834120"/>
            <a:ext cx="724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 . . . . . . . . . Summary. . . . </a:t>
            </a:r>
            <a:r>
              <a:rPr b="1" lang="en-US" sz="32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876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rolled substances fall into five main group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5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llucinogen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5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rcot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5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imul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5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eroi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5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press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Bellwork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61760" y="2895480"/>
            <a:ext cx="7391160" cy="31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potential problems with things you may come into contact with, ingest, or inhale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AAC1-25CF-455C-9C8F-36C2464EBE2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D048-5BE6-45AC-AB9E-4DA47705A9E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34120" y="834120"/>
            <a:ext cx="724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 . . . . . . . . . . . . . Summary</a:t>
            </a:r>
            <a:r>
              <a:rPr b="1" lang="en-US" sz="32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876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isons can be produced by living organism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876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sticides and heavy metals are common pois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81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oterrorism agents include ricin and anthrax.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Picture 4" descr="EOC Bar verso02"/>
          <p:cNvPicPr/>
          <p:nvPr/>
        </p:nvPicPr>
        <p:blipFill>
          <a:blip r:embed="rId1"/>
          <a:stretch/>
        </p:blipFill>
        <p:spPr>
          <a:xfrm>
            <a:off x="3200400" y="5943600"/>
            <a:ext cx="59436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XI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egree to which a substance is poisonous or can cause inju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(how it was tak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ration (frequenc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ure of exposur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ingested, inhaled or absorb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action (mixture with other drug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BC8F-A342-4F9B-B622-3A62666001B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CC27-E605-4BB9-B071-69DC511B154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96040" y="104868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Introduction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rensic toxicolog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elps determine cause-and-effect relationshi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twee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osure to a drug or other subst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xic or lethal effects from that exposu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8451-D6B3-45DB-AA32-70EAC81A024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96040" y="104868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Introduction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ople can be exposed to toxic substance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ntionally—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treating illness or relieving pai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identally—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harmful combinations or overdos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liberately—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harming or killing others, or by suicid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490C-2A89-4751-BCDE-2B8267D2179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96040" y="104868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Bellwork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four ways people can be exposed to toxic substanc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Brief History of Drugs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99 BC -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crates died of hemlock poiso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senic poisoning “inheritance powder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797 – Orfila and Christison could identify arsenic in the tissue of bod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45 – cyanide capsules used to murder Nazi leaders Himmler and Goe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78 – Jonestown cult members (cyanide punch   killing 900 peopl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78 – Bulgarian dissident Markov died by ingesting ricin, a component of the waste product of the manufacture of castor oil from castor be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BF67-C201-4E5F-8E7C-1A40662BA16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Poison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ly used pois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sen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yani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ychn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micals used in fertiliz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D12F-E9D1-45B2-B06E-68DC73F78FA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838080" y="5486400"/>
            <a:ext cx="769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Acute poisoning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– high dose over a short period of time, such as cyanide ingestion or inhalation, immediately producing symptom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Chronic poisoning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– lower doses over longer periods of time, gradual symptom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11:16:04Z</dcterms:created>
  <dc:creator>Alan Biiondi</dc:creator>
  <dc:description/>
  <dc:language>en-US</dc:language>
  <cp:lastModifiedBy>Kerry Miyoshi</cp:lastModifiedBy>
  <dcterms:modified xsi:type="dcterms:W3CDTF">2017-03-14T21:27:18Z</dcterms:modified>
  <cp:revision>195</cp:revision>
  <dc:subject/>
  <dc:title>Slide 1</dc:title>
</cp:coreProperties>
</file>