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7CB4-7411-4A0F-8363-C39957AC8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3AA4-20D6-4A47-8588-D23BF2A86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67E9-237B-4737-AE2A-F0DADEDC1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BBB2B-621E-4CCA-92C3-545BBFC98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75ED5-1C68-44A0-BCD0-C0B0E152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13F20-8163-433A-BB53-59AB6ACC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B77B1-5C25-495F-824C-DAEAA1A7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A0146-DEBF-4E0F-8FC9-EF800BF0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406C2-AB9F-43A6-AF75-749D5F01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BD700-5C4E-4013-B347-A8BC2FD4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47D05-E950-4AEE-9EA0-A57C35CA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6C9E-5FD2-4B4A-AFFB-490A88C25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58D4A-DD1B-4F2D-A462-825BE46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C3C4C-4A78-4E29-8007-D188832C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9D0C7-C512-4B1B-9F4A-9C2C48AB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4CC50-4A08-4DD2-BAC1-E7479A1D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BA9C3-AA75-4A22-9BD7-00019141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817B-560C-414A-AFA8-CC3776D12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601C-069F-4DE4-9BD5-0B52A80FC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624E-50D0-46A0-A67F-1EBEB4F4C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90A0-FD93-4360-AD5B-91AF5E5BB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4359-5A42-48F7-8358-51EFBC032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03C4-1C75-4E33-9E56-6B2543AF0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9B58-A6FD-4F53-86F5-6D23B56F3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5B13-82AF-4AB9-9C51-1934AA29712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C822-DCBD-4465-946A-B58A39F66D1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Chapter 17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llistics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076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the differences between a handgun, a rifle, and a shotg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rifling on a gun barrel and how it affects the flight of the project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barrel size and calibe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12,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A1AF-8217-49F8-A713-7EECC590D55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05760" y="981720"/>
            <a:ext cx="672264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aliber of the Cartridg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69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iber—a measure of the diameter of the cartrid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hundredths of an i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calibers include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22, .25, .357, .38, .44, and .4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should the caliber of ammunition match the firearm that shoots it?  If they do not match, what could go wrong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78A8-7757-4717-9B46-370D2A810C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05400" y="1058040"/>
            <a:ext cx="702756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he Study of Bullets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and Cartridge Casing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400" y="4572000"/>
            <a:ext cx="7616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ow is each fired bullet marked? 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What is the procedure to match a spent bullet to the firearm that shot it? 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What makes up a test-firing, and why is it done? 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572000" cy="20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B036-39DB-43D9-9DD4-B79D41346A99}" type="slidenum">
              <a:t>11</a:t>
            </a:fld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95680" y="1124640"/>
            <a:ext cx="71233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Marks on the 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Spent Cartridge Casing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ing pin mar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ear on the rim or center of the spent cartrid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be used to match a cartridge to a firea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eechblock mar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duced when the cartridge casing slams backward and strikes the breechbloc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ractor ma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jector mar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70B2-1DF3-4CB3-8A59-D057EA14766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05400" y="981720"/>
            <a:ext cx="710388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unshot Residues 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unshot Residues (GS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901"/>
              </a:spcAft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cles of unburned powder and traces of smok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901"/>
              </a:spcAft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ve traces on the hand, arm, face, hair, or clothing of the shooter and/or victi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mical testing can detect residue even if removal is attempt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ance from victim to shooter can be determined by examining the residue pattern on the victi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7A65-7586-42BA-990E-5943496BA7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00360" y="1053000"/>
            <a:ext cx="52088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rajectory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wo reference points are needed to define the trajectory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nvestigators can</a:t>
            </a:r>
            <a:br>
              <a:rPr sz="2500"/>
            </a:b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igure the shooter </a:t>
            </a:r>
            <a:br>
              <a:rPr sz="2500"/>
            </a:b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ischarged the </a:t>
            </a:r>
            <a:br>
              <a:rPr sz="2500"/>
            </a:b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irearm somewhere </a:t>
            </a:r>
            <a:br>
              <a:rPr sz="2500"/>
            </a:b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ong that li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495680" cy="30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990C-B250-4121-AF84-D5A091BFC15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05400" y="981720"/>
            <a:ext cx="702756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rajectory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25142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ence points can b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llet holes in objects or victi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entry point and exit point on a victim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unshot residue or spent cartridge casing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ers can trace a straight-line path to determine the position of the shoo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8CFC-10CE-4007-9280-D9619555B32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05400" y="981720"/>
            <a:ext cx="702756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rajectory and Gravity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4419360" cy="3197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742840"/>
            <a:ext cx="3429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llet’s path is slightly cur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vity pulls it downward as the bullet moves forw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11760" y="6039000"/>
            <a:ext cx="3259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agram is highly exagge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D709-E97F-4E7B-A444-73FE1BE8E7F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00360" y="1053000"/>
            <a:ext cx="703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Determining the 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Location of the Shooter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ding is 60 feet away along the horizon 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llet hole is 4 feet above the gr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4648320" cy="312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38080" y="3613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is the shooter locat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0E02-5A2B-4DDF-A918-BC5BAB18176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riangula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 is where the shooter is located; find the length of B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bc triangle has the same proportions as the ABC triang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99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 = 732.3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5867280" cy="212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828800" y="3430440"/>
                <a:ext cx="15429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43400" y="3456000"/>
                <a:ext cx="199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}  over  {</m:t>
                    </m:r>
                    <m: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E364-908D-41AC-AE45-EC71DEF3D565}" type="slidenum">
              <a:t>18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riangula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666880"/>
            <a:ext cx="4724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ing Pythagorean’s theorem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= AC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+ BC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32.3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= 720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+ BC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32.3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720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36117 – 5184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88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 = √17717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quare roo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 = 133.1 in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 = 11.1 f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114800" cy="1490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15000" y="3276720"/>
            <a:ext cx="3048120" cy="265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know that the bullet hole in the seat is four feet above the ground, so the shooter is 15.1 feet above the gr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8E13-D86D-4C59-A4DC-DE14A7BC434C}" type="slidenum">
              <a:t>19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Chapter 17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llistics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bullets are test fired and match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the role of ballistics recovery and examination at a crime sce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 the position of the shooter based on bullet trajector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2416-0D96-4DBE-B841-F83620727B3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05760" y="981720"/>
            <a:ext cx="725616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ullet Wound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entrance wounds tend to be smaller than exit wounds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bullet penetrates clothing, what can fibers embedded in the wound indicat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is gunshot residue usually found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gun is fired with the muzzle touching the victim’s skin, what telltale mark may show up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ll larger or will smaller caliber bullets tend to lodge within the body rather than passing through?  Why?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BB981-D9B0-47A5-9BB3-361B41A16E74}" type="slidenum">
              <a:t>20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Summary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6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allistics is the study of bullets and firearm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irearms are divided into two groups—long guns and hand gun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ired bullets show patterns of lands and grooves that match the rifling pattern in the barrel.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cartridge consists of primer powder, gunpowder, a bullet and the casing material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caliber of a cartridge usually is a measure of its diameter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F164-0740-4900-AD18-45EBAF63893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Summary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7732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vestigators also check for firing pin, breechblock, extractor, and ejector mark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unshot residue can help recreate a crime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ing at least two reference points, an investigator can recreate a bullets trajectory and determine where the shooter was located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xamining body wounds can determine where a bullet entered and exited the victim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DB4C-2624-463F-8AC9-459A5951BFDB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24379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istic evidence helps explai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 of firearm was us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aliber of the bull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umber of bullets fir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the shooter was loc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ther a weapon was fired recent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firearm was used in previous crim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F3A4-E7D3-40E5-BF61-CA30521A0DE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05760" y="1058040"/>
            <a:ext cx="725616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istory of 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unpowder and Firearm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inese invented gunpowder over a thousand years a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zzle-loading matchlocks used wicks to ignite the gunpow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tridge and breech loa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olver, semi-automatic, and automatic handguns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7335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B9A3-BDEA-4413-AA76-623CD37F03F6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Long Guns and Handgun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gu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fles fire bull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tguns fire pellets (shot) or a single projectile (slu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gu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stols are fired with one h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olvers have a cylinder that holds usually six cartrid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matic and Semi-automa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770D-03A6-4FB8-9FA9-82DE011C7133}" type="slidenum">
              <a:t>5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Firearms and Rifling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oves and ridges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lan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in the barrel of a gun produce the twisting that adds accuracy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leaves a pattern on the bullet that is uni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273204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7578-327F-4A75-A3AC-A70121E3210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ullets, Cartridges, and Caliber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90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tridge—a case that holds a bullet, primer powder, and gunpowd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90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bullet, usually of metal, is out front with the cartridge, holding the primer and propellant powders, behin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38840" y="2590920"/>
            <a:ext cx="261936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FBD6-D941-43BD-9348-6CB35FEACB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00720" y="1053000"/>
            <a:ext cx="7189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a Firearm Work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4572000" cy="2970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5486400"/>
            <a:ext cx="7619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imer powder sparks through the flash hole to the main propellant supp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943360"/>
            <a:ext cx="342900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iring pin hits the base of the cartridge, igniting the primer powd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EF9E-18A3-456D-A0C9-F39C1C57071A}" type="slidenum">
              <a:t>8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00720" y="1053000"/>
            <a:ext cx="7189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a Firearm Work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4572000" cy="297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38080" y="5457960"/>
            <a:ext cx="77724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bullet follows the lands and grooves spiraling out of the barre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30400"/>
            <a:ext cx="35812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essure of the explosion pushes the bullet from the casing into the barre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9A57-9BFC-4692-9A16-877B65C7C4FD}" type="slidenum">
              <a:t>9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Rob Davis</cp:lastModifiedBy>
  <dcterms:modified xsi:type="dcterms:W3CDTF">2010-06-22T22:15:13Z</dcterms:modified>
  <cp:revision>175</cp:revision>
  <dc:subject/>
  <dc:title>Slide 1</dc:title>
</cp:coreProperties>
</file>