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57B8E-8C8C-4D46-B4C9-03971D13E9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3DCFB-41C5-4AC7-8146-835CBF497C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C40E7-0D61-4389-8289-FBBCC5AD29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A8E89-CE8A-470B-BF08-56708500E5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59F701-20F9-4D82-87EC-6906D1D18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5D9E8E-6D4B-448B-9109-08295A439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DCE2B4-308C-477A-983D-F18A13117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A3BAA0-0834-454E-94BC-67A021A8F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DC02CE-5397-4D0E-9CB9-BAA10F4C0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440FF1-40D8-497B-8E2D-1C672B426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BAC88E-8F52-47EE-83A6-3E503B6CB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502E4-B103-4F2A-9C47-4131FB1B4E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4F7C75-204D-4C0F-BAEE-71554E95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748314-F358-4056-BF26-B27EF80D7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DD8742-7666-4F1B-829A-230C5F93A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A52BB3-5715-4F20-B5B5-0086AD18C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197B55-03AC-4CDD-9324-FF3CCCD17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B8F0E-9A08-4EA4-9B1A-FAC1390D87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D2012-8C9B-4B89-B620-A663235CCF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3AB10-BA67-4C92-9AED-5BA95861A7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389D5-5788-4976-82ED-ECF7432624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B039E-D748-4BFC-9FBA-162FB4C375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2363F-3671-469E-B479-2A69FA5E57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8DCB0-6DB8-4D56-9B9D-24BB63A071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53a7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75000"/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>
            <a:off x="83772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33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7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E967C-5BAE-4CB1-8E27-3BCD6D7CB20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pic>
        <p:nvPicPr>
          <p:cNvPr id="12" name="" descr=""/>
          <p:cNvPicPr/>
          <p:nvPr/>
        </p:nvPicPr>
        <p:blipFill>
          <a:blip r:embed="rId3"/>
          <a:stretch/>
        </p:blipFill>
        <p:spPr>
          <a:xfrm>
            <a:off x="8474040" y="457200"/>
            <a:ext cx="669960" cy="83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57600" y="4876920"/>
            <a:ext cx="4876920" cy="318960"/>
            <a:chOff x="3657600" y="48769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57600" y="48769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53a7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74240" y="4876920"/>
              <a:ext cx="260280" cy="318960"/>
            </a:xfrm>
            <a:prstGeom prst="flowChartDelay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33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5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AD92B-D621-4D2A-8AAD-DEAFFD65744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12193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8077320" y="1371600"/>
            <a:ext cx="669960" cy="83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914040"/>
            <a:ext cx="7391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3a753"/>
                </a:solidFill>
                <a:latin typeface="Arial"/>
              </a:rPr>
              <a:t>Chapter 17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Ballistics </a:t>
            </a:r>
            <a:br>
              <a:rPr sz="2700"/>
            </a:br>
            <a:r>
              <a:rPr b="1" lang="en-US" sz="2200" spc="-1" strike="noStrike">
                <a:solidFill>
                  <a:srgbClr val="53a753"/>
                </a:solidFill>
                <a:latin typeface="Arial"/>
              </a:rPr>
              <a:t>By the end of this chapter you will be able to:</a:t>
            </a:r>
            <a:r>
              <a:rPr b="1" lang="en-US" sz="1800" spc="-1" strike="noStrike">
                <a:solidFill>
                  <a:srgbClr val="53a753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2666880"/>
            <a:ext cx="807696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plain the differences between a handgun, a rifle, and a shotgu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scribe rifling on a gun barrel and how it affects the flight of the projecti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plain barrel size and caliber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375680" y="304920"/>
            <a:ext cx="1768320" cy="2286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752480" y="6019920"/>
            <a:ext cx="579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ll Rights Reserved  South-Western / Cengage Learning © 2012, 2009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11A24-5933-407F-80A1-D37E8630A93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905760" y="981720"/>
            <a:ext cx="6722640" cy="93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Caliber of the Cartridge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437920"/>
            <a:ext cx="769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5000"/>
              </a:lnSpc>
              <a:spcAft>
                <a:spcPts val="1049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liber—a measure of the diameter of the cartridg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5000"/>
              </a:lnSpc>
              <a:spcAft>
                <a:spcPts val="1049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hundredths of an in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5000"/>
              </a:lnSpc>
              <a:spcAft>
                <a:spcPts val="1049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mon calibers include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22, .25, .357, .38, .44, and .4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5000"/>
              </a:lnSpc>
              <a:spcAft>
                <a:spcPts val="1049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y should the caliber of ammunition match the firearm that shoots it?  If they do not match, what could go wrong?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76D24-05DD-439C-BF73-4B71D07D0B2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905400" y="1058040"/>
            <a:ext cx="7027560" cy="93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The Study of Bullets</a:t>
            </a:r>
            <a:br>
              <a:rPr sz="3600"/>
            </a:b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 and Cartridge Casings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914400" y="4572000"/>
            <a:ext cx="7616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5000"/>
              </a:lnSpc>
              <a:spcBef>
                <a:spcPts val="1089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How is each fired bullet marked?  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1089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What is the procedure to match a spent bullet to the firearm that shot it?  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1089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What makes up a test-firing, and why is it done?  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33720" y="2438280"/>
            <a:ext cx="4572000" cy="2019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CF9D0-7BBC-4D90-AF87-A8E1EBE5F7CE}" type="slidenum">
              <a:t>11</a:t>
            </a:fld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95680" y="1124640"/>
            <a:ext cx="712332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Marks on the </a:t>
            </a:r>
            <a:br>
              <a:rPr sz="3600"/>
            </a:b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Spent Cartridge Casings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590560"/>
            <a:ext cx="78487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ring pin mark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003366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ppear on the rim or center of the spent cartrid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003366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n be used to match a cartridge to a firear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reechblock mark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003366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duced when the cartridge casing slams backward and strikes the breechblock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tractor mar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jector mark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7E0BF-01A5-4851-A8C0-2E6D0BC8B26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905400" y="981720"/>
            <a:ext cx="7103880" cy="93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Gunshot Residues 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7720" y="243792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Aft>
                <a:spcPts val="1049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unshot Residues (GSR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901"/>
              </a:spcAft>
              <a:buClr>
                <a:srgbClr val="003366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rticles of unburned powder and traces of smok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901"/>
              </a:spcAft>
              <a:buClr>
                <a:srgbClr val="003366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eave traces on the hand, arm, face, hair, or clothing of the shooter and/or victim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Aft>
                <a:spcPts val="1049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emical testing can detect residue even if removal is attempted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Aft>
                <a:spcPts val="1049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tance from victim to shooter can be determined by examining the residue pattern on the victim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860E7-76CB-4A72-9887-89EEAF2EC39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900360" y="1053000"/>
            <a:ext cx="520884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Trajectory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76212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Two reference points are needed to define the trajectory 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Investigators can</a:t>
            </a:r>
            <a:br>
              <a:rPr sz="2500"/>
            </a:b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figure the shooter </a:t>
            </a:r>
            <a:br>
              <a:rPr sz="2500"/>
            </a:b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discharged the </a:t>
            </a:r>
            <a:br>
              <a:rPr sz="2500"/>
            </a:b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firearm somewhere </a:t>
            </a:r>
            <a:br>
              <a:rPr sz="2500"/>
            </a:b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along that line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191120" y="3124080"/>
            <a:ext cx="4495680" cy="302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24331-E3DE-4D80-BEF7-9CC97513C984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905400" y="981720"/>
            <a:ext cx="7027560" cy="93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Trajectory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914040" y="2514240"/>
            <a:ext cx="7543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ference points can b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838080" indent="-380880">
              <a:lnSpc>
                <a:spcPct val="85000"/>
              </a:lnSpc>
              <a:spcBef>
                <a:spcPts val="1049"/>
              </a:spcBef>
              <a:buClr>
                <a:srgbClr val="003366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ullet holes in objects or victim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838080" indent="-380880">
              <a:lnSpc>
                <a:spcPct val="85000"/>
              </a:lnSpc>
              <a:spcBef>
                <a:spcPts val="1049"/>
              </a:spcBef>
              <a:buClr>
                <a:srgbClr val="003366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 entry point and exit point on a victim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838080" indent="-380880">
              <a:lnSpc>
                <a:spcPct val="85000"/>
              </a:lnSpc>
              <a:spcBef>
                <a:spcPts val="1049"/>
              </a:spcBef>
              <a:buClr>
                <a:srgbClr val="003366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unshot residue or spent cartridge casing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sers can trace a straight-line path to determine the position of the shoot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EADA4-E66C-497D-AC9E-7E1C6EA6A6B3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905400" y="981720"/>
            <a:ext cx="7027560" cy="93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Trajectory and Gravity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419720" y="2666880"/>
            <a:ext cx="4419360" cy="319752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37720" y="2742840"/>
            <a:ext cx="3429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ullet’s path is slightly curv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ravity pulls it downward as the bullet moves forwar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11760" y="6039000"/>
            <a:ext cx="32590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iagram is highly exaggera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18539-59A9-4793-9547-CAD4F3801C1E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900360" y="1053000"/>
            <a:ext cx="7037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Determining the </a:t>
            </a:r>
            <a:br>
              <a:rPr sz="3600"/>
            </a:b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Location of the Shooter</a:t>
            </a: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uilding is 60 feet away along the horizon lin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ullet hole is 4 feet above the groun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581280" y="3276720"/>
            <a:ext cx="4648320" cy="31287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838080" y="361332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ere is the shooter located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38251-A8D8-40C4-A302-3EF290D4AD38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Triangulation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761760" y="2361960"/>
            <a:ext cx="79246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 is where the shooter is located; find the length of B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Abc triangle has the same proportions as the ABC triang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999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o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r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B = 732.3”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971800" y="4343400"/>
            <a:ext cx="5867280" cy="2125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1828800" y="3430440"/>
                <a:ext cx="154296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4343400" y="3456000"/>
                <a:ext cx="199080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}  over  {</m:t>
                    </m:r>
                    <m:r>
                      <m:t xml:space="preserve">23</m:t>
                    </m:r>
                    <m:r>
                      <m:rPr>
                        <m:lit/>
                        <m:nor/>
                      </m:rPr>
                      <m:t xml:space="preserve"> </m:t>
                    </m:r>
                    <m: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5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20</m:t>
                        </m:r>
                        <m:r>
                          <m:rPr>
                            <m:lit/>
                            <m:nor/>
                          </m:rPr>
                          <m:t xml:space="preserve">} } } {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F8163-733F-4328-B319-0AA5ECDC5591}" type="slidenum">
              <a:t>18</a:t>
            </a:fld>
          </a:p>
        </p:txBody>
      </p:sp>
    </p:spTree>
  </p:cSld>
  <p:transition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Triangulation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666880"/>
            <a:ext cx="47246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049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ing Pythagorean’s theorem 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B</a:t>
            </a:r>
            <a:r>
              <a:rPr b="0" lang="en-US" sz="2400" spc="-1" strike="noStrike" baseline="25000">
                <a:solidFill>
                  <a:srgbClr val="003366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= AC</a:t>
            </a:r>
            <a:r>
              <a:rPr b="0" lang="en-US" sz="2400" spc="-1" strike="noStrike" baseline="25000">
                <a:solidFill>
                  <a:srgbClr val="003366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+ BC</a:t>
            </a:r>
            <a:r>
              <a:rPr b="0" lang="en-US" sz="2400" spc="-1" strike="noStrike" baseline="25000">
                <a:solidFill>
                  <a:srgbClr val="0033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49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732.3</a:t>
            </a:r>
            <a:r>
              <a:rPr b="0" lang="en-US" sz="2400" spc="-1" strike="noStrike" baseline="25000">
                <a:solidFill>
                  <a:srgbClr val="003366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= 720</a:t>
            </a:r>
            <a:r>
              <a:rPr b="0" lang="en-US" sz="2400" spc="-1" strike="noStrike" baseline="25000">
                <a:solidFill>
                  <a:srgbClr val="003366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+ BC</a:t>
            </a:r>
            <a:r>
              <a:rPr b="0" lang="en-US" sz="2400" spc="-1" strike="noStrike" baseline="25000">
                <a:solidFill>
                  <a:srgbClr val="0033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49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C</a:t>
            </a:r>
            <a:r>
              <a:rPr b="0" lang="en-US" sz="2400" spc="-1" strike="noStrike" baseline="25000">
                <a:solidFill>
                  <a:srgbClr val="003366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=</a:t>
            </a:r>
            <a:r>
              <a:rPr b="0" lang="en-US" sz="2400" spc="-1" strike="noStrike" baseline="25000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732.3</a:t>
            </a:r>
            <a:r>
              <a:rPr b="0" lang="en-US" sz="2400" spc="-1" strike="noStrike" baseline="25000">
                <a:solidFill>
                  <a:srgbClr val="003366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– 720</a:t>
            </a:r>
            <a:r>
              <a:rPr b="0" lang="en-US" sz="2400" spc="-1" strike="noStrike" baseline="25000">
                <a:solidFill>
                  <a:srgbClr val="0033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49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C</a:t>
            </a:r>
            <a:r>
              <a:rPr b="0" lang="en-US" sz="2400" spc="-1" strike="noStrike" baseline="25000">
                <a:solidFill>
                  <a:srgbClr val="003366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=</a:t>
            </a:r>
            <a:r>
              <a:rPr b="0" lang="en-US" sz="2400" spc="-1" strike="noStrike" baseline="25000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536117 – 518400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88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C = √17717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square roo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49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C = 133.1 inch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49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C = 11.1 fee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191120" y="990720"/>
            <a:ext cx="4114800" cy="14904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5715000" y="3276720"/>
            <a:ext cx="3048120" cy="26542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e know that the bullet hole in the seat is four feet above the ground, so the shooter is 15.1 feet above the groun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27E1F-327B-4145-AC1D-F4D6E3265B84}" type="slidenum">
              <a:t>19</a:t>
            </a:fld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914040"/>
            <a:ext cx="7391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3a753"/>
                </a:solidFill>
                <a:latin typeface="Arial"/>
              </a:rPr>
              <a:t>Chapter 17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Ballistics </a:t>
            </a:r>
            <a:br>
              <a:rPr sz="2700"/>
            </a:br>
            <a:r>
              <a:rPr b="1" lang="en-US" sz="2200" spc="-1" strike="noStrike">
                <a:solidFill>
                  <a:srgbClr val="53a753"/>
                </a:solidFill>
                <a:latin typeface="Arial"/>
              </a:rPr>
              <a:t>By the end of this chapter you will be able to:</a:t>
            </a:r>
            <a:r>
              <a:rPr b="1" lang="en-US" sz="1800" spc="-1" strike="noStrike">
                <a:solidFill>
                  <a:srgbClr val="53a753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2666520"/>
            <a:ext cx="807696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scribe how bullets are test fired and matched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cuss the role of ballistics recovery and examination at a crime scen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termine the position of the shooter based on bullet trajectory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375680" y="304920"/>
            <a:ext cx="176832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43D22-D1DF-4D48-B646-F5E849A9C803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905760" y="981720"/>
            <a:ext cx="725616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Bullet Wounds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5000"/>
              </a:lnSpc>
              <a:spcBef>
                <a:spcPts val="1049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y do entrance wounds tend to be smaller than exit wounds?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1049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f the bullet penetrates clothing, what can fibers embedded in the wound indicate?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1049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ere is gunshot residue usually found?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1049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f the gun is fired with the muzzle touching the victim’s skin, what telltale mark may show up?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1049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ill larger or will smaller caliber bullets tend to lodge within the body rather than passing through?  Why?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115A3-8E76-480E-A684-F834FF64DC73}" type="slidenum">
              <a:t>20</a:t>
            </a:fld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834120" y="834120"/>
            <a:ext cx="72464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. . . . . . . . . . . . . Summary</a:t>
            </a:r>
            <a:r>
              <a:rPr b="1" lang="en-US" sz="3200" spc="-1" strike="noStrike">
                <a:solidFill>
                  <a:srgbClr val="53a753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. . . .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77320" cy="36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Ballistics is the study of bullets and firearms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Firearms are divided into two groups—long guns and hand guns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Fired bullets show patterns of lands and grooves that match the rifling pattern in the barrel. 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A cartridge consists of primer powder, gunpowder, a bullet and the casing material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The caliber of a cartridge usually is a measure of its diameter.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90C65-C45D-4574-A2CA-77FBD0FC175E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2464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. . . . . . . . . . . . . . . . . Summary</a:t>
            </a:r>
            <a:r>
              <a:rPr b="1" lang="en-US" sz="3200" spc="-1" strike="noStrike">
                <a:solidFill>
                  <a:srgbClr val="53a753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7720" y="2438280"/>
            <a:ext cx="8077320" cy="36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37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Investigators also check for firing pin, breechblock, extractor, and ejector marks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37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Gunshot residue can help recreate a crime.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37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Using at least two reference points, an investigator can recreate a bullets trajectory and determine where the shooter was located.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37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Examining body wounds can determine where a bullet entered and exited the victim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200400" y="5943600"/>
            <a:ext cx="5943600" cy="457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4CC43-8168-42C9-97C6-ADA3FC94D613}" type="slidenum">
              <a:t>2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Introduction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360" y="243792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llistic evidence helps explain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Aft>
                <a:spcPts val="700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type of firearm was used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Aft>
                <a:spcPts val="700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caliber of the bullet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Aft>
                <a:spcPts val="700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number of bullets fired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Aft>
                <a:spcPts val="700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ere the shooter was locat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Aft>
                <a:spcPts val="700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ether a weapon was fired recently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Aft>
                <a:spcPts val="700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f a firearm was used in previous crime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46EC7-CCD9-4AF6-BFEA-64AEE36D97B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905760" y="1058040"/>
            <a:ext cx="725616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History of </a:t>
            </a:r>
            <a:br>
              <a:rPr sz="3600"/>
            </a:b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Gunpowder and Firearms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114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5000"/>
              </a:lnSpc>
              <a:spcBef>
                <a:spcPts val="751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hinese invented gunpowder over a thousand years ag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751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uzzle-loading matchlocks used wicks to ignite the gunpowd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751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rtridge and breech load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751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volver, semi-automatic, and automatic handguns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105520" y="2666880"/>
            <a:ext cx="3733560" cy="316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20EE5-EB14-41CD-8143-E3F4FC08E7B5}" type="slidenum">
              <a:t>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Long Guns and Handguns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76964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ng gu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003366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ifles fire bulle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003366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hotguns fire pellets (shot) or a single projectile (slug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andgu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003366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istols are fired with one han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003366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volvers have a cylinder that holds usually six cartridg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utomatic and Semi-automati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22D8C-DA31-4B20-B7C4-4DE120F00DC0}" type="slidenum">
              <a:t>5</a:t>
            </a:fld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900720" y="1053000"/>
            <a:ext cx="67327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Firearms and Rifling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761760" y="2362320"/>
            <a:ext cx="47242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ooves and ridges (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land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) in the barrel of a gun produce the twisting that adds accuracy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s leaves a pattern on the bullet that is uniqu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715000" y="2438280"/>
            <a:ext cx="2732040" cy="3733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50D50-DAD7-4D58-8904-6B24C8CBE0A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900720" y="1053000"/>
            <a:ext cx="77234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Bullets, Cartridges, and Calibers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761760" y="2362320"/>
            <a:ext cx="4800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Aft>
                <a:spcPts val="901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rtridge—a case that holds a bullet, primer powder, and gunpowder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Aft>
                <a:spcPts val="901"/>
              </a:spcAft>
              <a:buClr>
                <a:srgbClr val="0033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bullet, usually of metal, is out front with the cartridge, holding the primer and propellant powders, behind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838840" y="2590920"/>
            <a:ext cx="2619360" cy="373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FCB23-B598-4B3E-A61C-50F5539D9D1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900720" y="1053000"/>
            <a:ext cx="718992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How a Firearm Works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343400" y="2362320"/>
            <a:ext cx="4572000" cy="2970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762120" y="5486400"/>
            <a:ext cx="76197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0000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primer powder sparks through the flash hole to the main propellant suppl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2943360"/>
            <a:ext cx="3429000" cy="15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firing pin hits the base of the cartridge, igniting the primer powder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FFA10-CE7A-4C26-8832-D967C5407A74}" type="slidenum">
              <a:t>8</a:t>
            </a:fld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900720" y="1053000"/>
            <a:ext cx="718992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How a Firearm Works </a:t>
            </a:r>
            <a:endParaRPr b="1" lang="en-US" sz="3600" spc="-1" strike="noStrike">
              <a:solidFill>
                <a:srgbClr val="53a75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343400" y="2362320"/>
            <a:ext cx="4572000" cy="2971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838080" y="5457960"/>
            <a:ext cx="777240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0000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bullet follows the lands and grooves spiraling out of the barrel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2930400"/>
            <a:ext cx="358128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0000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pressure of the explosion pushes the bullet from the casing into the barrel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D7E7C-53F3-44D7-8F25-715DC61D5A24}" type="slidenum">
              <a:t>9</a:t>
            </a:fld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6T11:16:04Z</dcterms:created>
  <dc:creator>Alan Biiondi</dc:creator>
  <dc:description/>
  <dc:language>en-US</dc:language>
  <cp:lastModifiedBy>Rob Davis</cp:lastModifiedBy>
  <dcterms:modified xsi:type="dcterms:W3CDTF">2010-06-22T22:15:13Z</dcterms:modified>
  <cp:revision>175</cp:revision>
  <dc:subject/>
  <dc:title>Slide 1</dc:title>
</cp:coreProperties>
</file>