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4A27A-3853-4089-86C0-B044FDDA8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24E3D-16AD-473B-AFB4-717C199BE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7598C-A5E9-43FD-BF52-308D0D8F6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7268E-F400-48F2-9562-EFF7ABC16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F206C-4287-4127-BC5D-A78C3B0C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46DB8-F38E-4863-9091-A5114447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7DF1C-CAE5-4C56-A030-F64067CB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C57D6-815C-4AC6-866D-A966A184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B923E-57DA-4FD6-BCF5-72853CC1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C4D99-9E2F-4B41-9EFA-A2E18C87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B9AF4-DEAC-4AC0-8AD6-96620139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01284-7F80-4395-8D67-52338B2DB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3602C-D5E8-4140-B186-35A3870B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B7996-B31F-4093-8C81-DF78D58D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3CE45-C762-46AE-881B-D54A5BE0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74686-2A07-4B11-B85C-8AD9C97E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0BFB3-14DF-413C-B2C8-1C55DB33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1CCEE-65F4-4B18-AE6A-8BC6DE15D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735D-2EE9-406E-BEFD-28E1578F6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B3899-EDAD-463A-8274-14B393EBC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46C7E-329E-44F7-8B17-429D6166E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8531E-2989-47B3-8C71-CD1C0F187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A4725-AEBA-418B-8782-F9D0903A9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38C2F-BEB7-49F1-B8A9-E6FD4AFCA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53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83772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648B-1DD1-4146-AE4D-74DEBDC46F8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3" descr="EOC Bar verso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4" descr="fingerprint"/>
          <p:cNvPicPr/>
          <p:nvPr/>
        </p:nvPicPr>
        <p:blipFill>
          <a:blip r:embed="rId3"/>
          <a:stretch/>
        </p:blipFill>
        <p:spPr>
          <a:xfrm>
            <a:off x="8474040" y="457200"/>
            <a:ext cx="66996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57600" y="4876920"/>
            <a:ext cx="4876920" cy="318960"/>
            <a:chOff x="3657600" y="48769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57600" y="48769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53a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74240" y="48769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5" name="Picture 13" descr="EOC Bar verso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fingerprint"/>
          <p:cNvPicPr/>
          <p:nvPr/>
        </p:nvPicPr>
        <p:blipFill>
          <a:blip r:embed="rId3"/>
          <a:stretch/>
        </p:blipFill>
        <p:spPr>
          <a:xfrm>
            <a:off x="8077320" y="1371600"/>
            <a:ext cx="669960" cy="838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9A66-EFE5-44CB-82E7-51C534A08E0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room Discussion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at characteristics did you look for to identify the shoe prints? 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ould you identify the size of the individual based on the shoe size? Why or why not?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at characteristics did you use to identify the tire tracks?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at were some of the unique tool marks you noticed?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at could be difficult about matching dentition marks to bite marks on a victim?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94CD-AB21-441C-9D28-456DA694A2A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00720" y="1053000"/>
            <a:ext cx="72662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a763a"/>
                </a:solidFill>
                <a:latin typeface="Kartika"/>
              </a:rPr>
              <a:t>Shoe Wear Patterns 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440" y="2514240"/>
            <a:ext cx="7845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0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Some factors that personalize a person’s footwear include: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12"/>
              </a:spcAft>
              <a:buClr>
                <a:srgbClr val="0033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Body weight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12"/>
              </a:spcAft>
              <a:buClr>
                <a:srgbClr val="0033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The way a person walks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12"/>
              </a:spcAft>
              <a:buClr>
                <a:srgbClr val="0033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The surface on which the person usually walks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12"/>
              </a:spcAft>
              <a:buClr>
                <a:srgbClr val="0033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Debris that became embedded in the tread or unique holes and cuts in the tread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231E-A046-4A86-97C8-FA0155DB37D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00360" y="1053000"/>
            <a:ext cx="74185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763a"/>
                </a:solidFill>
                <a:latin typeface="Kartika"/>
              </a:rPr>
              <a:t>Collection of Shoe Impression Evidence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14400" y="2590560"/>
            <a:ext cx="77724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would the following steps be important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876"/>
              </a:spcAft>
              <a:buClr>
                <a:srgbClr val="0033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ke photos as soon as possib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876"/>
              </a:spcAft>
              <a:buClr>
                <a:srgbClr val="0033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ke multiple photos of the impression from at least two different orientat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876"/>
              </a:spcAft>
              <a:buClr>
                <a:srgbClr val="0033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ce an identifying label and a ruler in position with the impression for the phot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876"/>
              </a:spcAft>
              <a:buClr>
                <a:srgbClr val="0033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oblique lighting when possib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2D65-1B74-44C2-B6C0-871FE5CC39F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00720" y="1053000"/>
            <a:ext cx="76471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763a"/>
                </a:solidFill>
                <a:latin typeface="Kartika"/>
              </a:rPr>
              <a:t>Lifting Latent Impressions 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8095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Different methods to make latent prints visible include: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Luminol will make bloody footprints visible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Dusting the latent print reveals an impression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Electrostatic lifting and gel lifting (impression shown above) techniques also can capture hidden impressions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13" descr="Ch 15 Shoe02"/>
          <p:cNvPicPr/>
          <p:nvPr/>
        </p:nvPicPr>
        <p:blipFill>
          <a:blip r:embed="rId1"/>
          <a:stretch/>
        </p:blipFill>
        <p:spPr>
          <a:xfrm>
            <a:off x="1066680" y="2362320"/>
            <a:ext cx="37735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33BC-86C8-406C-8DCA-6C6A724798A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81720" y="981720"/>
            <a:ext cx="740844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763a"/>
                </a:solidFill>
                <a:latin typeface="Kartika"/>
              </a:rPr>
              <a:t>Electrostatic Dusting and Lifting 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14040" y="24379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Aft>
                <a:spcPts val="876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rostatic dusting can reveal dust left with each step and create an impress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876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rostatic charges can lift impressions from paper, carpeting, wood surfaces, linoleum, asphalt, and concret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876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r methods to recover latent impressions include gel lifter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876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methods can provide information about the person who left the shoe pri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ting Impres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22860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 3D impression is called a cast and can be made to preserve physical evide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eprint in mud or sn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ster of Paris is often used to create ca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light film of hair spray is applied to prevent the impression from collapsing under the weight of the plas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0704-5B2E-42E5-8099-FBCA97886C5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ot Length and Shoe Siz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 shoe print is not a direct record of the person but it provides information about the person who left i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erson’s height is generally related to his or her shoe size but it is impossible to predict someone’s exact height from foot s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AA01-5AD0-46C2-AA24-9052E75FA92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ll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at are the information that can come from a shoe impression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4EB6-3DC3-4DED-AD5C-815230445F5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ACFE-7E3E-40C3-9CD8-7E1F462E907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00360" y="977040"/>
            <a:ext cx="749484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Tire Treads and Impression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69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Aft>
                <a:spcPts val="901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To channel water away and provide traction, a tire’s tread is divided into ridges and grooves. 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Aft>
                <a:spcPts val="901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Tires can leave patent, latent, or plastic tread patterns. 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Aft>
                <a:spcPts val="901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Tire evidence usually indicates the type of vehicle that left the mark, may be used to link a suspect or victim to a crime scene,  and can reveal the events that took place. 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2DF8-893F-412C-A204-ACEAE0F0421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00720" y="1053000"/>
            <a:ext cx="72662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763a"/>
                </a:solidFill>
                <a:latin typeface="Kartika"/>
              </a:rPr>
              <a:t>Recording Tread Impressions 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836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Ridges and grooves of discovered tire impressions are counted across the entire width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36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Unique characteristics such as wear or pebbles embedded in the grooves are noted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36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 print of a suspect’s tire impressions (through one revolution) is taken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36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Comparison with impressions from the crime  scene, then, can be made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24A0-2826-433D-AF80-4C34A8571FC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00360" y="1053000"/>
            <a:ext cx="71139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763a"/>
                </a:solidFill>
                <a:latin typeface="Kartika"/>
              </a:rPr>
              <a:t>Identifying a Vehicle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590560"/>
            <a:ext cx="7693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Identifying tread patterns may not be enough to link a suspect with a crime scene. Other things can help with this: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Front and rear track widths (center of each tire to the center of the opposite tire)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Wheelbase measurement (center of the front axle and the center of the rear axle)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Aft>
                <a:spcPts val="1349"/>
              </a:spcAft>
              <a:buClr>
                <a:srgbClr val="0033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Turning diameter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Databases can be checked to find the vehicle with these specifications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ind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ck grades – a LOT of people didn’t turn their trajectory/projectile motion problems bac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 didn’t turn their quizzes back in – I HAVE NO GRADES FOR YOU TH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C Opportunity by Monday: Schaeffer model paragraph on how castings &amp; impressions are used in forensics --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5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C733-32E6-4BEF-8957-0393A46699A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5681-5B35-46C4-87E2-E4F6999A1ED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95680" y="1124640"/>
            <a:ext cx="52945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a763a"/>
                </a:solidFill>
                <a:latin typeface="Kartika"/>
              </a:rPr>
              <a:t>Accident Reconstruction 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41911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624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rivers may not recall the exact series of events before, during, and after an accident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24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People, vehicles, and objects, however, can  leave evidence of their actions at the scene of an accident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24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ebris patterns and tire marks, for example,  can be clues to speed, direction, and vehicle identification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Picture 5" descr="Ch 15 Scene04"/>
          <p:cNvPicPr/>
          <p:nvPr/>
        </p:nvPicPr>
        <p:blipFill>
          <a:blip r:embed="rId1"/>
          <a:stretch/>
        </p:blipFill>
        <p:spPr>
          <a:xfrm>
            <a:off x="1295280" y="2362320"/>
            <a:ext cx="327672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43DD-94E2-4525-9B3A-3250B6D99C2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00360" y="1053000"/>
            <a:ext cx="70376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a763a"/>
                </a:solidFill>
                <a:latin typeface="Kartika"/>
              </a:rPr>
              <a:t>Accident Reconstruction 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22096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are three basic types of tire mark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43160" indent="-443160">
              <a:spcAft>
                <a:spcPts val="1400"/>
              </a:spcAft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kid mark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can be clues to the distance when brakes were applied and the vehicle’s spee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219680" indent="-443160">
              <a:spcAft>
                <a:spcPts val="1001"/>
              </a:spcAft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n someone brakes suddenly and lock the whee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43160" indent="-443160">
              <a:spcAft>
                <a:spcPts val="1400"/>
              </a:spcAft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aw mark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can show a sideways ski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219680" indent="-443160">
              <a:spcAft>
                <a:spcPts val="1001"/>
              </a:spcAft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n a car travels in a curved path faster than it can handle and skids sidewa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43160" indent="-443160">
              <a:spcAft>
                <a:spcPts val="2100"/>
              </a:spcAft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ire scru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can determine the area of impac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219680" indent="-443160"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de by a damaged or overloaded tire during or right after impa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04C3-171B-44F0-B57A-D729243500E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00360" y="1053000"/>
            <a:ext cx="70376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Dental Impression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4038480"/>
            <a:ext cx="7693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Aft>
                <a:spcPts val="1012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Occasionally a perpetrator will leave behind a bite mark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012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Differences in the size of teeth and jaws, position, fillings, crowns, caps, breakage, and crowding make bite marks individual evidence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Picture 4" descr="Untitled12"/>
          <p:cNvPicPr/>
          <p:nvPr/>
        </p:nvPicPr>
        <p:blipFill>
          <a:blip r:embed="rId1"/>
          <a:stretch/>
        </p:blipFill>
        <p:spPr>
          <a:xfrm>
            <a:off x="1219320" y="2362320"/>
            <a:ext cx="2590560" cy="13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6598-0863-4E14-B8D9-5324833A7F3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00360" y="1053000"/>
            <a:ext cx="69613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a763a"/>
                </a:solidFill>
                <a:latin typeface="Kartika"/>
              </a:rPr>
              <a:t>Dental Patterns in Forensics 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Aft>
                <a:spcPts val="901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investigation consists of recognizing,  docu-menting, collecting, and analyzing evidenc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901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are the two basic ways dental patterns can be used in forensic investigations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901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 to 76 points of comparison can be used when comparing a suspect’s dental patterns with bite marks left at a crime scen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901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common method used to reveal whether  there is a match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7A48-8759-408C-B194-6024C8344B2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34120" y="834120"/>
            <a:ext cx="724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. . . . . . . . . . . . . . . . . Summary</a:t>
            </a:r>
            <a:r>
              <a:rPr b="1" lang="en-US" sz="3200" spc="-1" strike="noStrike">
                <a:solidFill>
                  <a:srgbClr val="53a75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807732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mpression evidence—whether patent, latent, or plastic—will be considered class evidence unless it has individualizing features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ebris patterns and tire marks can be clues to speed, direction, and vehicle identification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ifferences in dental patterns can connect a person to a crime scene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ocumentation (including photos early on) is extremely important in an investigation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Picture 4" descr="EOC Bar verso02"/>
          <p:cNvPicPr/>
          <p:nvPr/>
        </p:nvPicPr>
        <p:blipFill>
          <a:blip r:embed="rId1"/>
          <a:stretch/>
        </p:blipFill>
        <p:spPr>
          <a:xfrm>
            <a:off x="3200400" y="5943600"/>
            <a:ext cx="59436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5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347C-1AEB-46AD-8312-D4D77784856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9160" y="915120"/>
            <a:ext cx="731268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Bellwork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6665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What do we mean by “trace evidence”?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7" descr="Cover3001"/>
          <p:cNvPicPr/>
          <p:nvPr/>
        </p:nvPicPr>
        <p:blipFill>
          <a:blip r:embed="rId1"/>
          <a:stretch/>
        </p:blipFill>
        <p:spPr>
          <a:xfrm>
            <a:off x="7375680" y="304920"/>
            <a:ext cx="17683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1752480" y="601992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Rights Reserved  South-Western / Cengage Learning © 2009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838080" y="6248520"/>
            <a:ext cx="762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Forensic Science: Fundamentals &amp; Investigations, Chapter 15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0D94-0DDF-4A40-B03B-5132617F7B1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9160" y="915120"/>
            <a:ext cx="731268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Chapter 15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Cast and </a:t>
            </a:r>
            <a:br>
              <a:rPr sz="2700"/>
            </a:b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Impressions </a:t>
            </a:r>
            <a:br>
              <a:rPr sz="2700"/>
            </a:br>
            <a:r>
              <a:rPr b="1" lang="en-US" sz="2200" spc="-1" strike="noStrike">
                <a:solidFill>
                  <a:srgbClr val="53a753"/>
                </a:solidFill>
                <a:latin typeface="Arial"/>
              </a:rPr>
              <a:t>By the end of this chapter you will be able to: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6665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distinguish between patient, latent, and plastic impressions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describe how to make foot, shoe, and tire impressions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use track width and wheel base information to identify vehicles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prepare dental impressions and match them with bite marks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7" descr="Cover3001"/>
          <p:cNvPicPr/>
          <p:nvPr/>
        </p:nvPicPr>
        <p:blipFill>
          <a:blip r:embed="rId1"/>
          <a:stretch/>
        </p:blipFill>
        <p:spPr>
          <a:xfrm>
            <a:off x="7375680" y="304920"/>
            <a:ext cx="1768320" cy="2286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1752480" y="601992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Rights Reserved  South-Western / Cengage Learning © 2009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D8B3-CFBB-4A8E-B000-F8ABA66CE33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00720" y="1053000"/>
            <a:ext cx="45230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Introduc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040" y="419112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5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People, vehicles, and objects leave evidence of their presence at an accident or crime scene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85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Patent impressions 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re two-dimensional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85000"/>
              </a:lnSpc>
              <a:spcAft>
                <a:spcPts val="675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Latent impressions 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re hidden to the eye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85000"/>
              </a:lnSpc>
              <a:spcAft>
                <a:spcPts val="700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Plastic impressions 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re three-dimensional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Ch 15 Scene02"/>
          <p:cNvPicPr/>
          <p:nvPr/>
        </p:nvPicPr>
        <p:blipFill>
          <a:blip r:embed="rId1"/>
          <a:stretch/>
        </p:blipFill>
        <p:spPr>
          <a:xfrm>
            <a:off x="1447920" y="2297160"/>
            <a:ext cx="2819160" cy="16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dividual or Class Evi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772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pending on how it is made, impression evidence may be either class or individual eviden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en would it be class evidenc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en would it be individual evidenc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ECE0-873D-4288-9DA2-A79CAC293D3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4A21-5D54-40F5-A95D-8CB2D0D05BD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720" y="1053000"/>
            <a:ext cx="73425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Shoe Impression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25142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Aft>
                <a:spcPts val="938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size of a shoeprint can tell the size of foot of the person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938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depth of a foot or shoe impression can tell something of the person’s weight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938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type of shoe can tell something of the person’s job or personality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938"/>
              </a:spcAft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atabases contain the names of specific manufactures and tread patterns used to identify different types of shoes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ait and Track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ral prints together can help us determine a person’s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gai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or walking habits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some things we  could determine from  a person’s ga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limp or inj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unning vs walk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530A-C540-44A9-B85A-9E8E4FA5B99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Problems can arise when manufactures use the same generic sole pattern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at else can a footprint tell us that can help identify a person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BFCE-D6F1-461A-BE27-6B4942D77F1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a753"/>
                </a:solidFill>
                <a:latin typeface="Arial"/>
              </a:rPr>
              <a:t>Shoe Impression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11:16:04Z</dcterms:created>
  <dc:creator>Alan Biiondi</dc:creator>
  <dc:description/>
  <dc:language>en-US</dc:language>
  <cp:lastModifiedBy>Kerry Miyoshi</cp:lastModifiedBy>
  <dcterms:modified xsi:type="dcterms:W3CDTF">2017-05-10T18:57:45Z</dcterms:modified>
  <cp:revision>199</cp:revision>
  <dc:subject/>
  <dc:title>Slide 1</dc:title>
</cp:coreProperties>
</file>