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D37D-FD2A-4DAE-AAFF-E03C8F8DD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3B79C-E98A-4F60-8583-877152FCD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C56B-80E5-4A8B-8E08-6E242360F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EDA6-01ED-40EA-8AD2-66DFB2FA1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8F9F4-A977-47F1-B302-4EF0E356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38C20-2B03-4234-B8BC-7BB14A15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4020B-9390-4E4C-B3CE-024D3943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A43E8-5C6C-48C7-A857-5779C486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D2A98-53C5-42CA-BA4A-82C57BBF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28656-FF28-45A6-9274-B25DCB74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2C631-066D-4D37-8E2D-F5511FA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FBF4-9394-4AF9-8CC5-F1C6061D9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7FD5C-21C0-4A79-93B2-86DECB6C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714BF-D720-4B03-914A-295FB8E7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2BF67-2247-42E3-9C0B-4213FFDA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6DB9A-AAF6-4036-9861-711F6CF1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ED133-FB56-443C-8193-E2246997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A0DD-3EC1-48B1-8688-F65D9EDDB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3926-BDD1-4782-BBDB-ACAECE38D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E59C-986A-49A2-A2E5-F1705A44A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0DFD-0C51-4FB9-B3CD-981813DE9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324E-AA73-4794-B7B0-16D43C833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ED15-681E-4AC8-BBAA-40DB9DDC4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61E6-A91A-4470-9772-35051F5C1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518F-EBD2-467A-9964-B7EA7C8E95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EOC Bar verso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fingerprint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50A1-134C-44E7-899C-D770E1D172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room Discussio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characteristics did you look for to identify the shoe prints?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ould you identify the size of the individual based on the shoe size? Why or why not?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characteristics did you use to identify the tire tracks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were some of the unique tool marks you noticed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could be difficult about matching dentition marks to bite marks on a victim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651F-9A7B-4A91-96DD-6EEE9F81361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00720" y="1053000"/>
            <a:ext cx="72662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a763a"/>
                </a:solidFill>
                <a:latin typeface="Kartika"/>
              </a:rPr>
              <a:t>Shoe Wear Patterns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2514240"/>
            <a:ext cx="7845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0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Some factors that personalize a person’s footwear include: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Body weight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The way a person walks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The surface on which the person usually walks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ebris that became embedded in the tread or unique holes and cuts in the tread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1F32-16A8-4E48-8EB0-29762770106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00360" y="1053000"/>
            <a:ext cx="74185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763a"/>
                </a:solidFill>
                <a:latin typeface="Kartika"/>
              </a:rPr>
              <a:t>Collection of Shoe Impression Evidence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would the following steps be important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photos as soon as possib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multiple photos of the impression from at least two different orienta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ce an identifying label and a ruler in position with the impression for the phot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oblique lighting when possib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98C6-D625-4BAF-B742-9249107054F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00720" y="10530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763a"/>
                </a:solidFill>
                <a:latin typeface="Kartika"/>
              </a:rPr>
              <a:t>Lifting Latent Impressions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95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ifferent methods to make latent prints visible include: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Luminol will make bloody footprints visibl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usting the latent print reveals an impression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Electrostatic lifting and gel lifting (impression shown above) techniques also can capture hidden impressions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13" descr="Ch 15 Shoe02"/>
          <p:cNvPicPr/>
          <p:nvPr/>
        </p:nvPicPr>
        <p:blipFill>
          <a:blip r:embed="rId1"/>
          <a:stretch/>
        </p:blipFill>
        <p:spPr>
          <a:xfrm>
            <a:off x="1066680" y="2362320"/>
            <a:ext cx="37735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F6D1-D23A-48AF-8B80-B3FA1A1FBCF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81720" y="981720"/>
            <a:ext cx="740844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763a"/>
                </a:solidFill>
                <a:latin typeface="Kartika"/>
              </a:rPr>
              <a:t>Electrostatic Dusting and Lifting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040" y="24379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static dusting can reveal dust left with each step and create an impress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static charges can lift impressions from paper, carpeting, wood surfaces, linoleum, asphalt, and concret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 methods to recover latent impressions include gel lifter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can provide information about the person who left the shoe pri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ting Impres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2286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 3D impression is called a cast and can be made to preserve physical evid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eprint in mud or sn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ster of Paris is often used to create c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light film of hair spray is applied to prevent the impression from collapsing under the weight of the plas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BFB8-1CD0-4D5D-B57A-46CE9344F0E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ot Length and Shoe Siz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 shoe print is not a direct record of the person but it provides information about the person who left i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erson’s height is generally related to his or her shoe size but it is impossible to predict someone’s exact height from foot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924D-C979-42F7-BD4D-167CB3C9009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are the information that can come from a shoe impress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1EB5-E1DF-4571-B364-F8E9823FB5F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35CD-AC61-42AD-84F8-2036BC7269D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00360" y="977040"/>
            <a:ext cx="74948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re Treads and Impress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To channel water away and provide traction, a tire’s tread is divided into ridges and grooves. 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Tires can leave patent, latent, or plastic tread patterns. 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Tire evidence usually indicates the type of vehicle that left the mark, may be used to link a suspect or victim to a crime scene,  and can reveal the events that took place. 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BCA7-7BD0-4953-B971-8F516DAA597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00720" y="1053000"/>
            <a:ext cx="72662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763a"/>
                </a:solidFill>
                <a:latin typeface="Kartika"/>
              </a:rPr>
              <a:t>Recording Tread Impressions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83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idges and grooves of discovered tire impressions are counted across the entire width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3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nique characteristics such as wear or pebbles embedded in the grooves are noted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3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print of a suspect’s tire impressions (through one revolution) is taken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3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omparison with impressions from the crime  scene, then, can be mad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3E25-150D-4AD8-A394-16AE2053F53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00360" y="1053000"/>
            <a:ext cx="71139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763a"/>
                </a:solidFill>
                <a:latin typeface="Kartika"/>
              </a:rPr>
              <a:t>Identifying a Vehicle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7693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dentifying tread patterns may not be enough to link a suspect with a crime scene. Other things can help with this: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Front and rear track widths (center of each tire to the center of the opposite tire)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eelbase measurement (center of the front axle and the center of the rear axle)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Aft>
                <a:spcPts val="1349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Turning diameter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atabases can be checked to find the vehicle with these specifications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ind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grades – a LOT of people didn’t turn their trajectory/projectile motion problems ba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didn’t turn their quizzes back in – I HAVE NO GRADES FOR YOU TH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C Opportunity by Monday: Schaeffer model paragraph on how castings &amp; impressions are used in forensics -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5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F731-0431-4244-B684-E009D8060EA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F32D-A453-4E22-83BC-729B8BC4806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95680" y="1124640"/>
            <a:ext cx="52945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a763a"/>
                </a:solidFill>
                <a:latin typeface="Kartika"/>
              </a:rPr>
              <a:t>Accident Reconstruction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41911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rivers may not recall the exact series of events before, during, and after an accident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People, vehicles, and objects, however, can  leave evidence of their actions at the scene of an accident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ebris patterns and tire marks, for example,  can be clues to speed, direction, and vehicle identificati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5" descr="Ch 15 Scene04"/>
          <p:cNvPicPr/>
          <p:nvPr/>
        </p:nvPicPr>
        <p:blipFill>
          <a:blip r:embed="rId1"/>
          <a:stretch/>
        </p:blipFill>
        <p:spPr>
          <a:xfrm>
            <a:off x="1295280" y="2362320"/>
            <a:ext cx="327672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0FFD-467C-47C9-A8B4-9241D8ADE06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00360" y="1053000"/>
            <a:ext cx="70376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a763a"/>
                </a:solidFill>
                <a:latin typeface="Kartika"/>
              </a:rPr>
              <a:t>Accident Reconstruction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22096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hree basic types of tire mark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43160" indent="-443160">
              <a:spcAft>
                <a:spcPts val="1400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kid mark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can be clues to the distance when brakes were applied and the vehicle’s spee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219680" indent="-443160">
              <a:spcAft>
                <a:spcPts val="1001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someone brakes suddenly and lock the whe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43160" indent="-443160">
              <a:spcAft>
                <a:spcPts val="1400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aw mark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can show a sideways ski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219680" indent="-443160">
              <a:spcAft>
                <a:spcPts val="1001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a car travels in a curved path faster than it can handle and skids sidewa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43160" indent="-443160">
              <a:spcAft>
                <a:spcPts val="2100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re scru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can determine the area of impac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219680" indent="-443160"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de by a damaged or overloaded tire during or right after imp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B740-BEC3-4857-ACCF-941F41A04B4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360" y="1053000"/>
            <a:ext cx="70376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Dental Impress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4038480"/>
            <a:ext cx="7693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Occasionally a perpetrator will leave behind a bite mark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ifferences in the size of teeth and jaws, position, fillings, crowns, caps, breakage, and crowding make bite marks individual evidenc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4" descr="Untitled12"/>
          <p:cNvPicPr/>
          <p:nvPr/>
        </p:nvPicPr>
        <p:blipFill>
          <a:blip r:embed="rId1"/>
          <a:stretch/>
        </p:blipFill>
        <p:spPr>
          <a:xfrm>
            <a:off x="1219320" y="2362320"/>
            <a:ext cx="2590560" cy="13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EDBF-8262-43A3-913B-ACAA856FD3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00360" y="1053000"/>
            <a:ext cx="69613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a763a"/>
                </a:solidFill>
                <a:latin typeface="Kartika"/>
              </a:rPr>
              <a:t>Dental Patterns in Forensics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investigation consists of recognizing,  docu-menting, collecting, and analyzing eviden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re the two basic ways dental patterns can be used in forensic investigations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76 points of comparison can be used when comparing a suspect’s dental patterns with bite marks left at a crime scen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common method used to reveal whether  there is a match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341F-F3B0-4D93-920E-6E784450E89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Summary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7732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mpression evidence—whether patent, latent, or plastic—will be considered class evidence unless it has individualizing features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ebris patterns and tire marks can be clues to speed, direction, and vehicle identificati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ifferences in dental patterns can connect a person to a crime scene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ocumentation (including photos early on) is extremely important in an investigati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4" descr="EOC Bar verso02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5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7913-9651-4502-9665-E7C8058A96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9160" y="915120"/>
            <a:ext cx="73126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Bellwork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at do we mean by “trace evidence”?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5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612F-846B-43FB-A8BE-C9A3F0E100E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9160" y="915120"/>
            <a:ext cx="73126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Chapter 15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Cast and 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Impressions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istinguish between patient, latent, and plastic impression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escribe how to make foot, shoe, and tire impression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se track width and wheel base information to identify vehicle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repare dental impressions and match them with bite mark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97A5-5736-4B78-B112-8FB5635919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720" y="1053000"/>
            <a:ext cx="45230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41911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eople, vehicles, and objects leave evidence of their presence at an accident or crime scen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atent impressions 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re two-dimensional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Latent impressions 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re hidden to the ey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lastic impressions 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re three-dimensional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Ch 15 Scene02"/>
          <p:cNvPicPr/>
          <p:nvPr/>
        </p:nvPicPr>
        <p:blipFill>
          <a:blip r:embed="rId1"/>
          <a:stretch/>
        </p:blipFill>
        <p:spPr>
          <a:xfrm>
            <a:off x="1447920" y="2297160"/>
            <a:ext cx="2819160" cy="16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dividual or Class Evi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pending on how it is made, impression evidence may be either class or individual eviden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en would it be class evidenc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en would it be individual evidenc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AC7D-5559-4270-B4A8-0548D8657E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2ADB-B281-4001-A481-B90882AC8BE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720" y="1053000"/>
            <a:ext cx="73425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Shoe Impress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514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Aft>
                <a:spcPts val="938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size of a shoeprint can tell the size of foot of the pers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938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depth of a foot or shoe impression can tell something of the person’s weight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938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type of shoe can tell something of the person’s job or personality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938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atabases contain the names of specific manufactures and tread patterns used to identify different types of shoes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it and Track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ral prints together can help us determine a person’s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gai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or walking habit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some things we  could determine from  a person’s ga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limp or inj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nning vs wal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DCE9-2F26-4D54-BF18-AC1BA0FBD60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roblems can arise when manufactures use the same generic sole patter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else can a footprint tell us that can help identify a pers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0D89-727E-48D8-BDF3-B95A7CAA4A7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Shoe Impress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Kerry Miyoshi</cp:lastModifiedBy>
  <dcterms:modified xsi:type="dcterms:W3CDTF">2017-05-10T18:57:45Z</dcterms:modified>
  <cp:revision>199</cp:revision>
  <dc:subject/>
  <dc:title>Slide 1</dc:title>
</cp:coreProperties>
</file>