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B00-31E4-4721-9D18-7E9CC321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06B-75A9-4820-8588-F9918608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B23-A0AE-4F4E-86F9-73BCBD35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9D7-181B-4408-B22C-F0821F8C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A5E-E2F0-41E2-A2A9-B0F1B04D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003-1EB1-48D0-8708-B44AD623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1D0-DF19-487A-AD09-30364E6B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077-38E8-4290-A764-C8A00154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9ED-A3F8-45A6-8EC0-785DF04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822-A3AD-4DF6-A748-DB3A8680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B98-8910-4441-B058-FC0E2DE8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DC6-CD48-4072-AA1F-F51C1C49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8BCC-16B3-4A3D-B83D-8B52532E17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rlab.com/quinsee/images/ShoePrint.gif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fa-tools"/>
          <p:cNvPicPr/>
          <p:nvPr/>
        </p:nvPicPr>
        <p:blipFill>
          <a:blip r:embed="rId1"/>
          <a:stretch/>
        </p:blipFill>
        <p:spPr>
          <a:xfrm>
            <a:off x="990720" y="1676520"/>
            <a:ext cx="2679480" cy="165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ctionimage11"/>
          <p:cNvPicPr/>
          <p:nvPr/>
        </p:nvPicPr>
        <p:blipFill>
          <a:blip r:embed="rId2"/>
          <a:stretch/>
        </p:blipFill>
        <p:spPr>
          <a:xfrm>
            <a:off x="5105520" y="1600200"/>
            <a:ext cx="2997000" cy="194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mpression-evidence-1"/>
          <p:cNvPicPr/>
          <p:nvPr/>
        </p:nvPicPr>
        <p:blipFill>
          <a:blip r:embed="rId3"/>
          <a:stretch/>
        </p:blipFill>
        <p:spPr>
          <a:xfrm>
            <a:off x="838080" y="4191120"/>
            <a:ext cx="3124440" cy="208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ire_track_7"/>
          <p:cNvPicPr/>
          <p:nvPr/>
        </p:nvPicPr>
        <p:blipFill>
          <a:blip r:embed="rId4"/>
          <a:stretch/>
        </p:blipFill>
        <p:spPr>
          <a:xfrm>
            <a:off x="5257800" y="4038480"/>
            <a:ext cx="29973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4" descr="oj_simpson_crimescene"/>
          <p:cNvPicPr/>
          <p:nvPr/>
        </p:nvPicPr>
        <p:blipFill>
          <a:blip r:embed="rId1"/>
          <a:stretch/>
        </p:blipFill>
        <p:spPr>
          <a:xfrm>
            <a:off x="2825640" y="2413080"/>
            <a:ext cx="3492720" cy="2539800"/>
          </a:xfrm>
          <a:prstGeom prst="rect">
            <a:avLst/>
          </a:prstGeom>
          <a:ln w="0">
            <a:noFill/>
          </a:ln>
        </p:spPr>
      </p:pic>
      <p:sp>
        <p:nvSpPr>
          <p:cNvPr id="83" name="Line 6"/>
          <p:cNvSpPr/>
          <p:nvPr/>
        </p:nvSpPr>
        <p:spPr>
          <a:xfrm flipH="1" flipV="1">
            <a:off x="5254560" y="44197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245280" y="5257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432480" y="51055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loody Shoe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59240" y="1600200"/>
            <a:ext cx="72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otprints made in the ground can be cast with plaster and u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comparis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6" descr="060518-F-9999J-001"/>
          <p:cNvPicPr/>
          <p:nvPr/>
        </p:nvPicPr>
        <p:blipFill>
          <a:blip r:embed="rId1"/>
          <a:stretch/>
        </p:blipFill>
        <p:spPr>
          <a:xfrm>
            <a:off x="3276720" y="2514600"/>
            <a:ext cx="210024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fir_m06_t04_01_2"/>
          <p:cNvPicPr/>
          <p:nvPr/>
        </p:nvPicPr>
        <p:blipFill>
          <a:blip r:embed="rId2"/>
          <a:stretch/>
        </p:blipFill>
        <p:spPr>
          <a:xfrm>
            <a:off x="762120" y="2819520"/>
            <a:ext cx="1865160" cy="236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81671284trace_impressions1"/>
          <p:cNvPicPr/>
          <p:nvPr/>
        </p:nvPicPr>
        <p:blipFill>
          <a:blip r:embed="rId3"/>
          <a:stretch/>
        </p:blipFill>
        <p:spPr>
          <a:xfrm>
            <a:off x="5753160" y="2895480"/>
            <a:ext cx="29336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823320" y="1360440"/>
            <a:ext cx="7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64080" y="2101680"/>
            <a:ext cx="73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re tread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mpressio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prints can be useful evidence left at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me scen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14760" y="2895480"/>
            <a:ext cx="73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 in any mass produced item, initially a new tire will exhibit cla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acteristic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890640" y="373392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ever, in time the tire will acquire a unique wear pattern ma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ch tir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dividual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2" descr="tires"/>
          <p:cNvPicPr/>
          <p:nvPr/>
        </p:nvPicPr>
        <p:blipFill>
          <a:blip r:embed="rId1"/>
          <a:stretch/>
        </p:blipFill>
        <p:spPr>
          <a:xfrm>
            <a:off x="3505320" y="4419720"/>
            <a:ext cx="1714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23320" y="1360440"/>
            <a:ext cx="7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46720" y="1981080"/>
            <a:ext cx="77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mensions left by tire marks or impressions are helpful in identify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particular vehic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560" y="2681280"/>
            <a:ext cx="53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ead Wid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the distance across tread patter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8" descr="8852NG04"/>
          <p:cNvPicPr/>
          <p:nvPr/>
        </p:nvPicPr>
        <p:blipFill>
          <a:blip r:embed="rId1"/>
          <a:stretch/>
        </p:blipFill>
        <p:spPr>
          <a:xfrm>
            <a:off x="3429000" y="3200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933480" y="5105520"/>
            <a:ext cx="76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ically larger trucks and SUV’s have larger tires than compact ca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3320" y="1360440"/>
            <a:ext cx="7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941040" y="1981080"/>
            <a:ext cx="63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re marks can also indicate a vehicles direction of trave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27720" y="2529000"/>
            <a:ext cx="71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a vehicle is traveling in a straight line, the rear tires tra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ver the prints made by the front ti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965160" y="3321000"/>
            <a:ext cx="59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refore, a turn is the best place to see clear pri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200825P2"/>
          <p:cNvPicPr/>
          <p:nvPr/>
        </p:nvPicPr>
        <p:blipFill>
          <a:blip r:embed="rId1"/>
          <a:stretch/>
        </p:blipFill>
        <p:spPr>
          <a:xfrm>
            <a:off x="3276720" y="3809880"/>
            <a:ext cx="2971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9760" y="1371600"/>
            <a:ext cx="41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ribe how this car was travel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20070114085746_tire-marks-snow"/>
          <p:cNvPicPr/>
          <p:nvPr/>
        </p:nvPicPr>
        <p:blipFill>
          <a:blip r:embed="rId1"/>
          <a:stretch/>
        </p:blipFill>
        <p:spPr>
          <a:xfrm>
            <a:off x="1981080" y="2209680"/>
            <a:ext cx="5391360" cy="4043520"/>
          </a:xfrm>
          <a:prstGeom prst="rect">
            <a:avLst/>
          </a:prstGeom>
          <a:ln w="0">
            <a:noFill/>
          </a:ln>
        </p:spPr>
      </p:pic>
      <p:sp>
        <p:nvSpPr>
          <p:cNvPr id="112" name="Line 8"/>
          <p:cNvSpPr/>
          <p:nvPr/>
        </p:nvSpPr>
        <p:spPr>
          <a:xfrm>
            <a:off x="1752480" y="3733920"/>
            <a:ext cx="15242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752480" y="3733920"/>
            <a:ext cx="24386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1371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2880" y="35812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ont Ti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371600" y="464832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4"/>
          <p:cNvSpPr/>
          <p:nvPr/>
        </p:nvSpPr>
        <p:spPr>
          <a:xfrm flipV="1">
            <a:off x="1371600" y="4343040"/>
            <a:ext cx="9907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06632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17440" y="4495680"/>
            <a:ext cx="89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 Ti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2057400"/>
            <a:ext cx="9907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3200400" y="2057400"/>
            <a:ext cx="19051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9"/>
          <p:cNvSpPr/>
          <p:nvPr/>
        </p:nvSpPr>
        <p:spPr>
          <a:xfrm flipH="1">
            <a:off x="2743200" y="2057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1262160" y="19051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 Tires Rever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22"/>
          <p:cNvSpPr/>
          <p:nvPr/>
        </p:nvSpPr>
        <p:spPr>
          <a:xfrm flipH="1">
            <a:off x="5562360" y="3886200"/>
            <a:ext cx="20574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6095880" y="3886200"/>
            <a:ext cx="1524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7620120" y="3886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906680" y="373392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ont Ti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5257800" y="3200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27"/>
          <p:cNvSpPr/>
          <p:nvPr/>
        </p:nvSpPr>
        <p:spPr>
          <a:xfrm flipH="1">
            <a:off x="5257800" y="1828800"/>
            <a:ext cx="129528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28"/>
          <p:cNvSpPr/>
          <p:nvPr/>
        </p:nvSpPr>
        <p:spPr>
          <a:xfrm flipH="1">
            <a:off x="6095880" y="1828800"/>
            <a:ext cx="4572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6553080" y="1828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6748560" y="16765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 Tires Forward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2"/>
          <p:cNvSpPr/>
          <p:nvPr/>
        </p:nvSpPr>
        <p:spPr>
          <a:xfrm flipH="1" flipV="1">
            <a:off x="3809520" y="4572000"/>
            <a:ext cx="34290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4"/>
          <p:cNvSpPr/>
          <p:nvPr/>
        </p:nvSpPr>
        <p:spPr>
          <a:xfrm flipH="1" flipV="1">
            <a:off x="4876560" y="4952880"/>
            <a:ext cx="236196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35"/>
          <p:cNvSpPr/>
          <p:nvPr/>
        </p:nvSpPr>
        <p:spPr>
          <a:xfrm>
            <a:off x="7238880" y="6477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7620120" y="6324480"/>
            <a:ext cx="140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ont Ti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ward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94520" y="13604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ite ma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02160" y="1981080"/>
            <a:ext cx="73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te marks left on skin can leave impressions which can be trac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 to suspe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8" descr="bite_mark_person"/>
          <p:cNvPicPr/>
          <p:nvPr/>
        </p:nvPicPr>
        <p:blipFill>
          <a:blip r:embed="rId1"/>
          <a:stretch/>
        </p:blipFill>
        <p:spPr>
          <a:xfrm>
            <a:off x="380880" y="2959200"/>
            <a:ext cx="2159280" cy="2908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bowrsf4b"/>
          <p:cNvPicPr/>
          <p:nvPr/>
        </p:nvPicPr>
        <p:blipFill>
          <a:blip r:embed="rId2"/>
          <a:stretch/>
        </p:blipFill>
        <p:spPr>
          <a:xfrm>
            <a:off x="2819520" y="3265560"/>
            <a:ext cx="3124080" cy="199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Fig7Comparison"/>
          <p:cNvPicPr/>
          <p:nvPr/>
        </p:nvPicPr>
        <p:blipFill>
          <a:blip r:embed="rId3"/>
          <a:stretch/>
        </p:blipFill>
        <p:spPr>
          <a:xfrm>
            <a:off x="6324480" y="32004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1"/>
          <p:cNvSpPr/>
          <p:nvPr/>
        </p:nvSpPr>
        <p:spPr>
          <a:xfrm>
            <a:off x="6738120" y="556272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gitally Enhan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snakebite"/>
          <p:cNvPicPr/>
          <p:nvPr/>
        </p:nvPicPr>
        <p:blipFill>
          <a:blip r:embed="rId1"/>
          <a:stretch/>
        </p:blipFill>
        <p:spPr>
          <a:xfrm>
            <a:off x="2743200" y="2438280"/>
            <a:ext cx="32767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ell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47360" y="2057400"/>
            <a:ext cx="71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examples of “tool marks”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02240" y="1720800"/>
            <a:ext cx="76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ol mar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any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cut, gouge, or abrasion caused by 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l coming in contact with another obje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7400" y="2558880"/>
            <a:ext cx="63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“tool mark” can be caused by an endless list of object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47120" y="3519360"/>
            <a:ext cx="725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crewdriver is most often used to tighten or loosen screw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ever, if it is used to pry open a widow it will leave impress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the window si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99760" y="306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16240" y="4494240"/>
            <a:ext cx="47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 tires leave impressions in the grou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360080" y="5043600"/>
            <a:ext cx="72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en a button on your shirt will leave an impression on your sk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pressed har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68760" y="1720800"/>
            <a:ext cx="49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l marks come in two general categori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206360" y="2681280"/>
            <a:ext cx="24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ression Mar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hammer"/>
          <p:cNvPicPr/>
          <p:nvPr/>
        </p:nvPicPr>
        <p:blipFill>
          <a:blip r:embed="rId1"/>
          <a:stretch/>
        </p:blipFill>
        <p:spPr>
          <a:xfrm>
            <a:off x="1676520" y="3276720"/>
            <a:ext cx="1326960" cy="196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5075280" y="268128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aping Mar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0" descr="lap-mark-4"/>
          <p:cNvPicPr/>
          <p:nvPr/>
        </p:nvPicPr>
        <p:blipFill>
          <a:blip r:embed="rId2"/>
          <a:stretch/>
        </p:blipFill>
        <p:spPr>
          <a:xfrm>
            <a:off x="4724280" y="3276720"/>
            <a:ext cx="31244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5040" y="1720800"/>
            <a:ext cx="70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general tool marks revea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ass characteristic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such as siz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shape of tool us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73360" y="2558880"/>
            <a:ext cx="77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ever, once a tool has been used minute random markings on th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rface can impar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dividual characteristic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objec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7" descr="screwdriver"/>
          <p:cNvPicPr/>
          <p:nvPr/>
        </p:nvPicPr>
        <p:blipFill>
          <a:blip r:embed="rId1"/>
          <a:stretch/>
        </p:blipFill>
        <p:spPr>
          <a:xfrm>
            <a:off x="304920" y="3733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202boltcutterssm"/>
          <p:cNvPicPr/>
          <p:nvPr/>
        </p:nvPicPr>
        <p:blipFill>
          <a:blip r:embed="rId2"/>
          <a:stretch/>
        </p:blipFill>
        <p:spPr>
          <a:xfrm>
            <a:off x="1523880" y="4114800"/>
            <a:ext cx="3505320" cy="114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shark"/>
          <p:cNvPicPr/>
          <p:nvPr/>
        </p:nvPicPr>
        <p:blipFill>
          <a:blip r:embed="rId3"/>
          <a:stretch/>
        </p:blipFill>
        <p:spPr>
          <a:xfrm>
            <a:off x="2895480" y="3505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SA77345"/>
          <p:cNvPicPr/>
          <p:nvPr/>
        </p:nvPicPr>
        <p:blipFill>
          <a:blip r:embed="rId4"/>
          <a:stretch/>
        </p:blipFill>
        <p:spPr>
          <a:xfrm>
            <a:off x="5003640" y="3733920"/>
            <a:ext cx="3683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6" descr="Toolpic1_000"/>
          <p:cNvPicPr/>
          <p:nvPr/>
        </p:nvPicPr>
        <p:blipFill>
          <a:blip r:embed="rId1"/>
          <a:stretch/>
        </p:blipFill>
        <p:spPr>
          <a:xfrm>
            <a:off x="825480" y="1752480"/>
            <a:ext cx="3060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toolmark"/>
          <p:cNvPicPr/>
          <p:nvPr/>
        </p:nvPicPr>
        <p:blipFill>
          <a:blip r:embed="rId2"/>
          <a:stretch/>
        </p:blipFill>
        <p:spPr>
          <a:xfrm>
            <a:off x="4737240" y="2057400"/>
            <a:ext cx="32637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5" descr="mban474l"/>
          <p:cNvPicPr/>
          <p:nvPr/>
        </p:nvPicPr>
        <p:blipFill>
          <a:blip r:embed="rId1"/>
          <a:stretch/>
        </p:blipFill>
        <p:spPr>
          <a:xfrm>
            <a:off x="3048120" y="2057400"/>
            <a:ext cx="32004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61480" y="2101680"/>
            <a:ext cx="72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otprint impressions are useful information when collected at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me scen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86960" y="13604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Footpr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896040" y="2863800"/>
            <a:ext cx="745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itially shoe prints are classified a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ass evidenc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However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ver time all shoes acquire their own wear pattern, nicks, marking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tc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902520" y="3884760"/>
            <a:ext cx="758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ce a shoe has been worn for a period of time, it becomes uniqu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it then become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dividualiz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559160" y="4815000"/>
            <a:ext cx="574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irlab.com/quinsee/images/ShoePrint.gi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4" descr="agingofshoes-figure1"/>
          <p:cNvPicPr/>
          <p:nvPr/>
        </p:nvPicPr>
        <p:blipFill>
          <a:blip r:embed="rId1"/>
          <a:stretch/>
        </p:blipFill>
        <p:spPr>
          <a:xfrm>
            <a:off x="2209680" y="1752480"/>
            <a:ext cx="447696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23:14:19Z</dcterms:created>
  <dc:creator>greaves</dc:creator>
  <dc:description/>
  <dc:language>en-US</dc:language>
  <cp:lastModifiedBy>Kerry Miyoshi</cp:lastModifiedBy>
  <dcterms:modified xsi:type="dcterms:W3CDTF">2017-05-11T18:59:02Z</dcterms:modified>
  <cp:revision>14</cp:revision>
  <dc:subject/>
  <dc:title>Tool Marks and Impressions</dc:title>
</cp:coreProperties>
</file>