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6"/>
          </p:nvPr>
        </p:nvSpPr>
        <p:spPr>
          <a:xfrm>
            <a:off x="388260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7"/>
          </p:nvPr>
        </p:nvSpPr>
        <p:spPr>
          <a:xfrm>
            <a:off x="-36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8"/>
          </p:nvPr>
        </p:nvSpPr>
        <p:spPr>
          <a:xfrm>
            <a:off x="388260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3A46FCA-4C99-4925-B69B-A007B0FD8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2960" y="862812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5ACCE66-43A3-4BD9-8C17-68E62135A7C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862812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5A5E482-2E8E-487E-9668-2789288C069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C0141-744B-4071-B867-A7124EBA6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DB0B9-C2D6-4931-9783-3CA48B9AE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C5AD6-9F6C-4909-B2C6-8DF7BF8CE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D5F3-E56B-4668-929D-942F42766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9189A-C58F-403D-95FA-9E337684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19BBD-4D54-442F-9A57-17C55E03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1133B-84D5-4E38-A7A1-AD3ABA62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1F30B-548B-4394-95E2-DC5969C4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9E783-19F1-4D40-865A-50BEC85B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1ADD2-FEBD-401C-9AD3-322FC697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04CB5-68F2-4E06-89C1-D4CDFE4D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61A0B-5909-40BF-98F6-62437A1B3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A5180-F8B6-4956-9116-9FDBCC7F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38F8C-E436-4F73-A9ED-F4ABBE93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F8D5C-A383-49BE-91AD-4CF3741B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B3A57-E478-4F37-B802-C224117F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AD46D-79DC-4799-9CE2-8F0856A7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C676-A3AB-40EA-95F6-BD7A39936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4AC05-AF30-4669-9C59-17A6069D2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6D1E-543D-4003-A530-8D87DFAFE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75DEA-5667-4B9D-A0CD-5A0D219B5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547C-0CFE-42B5-9E6F-1BED0932E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5555B-5BAA-4F40-8999-1C34937FD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00717-1F1F-421D-BB79-2DF16F7FD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53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83772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388E-9FF4-4A82-9DB5-E3A3EB0BD30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4" descr="EOC Bar verso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5" descr="fingerprint"/>
          <p:cNvPicPr/>
          <p:nvPr/>
        </p:nvPicPr>
        <p:blipFill>
          <a:blip r:embed="rId3"/>
          <a:stretch/>
        </p:blipFill>
        <p:spPr>
          <a:xfrm>
            <a:off x="8474040" y="457200"/>
            <a:ext cx="66996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57600" y="4876920"/>
            <a:ext cx="4876920" cy="318960"/>
            <a:chOff x="3657600" y="48769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57600" y="48769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53a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74240" y="48769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" name="Picture 13" descr="EOC Bar verso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fingerprint"/>
          <p:cNvPicPr/>
          <p:nvPr/>
        </p:nvPicPr>
        <p:blipFill>
          <a:blip r:embed="rId3"/>
          <a:stretch/>
        </p:blipFill>
        <p:spPr>
          <a:xfrm>
            <a:off x="8077320" y="1371600"/>
            <a:ext cx="669960" cy="838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6369-07B0-4041-8EB9-6E015AE7FC7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orensics.rice.edu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FC4E-A718-48FB-89DB-C2CC7BE9442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58240" y="629640"/>
            <a:ext cx="7731720" cy="133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2590920"/>
            <a:ext cx="807696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8" descr="Cover3001"/>
          <p:cNvPicPr/>
          <p:nvPr/>
        </p:nvPicPr>
        <p:blipFill>
          <a:blip r:embed="rId1"/>
          <a:stretch/>
        </p:blipFill>
        <p:spPr>
          <a:xfrm>
            <a:off x="3505320" y="838080"/>
            <a:ext cx="4182840" cy="5410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1"/>
          <p:cNvSpPr/>
          <p:nvPr/>
        </p:nvSpPr>
        <p:spPr>
          <a:xfrm>
            <a:off x="990720" y="5486400"/>
            <a:ext cx="23778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rights Reserv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outh-Western / Cengag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Learning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© 2012,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CFD3-EEF6-4711-B699-93EFD86D502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What Is Observation?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43" name="Picture 4" descr="45866_f0102"/>
          <p:cNvPicPr/>
          <p:nvPr/>
        </p:nvPicPr>
        <p:blipFill>
          <a:blip r:embed="rId1"/>
          <a:stretch/>
        </p:blipFill>
        <p:spPr>
          <a:xfrm>
            <a:off x="1141560" y="3200400"/>
            <a:ext cx="7621560" cy="2286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219320" y="25290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information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cess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he br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an you read this?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O lny srmat poelpe can raed tihs. </a:t>
            </a:r>
            <a:br>
              <a:rPr sz="2400"/>
            </a:b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 cdnuolt blveiee taht I cluod aulaclty uesdnatnrd waht I was rdanieg. The phaonmneal pweor of the hmuan mnid, aoccdrnig to a rscheearch at Cmabrigde Uinervtisy, it deosn't mttaer in waht oredr the ltteers in a wrod are, t he olny iprmoatnt tihng is taht the frist and lsat ltteer be in the rgh it pclae. The rset can be a taotl mses and you can sitll raed it wouthit a porbelm. Tihs is bcuseae the huamn mnid deos not raed ervey lteter by istlef, but the wrod as a wlohe. Amzanig huh? yaeh and I awlyas tghuhot slpeling was ipmorantt! if you can raed tihs psas it on !!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"</a:t>
            </a:r>
            <a:br>
              <a:rPr sz="2800"/>
            </a:b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53E5-610B-4ADA-BE6E-2B1D4129002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4874-707B-4207-8B74-A2755FC42BB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What Is Observation?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ur brain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ll in gap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 our perce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order to make sense of what we perceive, our brains ofte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nrich with detail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we see, taste, hear, smell, or fe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ter an event, we ca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eliev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ings were part of the background even though they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were no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32E8-BE37-4495-B942-8EF635BB9C6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19720" y="9723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What Is Observation?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88920" indent="0" algn="ctr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ur brain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pply previou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knowledge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ew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situa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8920" indent="0" algn="ctr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8920" indent="0" algn="ctr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8920" indent="0" algn="ctr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8920"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88920"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92960"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5" descr="SpringGrove07b"/>
          <p:cNvPicPr/>
          <p:nvPr/>
        </p:nvPicPr>
        <p:blipFill>
          <a:blip r:embed="rId1"/>
          <a:stretch/>
        </p:blipFill>
        <p:spPr>
          <a:xfrm>
            <a:off x="3429000" y="3146400"/>
            <a:ext cx="3124080" cy="2303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838080" y="5562720"/>
            <a:ext cx="8001000" cy="8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assumptions can you make about this scene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ight those assumptions be wrong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est your Observation skills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eing is Believing Power point – Activ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SI Web Adventures Observation Activiti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tivity 1-1: Observational Sk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 you se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’re an Eyewitness” pp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ception is Reality” pp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3793-98A6-43AD-A148-FAE84077466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D9C1-8862-41E1-9291-F1D9013D6BC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19720" y="9723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Observations by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Witnesses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225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bservations are affected b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i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motion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ther they wer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lon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part of a group, o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ear oth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type of and how much activity wa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oing on aroun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AEC6-28DF-4E3B-BDEC-28C9A37EA1F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00720" y="977040"/>
            <a:ext cx="772344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Eyewitness Account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ime-scene reports often vary, du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vel of inter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r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ount and kind of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strac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es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jud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ersonal belief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apse in tim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nce the ev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2FB2-F32D-4BF4-BAD8-4BECA37631E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he Innocence Project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540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rry C. Scheck and Peter J. Neufeld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jamin N. Cardozo School of Law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ginning in 1992, used DNA to examine post-conviction c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aul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yewitnes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dentifica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unted for up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87%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the wrongful convi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8F05-AC7A-4DCF-9C0E-53273876891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2666520"/>
            <a:ext cx="7540920" cy="34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problems with eyewitness account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E806-620C-4772-9978-06CCCD1ACA3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819720" y="9723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to be a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Good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Observer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4132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225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bserv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ystematically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rt at one part of a crime scene and run your eye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lowly over every sp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oo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refully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 detail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ac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iece of evidence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ssume you will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emb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veryt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6DE8-2361-44AD-B6B5-270141EFC50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9160" y="762840"/>
            <a:ext cx="776988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a753"/>
                </a:solidFill>
                <a:latin typeface="Arial"/>
              </a:rPr>
              <a:t>Chapter 1</a:t>
            </a:r>
            <a:r>
              <a:rPr b="0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bservation Skills </a:t>
            </a:r>
            <a:br>
              <a:rPr sz="36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endParaRPr b="1" lang="en-US" sz="2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71320"/>
            <a:ext cx="76932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describe what changes occur in the brai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examples of factors influencing eyewitness accounts of eve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are the reliability of eyewitness testimony with what actually happen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0358-FA3D-4108-B3BC-C93201D18E8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19720" y="9723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to be a Good Observer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388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225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urn off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lter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nscious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y attention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ll detail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y attention to just wh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you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in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import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ll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ails ar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tential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mportan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1989-05DA-4CDF-BB51-18DDB31FCB4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19720" y="9723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to be a Good Observer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llect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Informatio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rst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terpret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dat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ater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fo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atter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ake conne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formation yield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et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terpret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ejudic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xist everywhere—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yewitness accou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r own thinking processe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0E60-BE46-49C7-918D-48DC8011C45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14680" y="10436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to be a Good Observer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225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ocumentation,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ocumentation,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ocument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own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otograp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s much information as poss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 aware th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emory is faul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ember that ou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rai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end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ill in gap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our percep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5011-D240-4A9A-8DDF-B3CD1225F9E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14680" y="10436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Observations in Forensic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ud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itu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d clues i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rdinar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etai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Work backward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he evidence to what led up to the cr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pati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ac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A064-6AA4-4177-9B78-71E2B9AE516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19720" y="104868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. Summary</a:t>
            </a:r>
            <a:r>
              <a:rPr b="1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nvironment and our natural sensory filter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ffe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ur ability to obser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yewitn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ports can be correct, faulty, or a little of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o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quiring good observation skills takes practice and trai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020E-99DC-4403-8A86-E800C86E3CA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19720" y="104868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. . . . . Summary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ensic scientist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in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ocum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vid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e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terpret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nalyze evidence found at the crime scen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per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estimony to cou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forms scientific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sea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ins others in the fiel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4" descr="EOC Bar verso02"/>
          <p:cNvPicPr/>
          <p:nvPr/>
        </p:nvPicPr>
        <p:blipFill>
          <a:blip r:embed="rId1"/>
          <a:stretch/>
        </p:blipFill>
        <p:spPr>
          <a:xfrm>
            <a:off x="3200400" y="5943600"/>
            <a:ext cx="59436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9A7F-2505-4009-B7FB-FD9CE26DB17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9160" y="762840"/>
            <a:ext cx="776988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a753"/>
                </a:solidFill>
                <a:latin typeface="Arial"/>
              </a:rPr>
              <a:t>Chapter 1</a:t>
            </a:r>
            <a:r>
              <a:rPr b="0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bservation Skills </a:t>
            </a:r>
            <a:br>
              <a:rPr sz="36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endParaRPr b="1" lang="en-US" sz="2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71320"/>
            <a:ext cx="76932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e observation skills to their use in forensic scien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ensic sci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actice and improve your observation skill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19360" y="261720"/>
            <a:ext cx="7505280" cy="183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3a753"/>
                </a:solidFill>
                <a:latin typeface="Arial"/>
              </a:rPr>
              <a:t>Forensic Science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14040" y="25146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 application of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scienc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to those criminal and civil laws that are enforced by police in a criminal justice system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lso called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criminalistic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skull"/>
          <p:cNvPicPr/>
          <p:nvPr/>
        </p:nvPicPr>
        <p:blipFill>
          <a:blip r:embed="rId1"/>
          <a:stretch/>
        </p:blipFill>
        <p:spPr>
          <a:xfrm>
            <a:off x="6095880" y="552600"/>
            <a:ext cx="24498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49520" y="741600"/>
            <a:ext cx="7644960" cy="87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3a753"/>
                </a:solidFill>
                <a:latin typeface="Arial"/>
              </a:rPr>
              <a:t>Forensic Scientist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nalysis of evidence found at the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crime sce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xpert witness in cour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erforms scientific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researc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rains others in the fiel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F8D2-08BC-4311-801F-B2EC672F29C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19720" y="9723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349"/>
              </a:spcBef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The forensic examiner must be able to</a:t>
            </a: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349"/>
              </a:spcBef>
              <a:spcAft>
                <a:spcPts val="774"/>
              </a:spcAft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cc3300"/>
                </a:solidFill>
                <a:uFillTx/>
                <a:latin typeface="Arial"/>
              </a:rPr>
              <a:t>find</a:t>
            </a: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en-US" sz="3100" spc="-1" strike="noStrike" u="sng">
                <a:solidFill>
                  <a:srgbClr val="ff0000"/>
                </a:solidFill>
                <a:uFillTx/>
                <a:latin typeface="Arial"/>
              </a:rPr>
              <a:t>identify</a:t>
            </a: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 the evidence</a:t>
            </a: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349"/>
              </a:spcBef>
              <a:spcAft>
                <a:spcPts val="774"/>
              </a:spcAft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cc3300"/>
                </a:solidFill>
                <a:uFillTx/>
                <a:latin typeface="Arial"/>
              </a:rPr>
              <a:t>document</a:t>
            </a: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en-US" sz="3100" spc="-1" strike="noStrike" u="sng">
                <a:solidFill>
                  <a:srgbClr val="ff0000"/>
                </a:solidFill>
                <a:uFillTx/>
                <a:latin typeface="Arial"/>
              </a:rPr>
              <a:t>record</a:t>
            </a: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 the evidence </a:t>
            </a: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349"/>
              </a:spcBef>
              <a:spcAft>
                <a:spcPts val="774"/>
              </a:spcAft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cc3300"/>
                </a:solidFill>
                <a:uFillTx/>
                <a:latin typeface="Arial"/>
              </a:rPr>
              <a:t>interpret</a:t>
            </a: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—accurately determine the </a:t>
            </a:r>
            <a:r>
              <a:rPr b="0" lang="en-US" sz="3100" spc="-1" strike="noStrike" u="sng">
                <a:solidFill>
                  <a:srgbClr val="ff0000"/>
                </a:solidFill>
                <a:uFillTx/>
                <a:latin typeface="Arial"/>
              </a:rPr>
              <a:t>significance </a:t>
            </a: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of the evidence </a:t>
            </a: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02EF-AC31-47F5-8F32-F8C7C87A965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19720" y="9723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What Is Observation?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5000"/>
              </a:lnSpc>
              <a:spcBef>
                <a:spcPts val="1225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ur brains can filter out inform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 algn="ctr">
              <a:lnSpc>
                <a:spcPct val="85000"/>
              </a:lnSpc>
              <a:spcBef>
                <a:spcPts val="22501"/>
              </a:spcBef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int out some of the details in this photo.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4" descr="Ch 1 Group02"/>
          <p:cNvPicPr/>
          <p:nvPr/>
        </p:nvPicPr>
        <p:blipFill>
          <a:blip r:embed="rId1"/>
          <a:stretch/>
        </p:blipFill>
        <p:spPr>
          <a:xfrm>
            <a:off x="2057400" y="2819520"/>
            <a:ext cx="5029200" cy="26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E0A4-1AB8-41B8-B07A-7DCA3B650F7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19720" y="9723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819160"/>
            <a:ext cx="7693200" cy="31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349"/>
              </a:spcBef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What amount of information is processed and retained by the brain?</a:t>
            </a: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 Fundamentals &amp; Investigations, Chapter 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BA59-ABE3-4DC2-8218-5A1D2C6380B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4" descr="Ch 1 Group02"/>
          <p:cNvPicPr/>
          <p:nvPr/>
        </p:nvPicPr>
        <p:blipFill>
          <a:blip r:embed="rId1"/>
          <a:stretch/>
        </p:blipFill>
        <p:spPr>
          <a:xfrm>
            <a:off x="-19080" y="1324080"/>
            <a:ext cx="916308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11:16:04Z</dcterms:created>
  <dc:creator>Alan Biiondi</dc:creator>
  <dc:description/>
  <dc:language>en-US</dc:language>
  <cp:lastModifiedBy>Kerry Miyoshi</cp:lastModifiedBy>
  <cp:lastPrinted>2017-01-07T22:54:07Z</cp:lastPrinted>
  <dcterms:modified xsi:type="dcterms:W3CDTF">2017-01-12T19:58:16Z</dcterms:modified>
  <cp:revision>121</cp:revision>
  <dc:subject/>
  <dc:title>Slide 1</dc:title>
</cp:coreProperties>
</file>