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jpeg" ContentType="image/jpe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4825" cy="9082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4400" cy="908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03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6"/>
          </p:nvPr>
        </p:nvSpPr>
        <p:spPr>
          <a:xfrm>
            <a:off x="3882600" y="-360"/>
            <a:ext cx="29703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57400" y="680760"/>
            <a:ext cx="4541760" cy="340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3a753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440" y="4314600"/>
            <a:ext cx="548316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7"/>
          </p:nvPr>
        </p:nvSpPr>
        <p:spPr>
          <a:xfrm>
            <a:off x="-360" y="8627760"/>
            <a:ext cx="29703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8"/>
          </p:nvPr>
        </p:nvSpPr>
        <p:spPr>
          <a:xfrm>
            <a:off x="3882600" y="8627760"/>
            <a:ext cx="29703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BC516873-E104-40AC-9029-DB6CB00842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2960" y="8628120"/>
            <a:ext cx="29703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61DF72A1-A664-4912-8EBD-622FBEADC643}" type="slidenum">
              <a:rPr b="0" lang="en-US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57400" y="68112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440" y="4314600"/>
            <a:ext cx="5483160" cy="40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2960" y="8628120"/>
            <a:ext cx="29703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482A35E1-D59A-4CE7-97AD-7C4CF8496A54}" type="slidenum">
              <a:rPr b="0" lang="en-US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57400" y="68112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440" y="4314600"/>
            <a:ext cx="5483160" cy="40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3B65FF-93BF-4659-AFC4-2ABC2D1E1B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0D2517-DA32-4511-954D-DFF7C8E5FB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E5E142-891D-4801-BB3C-51D2496E52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951C20-2DFF-4B83-B44A-7F7BDEAA89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53D6E8-6115-4064-B4A0-08C8D61AD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9DC77B-8E00-462C-B9E2-223E68AAF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5A3C60-1778-4037-B4A1-760B38E09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6A45E0-A91E-404B-96DF-15443449E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FA98C1-48CE-4E6A-BF0F-A331CFB8C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1CFAD8-01D4-4069-B14E-718F33CEB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3DE566-DD01-4545-9FF0-C80E45005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2C3D7D-E4A7-439F-B8B1-52C7FF64F5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1F2604-6A14-4A7D-8401-145DF85C5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644E52-E842-464A-9687-EB3F496FE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A8FEF0-6936-4233-8DA3-32198B31D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E13849-D2EE-4B89-9677-6A426EEA8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F55D00-AA4E-4CF0-B74D-74E46A4DB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59F40F-4AF3-4A62-AD0E-90A1585AA1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70D6D7-AAF1-4775-BEB0-E8B3FCCB7A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EE3912-47B8-4667-824E-EB1A984AE1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7A4D69-4F25-4338-AC52-A87A75EEFA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20B199-C2C8-422E-97C8-DF72C22783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4F3214-E1FB-4CEB-B55F-B3595AAB48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4EE69B-9A1C-41CC-9F24-CA89194608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8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8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53a7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3a753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225"/>
              </a:spcBef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225"/>
              </a:spcBef>
              <a:buClr>
                <a:srgbClr val="003366"/>
              </a:buClr>
              <a:buSzPct val="7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225"/>
              </a:spcBef>
              <a:buClr>
                <a:srgbClr val="003366"/>
              </a:buClr>
              <a:buSzPct val="75000"/>
              <a:buFont typeface="Wingdings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225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225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225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225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1"/>
          </p:nvPr>
        </p:nvSpPr>
        <p:spPr>
          <a:xfrm>
            <a:off x="837720" y="6248520"/>
            <a:ext cx="76201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cc33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3300"/>
                </a:solidFill>
                <a:latin typeface="Arial"/>
              </a:rPr>
              <a:t>Forensic Science:  Fundamentals &amp; Investigations, Chapter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2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8CBCF-B6A5-4C5F-9BBD-2C2CADE2A26C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" name="Picture 14" descr="EOC Bar verso"/>
          <p:cNvPicPr/>
          <p:nvPr/>
        </p:nvPicPr>
        <p:blipFill>
          <a:blip r:embed="rId2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  <p:pic>
        <p:nvPicPr>
          <p:cNvPr id="12" name="Picture 15" descr="fingerprint"/>
          <p:cNvPicPr/>
          <p:nvPr/>
        </p:nvPicPr>
        <p:blipFill>
          <a:blip r:embed="rId3"/>
          <a:stretch/>
        </p:blipFill>
        <p:spPr>
          <a:xfrm>
            <a:off x="8474040" y="457200"/>
            <a:ext cx="669960" cy="838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50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2" name="Group 5"/>
          <p:cNvGrpSpPr/>
          <p:nvPr/>
        </p:nvGrpSpPr>
        <p:grpSpPr>
          <a:xfrm>
            <a:off x="3657600" y="4876920"/>
            <a:ext cx="4876920" cy="318960"/>
            <a:chOff x="3657600" y="4876920"/>
            <a:chExt cx="4876920" cy="318960"/>
          </a:xfrm>
        </p:grpSpPr>
        <p:sp>
          <p:nvSpPr>
            <p:cNvPr id="53" name="AutoShape 6"/>
            <p:cNvSpPr/>
            <p:nvPr/>
          </p:nvSpPr>
          <p:spPr>
            <a:xfrm flipH="1">
              <a:off x="3657600" y="48769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53a7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" name="AutoShape 7"/>
            <p:cNvSpPr/>
            <p:nvPr/>
          </p:nvSpPr>
          <p:spPr>
            <a:xfrm>
              <a:off x="8274240" y="4876920"/>
              <a:ext cx="260280" cy="318960"/>
            </a:xfrm>
            <a:prstGeom prst="flowChartDelay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pic>
        <p:nvPicPr>
          <p:cNvPr id="55" name="Picture 13" descr="EOC Bar verso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12193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4" descr="fingerprint"/>
          <p:cNvPicPr/>
          <p:nvPr/>
        </p:nvPicPr>
        <p:blipFill>
          <a:blip r:embed="rId3"/>
          <a:stretch/>
        </p:blipFill>
        <p:spPr>
          <a:xfrm>
            <a:off x="8077320" y="1371600"/>
            <a:ext cx="669960" cy="83808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3a753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225"/>
              </a:spcBef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225"/>
              </a:spcBef>
              <a:buClr>
                <a:srgbClr val="003366"/>
              </a:buClr>
              <a:buSzPct val="7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225"/>
              </a:spcBef>
              <a:buClr>
                <a:srgbClr val="003366"/>
              </a:buClr>
              <a:buSzPct val="75000"/>
              <a:buFont typeface="Wingdings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225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225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225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225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3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4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5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D2D41-11EE-4C6E-9791-12E0F59855BE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orensics.rice.edu/" TargetMode="Externa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Footer Placeholder 3"/>
          <p:cNvSpPr/>
          <p:nvPr/>
        </p:nvSpPr>
        <p:spPr>
          <a:xfrm>
            <a:off x="838080" y="6248520"/>
            <a:ext cx="76201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3300"/>
                </a:solidFill>
                <a:latin typeface="Arial"/>
              </a:rPr>
              <a:t>Forensic Science:  Fundamentals &amp; Investigations, Chapter 1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" name="Slide Number Placeholder 4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C8135-1089-48A8-98CF-08F6790B9861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858240" y="629640"/>
            <a:ext cx="7731720" cy="1330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x</a:t>
            </a:r>
            <a:endParaRPr b="1" lang="en-US" sz="18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762120" y="2590920"/>
            <a:ext cx="8076960" cy="387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ts val="1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ts val="1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ts val="1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9" name="Picture 8" descr="Cover3001"/>
          <p:cNvPicPr/>
          <p:nvPr/>
        </p:nvPicPr>
        <p:blipFill>
          <a:blip r:embed="rId1"/>
          <a:stretch/>
        </p:blipFill>
        <p:spPr>
          <a:xfrm>
            <a:off x="3505320" y="838080"/>
            <a:ext cx="4182840" cy="541044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11"/>
          <p:cNvSpPr/>
          <p:nvPr/>
        </p:nvSpPr>
        <p:spPr>
          <a:xfrm>
            <a:off x="990720" y="5486400"/>
            <a:ext cx="2377800" cy="7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6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All rights Reserved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6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South-Western / Cengage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6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Learning 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  <a:ea typeface="Arial"/>
              </a:rPr>
              <a:t>© 2012, 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2009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Footer Placeholder 3"/>
          <p:cNvSpPr/>
          <p:nvPr/>
        </p:nvSpPr>
        <p:spPr>
          <a:xfrm>
            <a:off x="838080" y="6248520"/>
            <a:ext cx="76201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3300"/>
                </a:solidFill>
                <a:latin typeface="Arial"/>
              </a:rPr>
              <a:t>Forensic Science:  Fundamentals &amp; Investigations, Chapter 1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1" name="Slide Number Placeholder 4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FC7DE-4FD5-481C-AD56-FBC799846A37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3a753"/>
                </a:solidFill>
                <a:latin typeface="Arial"/>
              </a:rPr>
              <a:t>What Is Observation? </a:t>
            </a: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pic>
        <p:nvPicPr>
          <p:cNvPr id="143" name="Picture 4" descr="45866_f0102"/>
          <p:cNvPicPr/>
          <p:nvPr/>
        </p:nvPicPr>
        <p:blipFill>
          <a:blip r:embed="rId1"/>
          <a:stretch/>
        </p:blipFill>
        <p:spPr>
          <a:xfrm>
            <a:off x="1141560" y="3200400"/>
            <a:ext cx="7621560" cy="228600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5"/>
          <p:cNvSpPr/>
          <p:nvPr/>
        </p:nvSpPr>
        <p:spPr>
          <a:xfrm>
            <a:off x="1219320" y="2529000"/>
            <a:ext cx="746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ow information is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processed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in the brai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3a753"/>
                </a:solidFill>
                <a:latin typeface="Arial"/>
              </a:rPr>
              <a:t>Can you read this?</a:t>
            </a: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5000"/>
              </a:lnSpc>
              <a:spcBef>
                <a:spcPts val="1225"/>
              </a:spcBef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O lny srmat poelpe can raed tihs. </a:t>
            </a:r>
            <a:br>
              <a:rPr sz="2400"/>
            </a:b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I cdnuolt blveiee taht I cluod aulaclty uesdnatnrd waht I was rdanieg. The phaonmneal pweor of the hmuan mnid, aoccdrnig to a rscheearch at Cmabrigde Uinervtisy, it deosn't mttaer in waht oredr the ltteers in a wrod are, t he olny iprmoatnt tihng is taht the frist and lsat ltteer be in the rgh it pclae. The rset can be a taotl mses and you can sitll raed it wouthit a porbelm. Tihs is bcuseae the huamn mnid deos not raed ervey lteter by istlef, but the wrod as a wlohe. Amzanig huh? yaeh and I awlyas tghuhot slpeling was ipmorantt! if you can raed tihs psas it on !!</a:t>
            </a:r>
            <a:r>
              <a:rPr b="1" i="1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"</a:t>
            </a:r>
            <a:br>
              <a:rPr sz="2800"/>
            </a:br>
            <a:r>
              <a:rPr b="1" i="1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7" name="Footer Placeholder 3"/>
          <p:cNvSpPr/>
          <p:nvPr/>
        </p:nvSpPr>
        <p:spPr>
          <a:xfrm>
            <a:off x="838080" y="6248520"/>
            <a:ext cx="76201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3300"/>
                </a:solidFill>
                <a:latin typeface="Arial"/>
              </a:rPr>
              <a:t>Forensic Science:  Fundamentals &amp; Investigations, Chapter 1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8" name="Slide Number Placeholder 4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84320-4FFA-4373-95BA-F2E3624833BE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Footer Placeholder 3"/>
          <p:cNvSpPr/>
          <p:nvPr/>
        </p:nvSpPr>
        <p:spPr>
          <a:xfrm>
            <a:off x="838080" y="6248520"/>
            <a:ext cx="76201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3300"/>
                </a:solidFill>
                <a:latin typeface="Arial"/>
              </a:rPr>
              <a:t>Forensic Science:  Fundamentals &amp; Investigations, Chapter 1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Slide Number Placeholder 4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193FD-63EA-4C8F-BB32-C28FE32E192A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829440" y="829440"/>
            <a:ext cx="7789320" cy="931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3a753"/>
                </a:solidFill>
                <a:latin typeface="Arial"/>
              </a:rPr>
              <a:t>What Is Observation? </a:t>
            </a: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Our brains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fill in gaps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in our percep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225"/>
              </a:spcBef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 order to make sense of what we perceive, our brains often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enrich with detail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at we see, taste, hear, smell, or fe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225"/>
              </a:spcBef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fter an event, we can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believ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things were part of the background even though they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were not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Footer Placeholder 3"/>
          <p:cNvSpPr/>
          <p:nvPr/>
        </p:nvSpPr>
        <p:spPr>
          <a:xfrm>
            <a:off x="838080" y="6248520"/>
            <a:ext cx="76201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3300"/>
                </a:solidFill>
                <a:latin typeface="Arial"/>
              </a:rPr>
              <a:t>Forensic Science:  Fundamentals &amp; Investigations, Chapter 1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4" name="Slide Number Placeholder 4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12391-5B94-4A43-AC19-7D7B78FA9AE2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819720" y="9723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3a753"/>
                </a:solidFill>
                <a:latin typeface="Arial"/>
              </a:rPr>
              <a:t>What Is Observation? </a:t>
            </a: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800100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26000"/>
          </a:bodyPr>
          <a:p>
            <a:pPr marL="88920" indent="0" algn="ctr">
              <a:lnSpc>
                <a:spcPct val="80000"/>
              </a:lnSpc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Our brains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apply previous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knowledge</a:t>
            </a:r>
            <a:br>
              <a:rPr sz="2800"/>
            </a:b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to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new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 situations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88920" indent="0" algn="ctr">
              <a:lnSpc>
                <a:spcPct val="80000"/>
              </a:lnSpc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88920" indent="0" algn="ctr">
              <a:lnSpc>
                <a:spcPct val="80000"/>
              </a:lnSpc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88920" indent="0" algn="ctr">
              <a:lnSpc>
                <a:spcPct val="80000"/>
              </a:lnSpc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88920" indent="0" algn="ctr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88920" indent="0" algn="ctr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192960" indent="0" algn="ctr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7" name="Picture 5" descr="SpringGrove07b"/>
          <p:cNvPicPr/>
          <p:nvPr/>
        </p:nvPicPr>
        <p:blipFill>
          <a:blip r:embed="rId1"/>
          <a:stretch/>
        </p:blipFill>
        <p:spPr>
          <a:xfrm>
            <a:off x="3429000" y="3146400"/>
            <a:ext cx="3124080" cy="2303640"/>
          </a:xfrm>
          <a:prstGeom prst="rect">
            <a:avLst/>
          </a:prstGeom>
          <a:ln w="0">
            <a:noFill/>
          </a:ln>
        </p:spPr>
      </p:pic>
      <p:sp>
        <p:nvSpPr>
          <p:cNvPr id="158" name="Rectangle 6"/>
          <p:cNvSpPr/>
          <p:nvPr/>
        </p:nvSpPr>
        <p:spPr>
          <a:xfrm>
            <a:off x="838080" y="5562720"/>
            <a:ext cx="8001000" cy="81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8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hat assumptions can you make about this scene?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457200" algn="ctr">
              <a:lnSpc>
                <a:spcPct val="8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How might those assumptions be wrong?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3a753"/>
                </a:solidFill>
                <a:latin typeface="Arial"/>
              </a:rPr>
              <a:t>Test your Observation skills</a:t>
            </a: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1225"/>
              </a:spcBef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eing is Believing Power point – Activit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225"/>
              </a:spcBef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CSI Web Adventures Observation Activities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225"/>
              </a:spcBef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ctivity 1-1: Observational Skill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at do you see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You’re an Eyewitness” pp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erception is Reality” pp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1" name="Footer Placeholder 3"/>
          <p:cNvSpPr/>
          <p:nvPr/>
        </p:nvSpPr>
        <p:spPr>
          <a:xfrm>
            <a:off x="838080" y="6248520"/>
            <a:ext cx="76201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3300"/>
                </a:solidFill>
                <a:latin typeface="Arial"/>
              </a:rPr>
              <a:t>Forensic Science:  Fundamentals &amp; Investigations, Chapter 1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2" name="Slide Number Placeholder 4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1EAA4-7452-46C8-A094-787757B66BEC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Footer Placeholder 3"/>
          <p:cNvSpPr/>
          <p:nvPr/>
        </p:nvSpPr>
        <p:spPr>
          <a:xfrm>
            <a:off x="838080" y="6248520"/>
            <a:ext cx="76201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3300"/>
                </a:solidFill>
                <a:latin typeface="Arial"/>
              </a:rPr>
              <a:t>Forensic Science:  Fundamentals &amp; Investigations, Chapter 1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4" name="Slide Number Placeholder 4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657EA-A1E1-491D-A57D-DC5718FEF650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819720" y="9723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3a753"/>
                </a:solidFill>
                <a:latin typeface="Arial"/>
              </a:rPr>
              <a:t>Observations by </a:t>
            </a:r>
            <a:r>
              <a:rPr b="1" lang="en-US" sz="3600" spc="-1" strike="noStrike" u="sng">
                <a:solidFill>
                  <a:srgbClr val="ff0000"/>
                </a:solidFill>
                <a:uFillTx/>
                <a:latin typeface="Arial"/>
              </a:rPr>
              <a:t>Witnesses</a:t>
            </a:r>
            <a:r>
              <a:rPr b="1" lang="en-US" sz="3600" spc="-1" strike="noStrike">
                <a:solidFill>
                  <a:srgbClr val="53a753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1225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Observations are affected by: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225"/>
              </a:spcBef>
              <a:spcAft>
                <a:spcPts val="700"/>
              </a:spcAft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ir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emotional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stat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225"/>
              </a:spcBef>
              <a:spcAft>
                <a:spcPts val="700"/>
              </a:spcAft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ether they were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alon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, part of a group, or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near others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225"/>
              </a:spcBef>
              <a:spcAft>
                <a:spcPts val="700"/>
              </a:spcAft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at type of and how much activity was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going on around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m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Footer Placeholder 3"/>
          <p:cNvSpPr/>
          <p:nvPr/>
        </p:nvSpPr>
        <p:spPr>
          <a:xfrm>
            <a:off x="838080" y="6248520"/>
            <a:ext cx="76201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3300"/>
                </a:solidFill>
                <a:latin typeface="Arial"/>
              </a:rPr>
              <a:t>Forensic Science:  Fundamentals &amp; Investigations, Chapter 1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8" name="Slide Number Placeholder 4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E6B06-11A2-43B1-BA59-734F0892BB1C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900720" y="977040"/>
            <a:ext cx="7723440" cy="865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3a753"/>
                </a:solidFill>
                <a:latin typeface="Arial"/>
              </a:rPr>
              <a:t>Eyewitness Accounts </a:t>
            </a: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76964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5000"/>
              </a:lnSpc>
              <a:spcBef>
                <a:spcPts val="1225"/>
              </a:spcBef>
              <a:spcAft>
                <a:spcPts val="700"/>
              </a:spcAft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rime-scene reports often vary, due to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003366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level of interes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003366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stres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003366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oncentra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003366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mount and kind of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distractions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presen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003366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rejudic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003366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personal beliefs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003366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otiv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003366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ny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lapse in time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ince the even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Footer Placeholder 3"/>
          <p:cNvSpPr/>
          <p:nvPr/>
        </p:nvSpPr>
        <p:spPr>
          <a:xfrm>
            <a:off x="838080" y="6248520"/>
            <a:ext cx="76201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3300"/>
                </a:solidFill>
                <a:latin typeface="Arial"/>
              </a:rPr>
              <a:t>Forensic Science:  Fundamentals &amp; Investigations, Chapter 1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2" name="Slide Number Placeholder 4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9D34F-D522-46AE-81BB-2C3B59647610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896040" y="1048680"/>
            <a:ext cx="773280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3a753"/>
                </a:solidFill>
                <a:latin typeface="Arial"/>
              </a:rPr>
              <a:t>The Innocence Project </a:t>
            </a: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754092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225"/>
              </a:spcBef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arry C. Scheck and Peter J. Neufeld</a:t>
            </a:r>
            <a:br>
              <a:rPr sz="2800"/>
            </a:b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enjamin N. Cardozo School of Law,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25"/>
              </a:spcBef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eginning in 1992, used DNA to examine post-conviction cas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25"/>
              </a:spcBef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Faulty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eyewitness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identifications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accounted for up to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87%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of the wrongful conviction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Footer Placeholder 3"/>
          <p:cNvSpPr/>
          <p:nvPr/>
        </p:nvSpPr>
        <p:spPr>
          <a:xfrm>
            <a:off x="838080" y="6248520"/>
            <a:ext cx="76201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3300"/>
                </a:solidFill>
                <a:latin typeface="Arial"/>
              </a:rPr>
              <a:t>Forensic Science:  Fundamentals &amp; Investigations, Chapter 1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6" name="Slide Number Placeholder 4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6B9A3-3C56-4B92-ACC6-7FB9BEF211A5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896040" y="1048680"/>
            <a:ext cx="773280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3a753"/>
                </a:solidFill>
                <a:latin typeface="Arial"/>
              </a:rPr>
              <a:t>Bellwork</a:t>
            </a: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837720" y="2666520"/>
            <a:ext cx="7540920" cy="34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225"/>
              </a:spcBef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at are problems with eyewitness accounts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Footer Placeholder 3"/>
          <p:cNvSpPr/>
          <p:nvPr/>
        </p:nvSpPr>
        <p:spPr>
          <a:xfrm>
            <a:off x="838080" y="6248520"/>
            <a:ext cx="76201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3300"/>
                </a:solidFill>
                <a:latin typeface="Arial"/>
              </a:rPr>
              <a:t>Forensic Science:  Fundamentals &amp; Investigations, Chapter 1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0" name="Slide Number Placeholder 4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1B7AE-72B1-4B54-9A05-3E8D581EC98A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819720" y="9723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3a753"/>
                </a:solidFill>
                <a:latin typeface="Arial"/>
              </a:rPr>
              <a:t>How to be a </a:t>
            </a:r>
            <a:r>
              <a:rPr b="1" lang="en-US" sz="3600" spc="-1" strike="noStrike" u="sng">
                <a:solidFill>
                  <a:srgbClr val="ff0000"/>
                </a:solidFill>
                <a:uFillTx/>
                <a:latin typeface="Arial"/>
              </a:rPr>
              <a:t>Good</a:t>
            </a:r>
            <a:r>
              <a:rPr b="1" lang="en-US" sz="3600" spc="-1" strike="noStrike">
                <a:solidFill>
                  <a:srgbClr val="53a753"/>
                </a:solidFill>
                <a:latin typeface="Arial"/>
              </a:rPr>
              <a:t> Observer </a:t>
            </a: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84132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225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Observe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systematically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25"/>
              </a:spcBef>
              <a:spcAft>
                <a:spcPts val="1049"/>
              </a:spcAft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tart at one part of a crime scene and run your eyes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slowly over every spa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25"/>
              </a:spcBef>
              <a:spcAft>
                <a:spcPts val="1049"/>
              </a:spcAft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Look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carefully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at details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f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each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piece of evidence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25"/>
              </a:spcBef>
              <a:spcAft>
                <a:spcPts val="1049"/>
              </a:spcAft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o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not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assume you will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remember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everyth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0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Footer Placeholder 3"/>
          <p:cNvSpPr/>
          <p:nvPr/>
        </p:nvSpPr>
        <p:spPr>
          <a:xfrm>
            <a:off x="838080" y="6248520"/>
            <a:ext cx="76201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3300"/>
                </a:solidFill>
                <a:latin typeface="Arial"/>
              </a:rPr>
              <a:t>Forensic Science:  Fundamentals &amp; Investigations, Chapter 1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Slide Number Placeholder 4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8CA86-183B-4286-BF39-50DD7527E4B2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839160" y="762840"/>
            <a:ext cx="7769880" cy="1064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3a753"/>
                </a:solidFill>
                <a:latin typeface="Arial"/>
              </a:rPr>
              <a:t>Chapter 1</a:t>
            </a:r>
            <a:r>
              <a:rPr b="0" lang="en-US" sz="3600" spc="-1" strike="noStrike">
                <a:solidFill>
                  <a:srgbClr val="53a753"/>
                </a:solidFill>
                <a:latin typeface="Arial"/>
              </a:rPr>
              <a:t> 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Observation Skills </a:t>
            </a:r>
            <a:br>
              <a:rPr sz="3600"/>
            </a:br>
            <a:r>
              <a:rPr b="1" lang="en-US" sz="2200" spc="-1" strike="noStrike">
                <a:solidFill>
                  <a:srgbClr val="53a753"/>
                </a:solidFill>
                <a:latin typeface="Arial"/>
              </a:rPr>
              <a:t>By the end of this chapter you will be able to:</a:t>
            </a:r>
            <a:endParaRPr b="1" lang="en-US" sz="22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838080" y="2371320"/>
            <a:ext cx="7693200" cy="38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1225"/>
              </a:spcBef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efine 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observation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and describe what changes occur in the brain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225"/>
              </a:spcBef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escribe examples of factors influencing eyewitness accounts of events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225"/>
              </a:spcBef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mpare the reliability of eyewitness testimony with what actually happened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Footer Placeholder 3"/>
          <p:cNvSpPr/>
          <p:nvPr/>
        </p:nvSpPr>
        <p:spPr>
          <a:xfrm>
            <a:off x="838080" y="6248520"/>
            <a:ext cx="76201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3300"/>
                </a:solidFill>
                <a:latin typeface="Arial"/>
              </a:rPr>
              <a:t>Forensic Science:  Fundamentals &amp; Investigations, Chapter 1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4" name="Slide Number Placeholder 4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994A8-82E9-4B14-9E95-25B17911D94C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819720" y="9723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3a753"/>
                </a:solidFill>
                <a:latin typeface="Arial"/>
              </a:rPr>
              <a:t>How to be a Good Observer </a:t>
            </a: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738828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85000"/>
              </a:lnSpc>
              <a:spcBef>
                <a:spcPts val="1225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Turn off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filters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85000"/>
              </a:lnSpc>
              <a:spcBef>
                <a:spcPts val="1225"/>
              </a:spcBef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Consciously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pay attention to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all details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85000"/>
              </a:lnSpc>
              <a:spcBef>
                <a:spcPts val="1225"/>
              </a:spcBef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Do not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pay attention to just what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you </a:t>
            </a:r>
            <a:r>
              <a:rPr b="0" i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think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is importa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85000"/>
              </a:lnSpc>
              <a:spcBef>
                <a:spcPts val="1225"/>
              </a:spcBef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All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etails are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potentially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important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0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Footer Placeholder 3"/>
          <p:cNvSpPr/>
          <p:nvPr/>
        </p:nvSpPr>
        <p:spPr>
          <a:xfrm>
            <a:off x="838080" y="6248520"/>
            <a:ext cx="76201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3300"/>
                </a:solidFill>
                <a:latin typeface="Arial"/>
              </a:rPr>
              <a:t>Forensic Science:  Fundamentals &amp; Investigations, Chapter 1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8" name="Slide Number Placeholder 4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8E8CA-40F4-450A-94E9-ADB5E4D0B841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819720" y="9723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3a753"/>
                </a:solidFill>
                <a:latin typeface="Arial"/>
              </a:rPr>
              <a:t>How to be a Good Observer </a:t>
            </a: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76964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1400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Collect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 Information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first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interpret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 data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later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225"/>
              </a:spcBef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ook for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patterns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and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make connection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225"/>
              </a:spcBef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Mor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information yields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better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interpretation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225"/>
              </a:spcBef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Prejudices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exist everywhere—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049"/>
              </a:spcBef>
              <a:buClr>
                <a:srgbClr val="003366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yewitness account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049"/>
              </a:spcBef>
              <a:buClr>
                <a:srgbClr val="003366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your own thinking processes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0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Footer Placeholder 3"/>
          <p:cNvSpPr/>
          <p:nvPr/>
        </p:nvSpPr>
        <p:spPr>
          <a:xfrm>
            <a:off x="838080" y="6248520"/>
            <a:ext cx="76201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3300"/>
                </a:solidFill>
                <a:latin typeface="Arial"/>
              </a:rPr>
              <a:t>Forensic Science:  Fundamentals &amp; Investigations, Chapter 1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2" name="Slide Number Placeholder 4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3EF68-B576-4D2A-B249-DF199C1CCEEE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814680" y="1043640"/>
            <a:ext cx="7818840" cy="73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3a753"/>
                </a:solidFill>
                <a:latin typeface="Arial"/>
              </a:rPr>
              <a:t>How to be a Good Observer </a:t>
            </a: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92504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1225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Documentation, </a:t>
            </a:r>
            <a:br>
              <a:rPr sz="2800"/>
            </a:b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Documentation,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Documentation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Write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down and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photograph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as much information as possibl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Be aware that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memory is fault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emember that our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brains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tend to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fill in gaps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n our perception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0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2000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Footer Placeholder 3"/>
          <p:cNvSpPr/>
          <p:nvPr/>
        </p:nvSpPr>
        <p:spPr>
          <a:xfrm>
            <a:off x="838080" y="6248520"/>
            <a:ext cx="76201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3300"/>
                </a:solidFill>
                <a:latin typeface="Arial"/>
              </a:rPr>
              <a:t>Forensic Science:  Fundamentals &amp; Investigations, Chapter 1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6" name="Slide Number Placeholder 4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679F5-55DF-4CC7-A0C7-F340906CB627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814680" y="1043640"/>
            <a:ext cx="7818840" cy="73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3a753"/>
                </a:solidFill>
                <a:latin typeface="Arial"/>
              </a:rPr>
              <a:t>Observations in Forensics </a:t>
            </a: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1225"/>
              </a:spcBef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Study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situation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225"/>
              </a:spcBef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nd clues in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ordinary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detail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225"/>
              </a:spcBef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Work backwards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rom the evidence to what led up to the crim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225"/>
              </a:spcBef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e patie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225"/>
              </a:spcBef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Practi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Footer Placeholder 3"/>
          <p:cNvSpPr/>
          <p:nvPr/>
        </p:nvSpPr>
        <p:spPr>
          <a:xfrm>
            <a:off x="838080" y="6248520"/>
            <a:ext cx="76201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3300"/>
                </a:solidFill>
                <a:latin typeface="Arial"/>
              </a:rPr>
              <a:t>Forensic Science:  Fundamentals &amp; Investigations, Chapter 1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0" name="Slide Number Placeholder 4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E3B8E-5FD0-42C3-8818-67AFDCBFC9B7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819720" y="104868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3a753"/>
                </a:solidFill>
                <a:latin typeface="Arial"/>
              </a:rPr>
              <a:t>. . . . . . . . . . . . . . Summary</a:t>
            </a:r>
            <a:r>
              <a:rPr b="1" lang="en-US" sz="3200" spc="-1" strike="noStrike">
                <a:solidFill>
                  <a:srgbClr val="53a753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53a753"/>
                </a:solidFill>
                <a:latin typeface="Arial"/>
              </a:rPr>
              <a:t>. . . .</a:t>
            </a: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1225"/>
              </a:spcBef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environment and our natural sensory filters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affect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our ability to observ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225"/>
              </a:spcBef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Eyewitness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reports can be correct, faulty, or a little of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both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225"/>
              </a:spcBef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cquiring good observation skills takes practice and train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Footer Placeholder 3"/>
          <p:cNvSpPr/>
          <p:nvPr/>
        </p:nvSpPr>
        <p:spPr>
          <a:xfrm>
            <a:off x="838080" y="6248520"/>
            <a:ext cx="76201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3300"/>
                </a:solidFill>
                <a:latin typeface="Arial"/>
              </a:rPr>
              <a:t>Forensic Science:  Fundamentals &amp; Investigations, Chapter 1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4" name="Slide Number Placeholder 4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3948B-E234-4EEA-803F-6BDEB25FC350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819720" y="104868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3a753"/>
                </a:solidFill>
                <a:latin typeface="Arial"/>
              </a:rPr>
              <a:t>. . . . . . . . . . . . . . . . . . Summary</a:t>
            </a: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1225"/>
              </a:spcBef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rensic scientists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049"/>
              </a:spcBef>
              <a:buClr>
                <a:srgbClr val="003366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Find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and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Document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Evidenc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049"/>
              </a:spcBef>
              <a:buClr>
                <a:srgbClr val="003366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valuate and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Interpret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Analyze evidence found at the crime scene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049"/>
              </a:spcBef>
              <a:buClr>
                <a:srgbClr val="003366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rovid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expert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testimony to court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049"/>
              </a:spcBef>
              <a:buClr>
                <a:srgbClr val="003366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erforms scientific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research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049"/>
              </a:spcBef>
              <a:buClr>
                <a:srgbClr val="003366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rains others in the fiel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07" name="Picture 4" descr="EOC Bar verso02"/>
          <p:cNvPicPr/>
          <p:nvPr/>
        </p:nvPicPr>
        <p:blipFill>
          <a:blip r:embed="rId1"/>
          <a:stretch/>
        </p:blipFill>
        <p:spPr>
          <a:xfrm>
            <a:off x="3200400" y="5943600"/>
            <a:ext cx="594360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Footer Placeholder 3"/>
          <p:cNvSpPr/>
          <p:nvPr/>
        </p:nvSpPr>
        <p:spPr>
          <a:xfrm>
            <a:off x="838080" y="6248520"/>
            <a:ext cx="76201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3300"/>
                </a:solidFill>
                <a:latin typeface="Arial"/>
              </a:rPr>
              <a:t>Forensic Science:  Fundamentals &amp; Investigations, Chapter 1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Slide Number Placeholder 4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9A56A-1464-44D8-8C7C-A28CBE1FFF70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839160" y="762840"/>
            <a:ext cx="7769880" cy="1064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3a753"/>
                </a:solidFill>
                <a:latin typeface="Arial"/>
              </a:rPr>
              <a:t>Chapter 1</a:t>
            </a:r>
            <a:r>
              <a:rPr b="0" lang="en-US" sz="3600" spc="-1" strike="noStrike">
                <a:solidFill>
                  <a:srgbClr val="53a753"/>
                </a:solidFill>
                <a:latin typeface="Arial"/>
              </a:rPr>
              <a:t> 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Observation Skills </a:t>
            </a:r>
            <a:br>
              <a:rPr sz="3600"/>
            </a:br>
            <a:r>
              <a:rPr b="1" lang="en-US" sz="2200" spc="-1" strike="noStrike">
                <a:solidFill>
                  <a:srgbClr val="53a753"/>
                </a:solidFill>
                <a:latin typeface="Arial"/>
              </a:rPr>
              <a:t>By the end of this chapter you will be able to:</a:t>
            </a:r>
            <a:endParaRPr b="1" lang="en-US" sz="22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838080" y="2371320"/>
            <a:ext cx="7693200" cy="38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1225"/>
              </a:spcBef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elate observation skills to their use in forensic science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225"/>
              </a:spcBef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efine 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forensic scienc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225"/>
              </a:spcBef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actice and improve your observation skills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819360" y="261720"/>
            <a:ext cx="7505280" cy="1837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3a753"/>
                </a:solidFill>
                <a:latin typeface="Arial"/>
              </a:rPr>
              <a:t>Forensic Science</a:t>
            </a:r>
            <a:endParaRPr b="1" lang="en-US" sz="44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914040" y="2514600"/>
            <a:ext cx="71629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1400"/>
              </a:spcBef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The  application of </a:t>
            </a:r>
            <a:r>
              <a:rPr b="1" lang="en-US" sz="3200" spc="-1" strike="noStrike" u="sng">
                <a:solidFill>
                  <a:srgbClr val="006666"/>
                </a:solidFill>
                <a:uFillTx/>
                <a:latin typeface="Arial"/>
              </a:rPr>
              <a:t>science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 to those criminal and civil laws that are enforced by police in a criminal justice system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400"/>
              </a:spcBef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Also called </a:t>
            </a:r>
            <a:r>
              <a:rPr b="1" lang="en-US" sz="3200" spc="-1" strike="noStrike" u="sng">
                <a:solidFill>
                  <a:srgbClr val="006666"/>
                </a:solidFill>
                <a:uFillTx/>
                <a:latin typeface="Arial"/>
              </a:rPr>
              <a:t>criminalistic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1" name="Picture 4" descr="skull"/>
          <p:cNvPicPr/>
          <p:nvPr/>
        </p:nvPicPr>
        <p:blipFill>
          <a:blip r:embed="rId1"/>
          <a:stretch/>
        </p:blipFill>
        <p:spPr>
          <a:xfrm>
            <a:off x="6095880" y="552600"/>
            <a:ext cx="2449800" cy="175248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749520" y="741600"/>
            <a:ext cx="7644960" cy="879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3a753"/>
                </a:solidFill>
                <a:latin typeface="Arial"/>
              </a:rPr>
              <a:t>Forensic Scientist</a:t>
            </a:r>
            <a:endParaRPr b="1" lang="en-US" sz="44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1400"/>
              </a:spcBef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Analysis of evidence found at the </a:t>
            </a:r>
            <a:r>
              <a:rPr b="1" lang="en-US" sz="3200" spc="-1" strike="noStrike" u="sng">
                <a:solidFill>
                  <a:srgbClr val="006666"/>
                </a:solidFill>
                <a:uFillTx/>
                <a:latin typeface="Arial"/>
              </a:rPr>
              <a:t>crime scene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400"/>
              </a:spcBef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Expert witness in court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400"/>
              </a:spcBef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Performs scientific </a:t>
            </a:r>
            <a:r>
              <a:rPr b="1" lang="en-US" sz="3200" spc="-1" strike="noStrike" u="sng">
                <a:solidFill>
                  <a:srgbClr val="006666"/>
                </a:solidFill>
                <a:uFillTx/>
                <a:latin typeface="Arial"/>
              </a:rPr>
              <a:t>research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400"/>
              </a:spcBef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Trains others in the field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hecker dir="vert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Footer Placeholder 3"/>
          <p:cNvSpPr/>
          <p:nvPr/>
        </p:nvSpPr>
        <p:spPr>
          <a:xfrm>
            <a:off x="838080" y="6248520"/>
            <a:ext cx="76201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3300"/>
                </a:solidFill>
                <a:latin typeface="Arial"/>
              </a:rPr>
              <a:t>Forensic Science:  Fundamentals &amp; Investigations, Chapter 1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" name="Slide Number Placeholder 4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4C21C-52AA-447D-93D5-E5B20302479E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19720" y="9723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3a753"/>
                </a:solidFill>
                <a:latin typeface="Arial"/>
              </a:rPr>
              <a:t>Introduction</a:t>
            </a: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64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85000"/>
              </a:lnSpc>
              <a:spcBef>
                <a:spcPts val="1349"/>
              </a:spcBef>
              <a:spcAft>
                <a:spcPts val="7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3366"/>
                </a:solidFill>
                <a:latin typeface="Arial"/>
              </a:rPr>
              <a:t>The forensic examiner must be able to</a:t>
            </a:r>
            <a:endParaRPr b="0" lang="en-US" sz="31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85000"/>
              </a:lnSpc>
              <a:spcBef>
                <a:spcPts val="1349"/>
              </a:spcBef>
              <a:spcAft>
                <a:spcPts val="774"/>
              </a:spcAft>
              <a:buClr>
                <a:srgbClr val="003366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 u="sng">
                <a:solidFill>
                  <a:srgbClr val="cc3300"/>
                </a:solidFill>
                <a:uFillTx/>
                <a:latin typeface="Arial"/>
              </a:rPr>
              <a:t>find</a:t>
            </a:r>
            <a:r>
              <a:rPr b="0" lang="en-US" sz="3100" spc="-1" strike="noStrike">
                <a:solidFill>
                  <a:srgbClr val="003366"/>
                </a:solidFill>
                <a:latin typeface="Arial"/>
              </a:rPr>
              <a:t>—</a:t>
            </a:r>
            <a:r>
              <a:rPr b="0" lang="en-US" sz="3100" spc="-1" strike="noStrike" u="sng">
                <a:solidFill>
                  <a:srgbClr val="ff0000"/>
                </a:solidFill>
                <a:uFillTx/>
                <a:latin typeface="Arial"/>
              </a:rPr>
              <a:t>identify</a:t>
            </a:r>
            <a:r>
              <a:rPr b="0" lang="en-US" sz="3100" spc="-1" strike="noStrike">
                <a:solidFill>
                  <a:srgbClr val="003366"/>
                </a:solidFill>
                <a:latin typeface="Arial"/>
              </a:rPr>
              <a:t> the evidence</a:t>
            </a:r>
            <a:endParaRPr b="0" lang="en-US" sz="31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85000"/>
              </a:lnSpc>
              <a:spcBef>
                <a:spcPts val="1349"/>
              </a:spcBef>
              <a:spcAft>
                <a:spcPts val="774"/>
              </a:spcAft>
              <a:buClr>
                <a:srgbClr val="003366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 u="sng">
                <a:solidFill>
                  <a:srgbClr val="cc3300"/>
                </a:solidFill>
                <a:uFillTx/>
                <a:latin typeface="Arial"/>
              </a:rPr>
              <a:t>document</a:t>
            </a:r>
            <a:r>
              <a:rPr b="0" lang="en-US" sz="3100" spc="-1" strike="noStrike">
                <a:solidFill>
                  <a:srgbClr val="003366"/>
                </a:solidFill>
                <a:latin typeface="Arial"/>
              </a:rPr>
              <a:t>—</a:t>
            </a:r>
            <a:r>
              <a:rPr b="0" lang="en-US" sz="3100" spc="-1" strike="noStrike" u="sng">
                <a:solidFill>
                  <a:srgbClr val="ff0000"/>
                </a:solidFill>
                <a:uFillTx/>
                <a:latin typeface="Arial"/>
              </a:rPr>
              <a:t>record</a:t>
            </a:r>
            <a:r>
              <a:rPr b="0" lang="en-US" sz="3100" spc="-1" strike="noStrike">
                <a:solidFill>
                  <a:srgbClr val="003366"/>
                </a:solidFill>
                <a:latin typeface="Arial"/>
              </a:rPr>
              <a:t> the evidence </a:t>
            </a:r>
            <a:endParaRPr b="0" lang="en-US" sz="31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85000"/>
              </a:lnSpc>
              <a:spcBef>
                <a:spcPts val="1349"/>
              </a:spcBef>
              <a:spcAft>
                <a:spcPts val="774"/>
              </a:spcAft>
              <a:buClr>
                <a:srgbClr val="003366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 u="sng">
                <a:solidFill>
                  <a:srgbClr val="cc3300"/>
                </a:solidFill>
                <a:uFillTx/>
                <a:latin typeface="Arial"/>
              </a:rPr>
              <a:t>interpret</a:t>
            </a:r>
            <a:r>
              <a:rPr b="0" lang="en-US" sz="3100" spc="-1" strike="noStrike">
                <a:solidFill>
                  <a:srgbClr val="003366"/>
                </a:solidFill>
                <a:latin typeface="Arial"/>
              </a:rPr>
              <a:t>—accurately determine the </a:t>
            </a:r>
            <a:r>
              <a:rPr b="0" lang="en-US" sz="3100" spc="-1" strike="noStrike" u="sng">
                <a:solidFill>
                  <a:srgbClr val="ff0000"/>
                </a:solidFill>
                <a:uFillTx/>
                <a:latin typeface="Arial"/>
              </a:rPr>
              <a:t>significance </a:t>
            </a:r>
            <a:r>
              <a:rPr b="0" lang="en-US" sz="3100" spc="-1" strike="noStrike">
                <a:solidFill>
                  <a:srgbClr val="003366"/>
                </a:solidFill>
                <a:latin typeface="Arial"/>
              </a:rPr>
              <a:t>of the evidence </a:t>
            </a:r>
            <a:endParaRPr b="0" lang="en-US" sz="31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Footer Placeholder 3"/>
          <p:cNvSpPr/>
          <p:nvPr/>
        </p:nvSpPr>
        <p:spPr>
          <a:xfrm>
            <a:off x="838080" y="6248520"/>
            <a:ext cx="76201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3300"/>
                </a:solidFill>
                <a:latin typeface="Arial"/>
              </a:rPr>
              <a:t>Forensic Science:  Fundamentals &amp; Investigations, Chapter 1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9" name="Slide Number Placeholder 4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3456E-6D78-4CF2-88DD-4F624111DBEC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819720" y="9723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3a753"/>
                </a:solidFill>
                <a:latin typeface="Arial"/>
              </a:rPr>
              <a:t>What Is Observation? </a:t>
            </a: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 algn="ctr">
              <a:lnSpc>
                <a:spcPct val="85000"/>
              </a:lnSpc>
              <a:spcBef>
                <a:spcPts val="1225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Our brains can filter out information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2200" indent="0" algn="ctr">
              <a:lnSpc>
                <a:spcPct val="85000"/>
              </a:lnSpc>
              <a:spcBef>
                <a:spcPts val="22501"/>
              </a:spcBef>
              <a:spcAft>
                <a:spcPts val="18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oint out some of the details in this photo.</a:t>
            </a:r>
            <a:r>
              <a:rPr b="0" lang="en-US" sz="3000" spc="-1" strike="noStrike">
                <a:solidFill>
                  <a:srgbClr val="003366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2" name="Picture 4" descr="Ch 1 Group02"/>
          <p:cNvPicPr/>
          <p:nvPr/>
        </p:nvPicPr>
        <p:blipFill>
          <a:blip r:embed="rId1"/>
          <a:stretch/>
        </p:blipFill>
        <p:spPr>
          <a:xfrm>
            <a:off x="2057400" y="2819520"/>
            <a:ext cx="5029200" cy="26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Footer Placeholder 3"/>
          <p:cNvSpPr/>
          <p:nvPr/>
        </p:nvSpPr>
        <p:spPr>
          <a:xfrm>
            <a:off x="838080" y="6248520"/>
            <a:ext cx="76201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3300"/>
                </a:solidFill>
                <a:latin typeface="Arial"/>
              </a:rPr>
              <a:t>Forensic Science:  Fundamentals &amp; Investigations, Chapter 1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" name="Slide Number Placeholder 4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32082-1C20-428C-B452-77B6FCC83B2C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819720" y="9723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3a753"/>
                </a:solidFill>
                <a:latin typeface="Arial"/>
              </a:rPr>
              <a:t>Bellwork</a:t>
            </a: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838080" y="2819160"/>
            <a:ext cx="7693200" cy="319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85000"/>
              </a:lnSpc>
              <a:spcBef>
                <a:spcPts val="1349"/>
              </a:spcBef>
              <a:spcAft>
                <a:spcPts val="7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3366"/>
                </a:solidFill>
                <a:latin typeface="Arial"/>
              </a:rPr>
              <a:t>What amount of information is processed and retained by the brain?</a:t>
            </a:r>
            <a:endParaRPr b="0" lang="en-US" sz="31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0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Footer Placeholder 3"/>
          <p:cNvSpPr/>
          <p:nvPr/>
        </p:nvSpPr>
        <p:spPr>
          <a:xfrm>
            <a:off x="838080" y="6248520"/>
            <a:ext cx="76201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3300"/>
                </a:solidFill>
                <a:latin typeface="Arial"/>
              </a:rPr>
              <a:t>Forensic Science:  Fundamentals &amp; Investigations, Chapter 1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8" name="Slide Number Placeholder 4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8355C-D1C8-4BC7-8EE0-ABE9A4485758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9" name="Picture 4" descr="Ch 1 Group02"/>
          <p:cNvPicPr/>
          <p:nvPr/>
        </p:nvPicPr>
        <p:blipFill>
          <a:blip r:embed="rId1"/>
          <a:stretch/>
        </p:blipFill>
        <p:spPr>
          <a:xfrm>
            <a:off x="-19080" y="1324080"/>
            <a:ext cx="9163080" cy="48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6T11:16:04Z</dcterms:created>
  <dc:creator>Alan Biiondi</dc:creator>
  <dc:description/>
  <dc:language>en-US</dc:language>
  <cp:lastModifiedBy>Kerry Miyoshi</cp:lastModifiedBy>
  <cp:lastPrinted>2017-01-07T22:54:07Z</cp:lastPrinted>
  <dcterms:modified xsi:type="dcterms:W3CDTF">2017-01-12T19:58:16Z</dcterms:modified>
  <cp:revision>121</cp:revision>
  <dc:subject/>
  <dc:title>Slide 1</dc:title>
</cp:coreProperties>
</file>